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gif" ContentType="image/gif"/>
  <Override PartName="/ppt/media/image16.png" ContentType="image/png"/>
  <Override PartName="/ppt/media/image10.jpeg" ContentType="image/jpeg"/>
  <Override PartName="/ppt/media/image8.jpeg" ContentType="image/jpeg"/>
  <Override PartName="/ppt/media/image2.gif" ContentType="image/gif"/>
  <Override PartName="/ppt/media/image5.png" ContentType="image/png"/>
  <Override PartName="/ppt/media/image29.jpeg" ContentType="image/jpeg"/>
  <Override PartName="/ppt/media/image9.png" ContentType="image/png"/>
  <Override PartName="/ppt/media/image6.wmf" ContentType="image/x-wmf"/>
  <Override PartName="/ppt/media/image11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12.jpeg" ContentType="image/jpeg"/>
  <Override PartName="/ppt/media/image27.jpeg" ContentType="image/jpeg"/>
  <Override PartName="/ppt/media/image25.jpeg" ContentType="image/jpeg"/>
  <Override PartName="/ppt/media/image24.jpeg" ContentType="image/jpeg"/>
  <Override PartName="/ppt/media/image23.png" ContentType="image/png"/>
  <Override PartName="/ppt/media/image21.jpeg" ContentType="image/jpeg"/>
  <Override PartName="/ppt/media/image20.jpeg" ContentType="image/jpeg"/>
  <Override PartName="/ppt/media/image15.jpeg" ContentType="image/jpeg"/>
  <Override PartName="/ppt/media/image17.png" ContentType="image/png"/>
  <Override PartName="/ppt/media/image14.gif" ContentType="image/gif"/>
  <Override PartName="/ppt/media/image19.png" ContentType="image/png"/>
  <Override PartName="/ppt/media/image1.jpeg" ContentType="image/jpeg"/>
  <Override PartName="/ppt/media/image22.jpeg" ContentType="image/jpeg"/>
  <Override PartName="/ppt/media/image7.jpeg" ContentType="image/jpeg"/>
  <Override PartName="/ppt/media/image18.png" ContentType="image/png"/>
  <Override PartName="/ppt/media/image2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0"/>
          </p:nvPr>
        </p:nvSpPr>
        <p:spPr>
          <a:xfrm>
            <a:off x="1080" y="0"/>
            <a:ext cx="3038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11"/>
          </p:nvPr>
        </p:nvSpPr>
        <p:spPr>
          <a:xfrm>
            <a:off x="397188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12"/>
          </p:nvPr>
        </p:nvSpPr>
        <p:spPr>
          <a:xfrm>
            <a:off x="1080" y="8829720"/>
            <a:ext cx="3038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519ED-080F-42B7-9D11-8002BF18D04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1440" y="8829720"/>
            <a:ext cx="30387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2025C-657A-4370-BABF-E90A6012B3C5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D2A0-0A13-4A92-85FD-3F37D2D6E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B126-0D22-48FF-A23E-9B15D9718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B581-E2E0-484E-A8CC-D4BBCBC78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E551-E97B-49A9-A2FE-EE796DE49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A49CB-6461-4DCD-A787-918AE4E67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995B6-2A85-4E65-B098-C06EA493C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48D2B-C10C-4D2C-97E1-967623ECB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9A400-8FE6-4F80-81BE-53EC54CAE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E4D00-0E8D-4B8F-AAE1-9C411DCC4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6AD1A-5BAE-4069-87AE-86631CA0C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245E3-F24F-45DF-BEC8-13B0346D0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1053-AEB7-4C7D-8358-28131498E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6B8EE-5150-4CF5-9C1C-A5BFD8395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666A3-1654-4254-8052-D4F1F8E2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D3DC0-73C3-4E26-A889-A63D37BC1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36516-4387-425E-BBE3-5FECB9736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E2AAE-3922-4417-91A0-121FFDF61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BEAFE-4B9B-4CD6-BA30-BED5F866E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38496-EB5E-474E-9C4B-803122A1B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D3888-D57C-4AE5-903C-FB2896779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97934-F1D6-4C3B-9E08-435544120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15F5A-5150-435E-9ED3-BE61CE189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AD6C-56D9-4620-844C-E7598FDBA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27ADD-89F3-4F23-BB81-BF5EF55CB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B9C66-9298-45AD-AE78-21A97B25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3340D-50D3-4026-9694-0507BB4A4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04B19-B675-4B92-9729-E4F01653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BA422-5D43-441B-BD4A-985A4F267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18174-B6AC-455A-A65B-67EBF4217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75FBF-6318-41AF-89BF-CD51B3379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3501-B59C-4130-BDF5-B1C2C85B3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9CB2-6ED1-4359-AE81-49C8F81BA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54C1-DA6E-49AB-A811-7BFB42793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C464-3DC5-405B-BF80-FDCB5C29B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FF54-3DBC-4C7A-A3EB-3487E9999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98BD-BE87-44BC-A8F6-8D7F93BF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7892A-CF3D-4286-B68B-18BCA98592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50000">
              <a:srgbClr val="ffffff"/>
            </a:gs>
            <a:gs pos="100000">
              <a:srgbClr val="ffcc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F03AC-89AD-407B-B2FB-EDC7C867666B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Box 6"/>
          <p:cNvSpPr/>
          <p:nvPr/>
        </p:nvSpPr>
        <p:spPr>
          <a:xfrm>
            <a:off x="0" y="648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cc3300"/>
                </a:solidFill>
                <a:latin typeface="Arial"/>
              </a:rPr>
              <a:t>20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6"/>
          <p:cNvSpPr/>
          <p:nvPr/>
        </p:nvSpPr>
        <p:spPr>
          <a:xfrm>
            <a:off x="303840" y="640080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114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1447920" y="5409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171C3-FFFA-4F55-A12B-B8722EB21C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BACK074"/>
          <p:cNvPicPr/>
          <p:nvPr/>
        </p:nvPicPr>
        <p:blipFill>
          <a:blip r:embed="rId1"/>
          <a:stretch/>
        </p:blipFill>
        <p:spPr>
          <a:xfrm>
            <a:off x="304920" y="266760"/>
            <a:ext cx="8381880" cy="62863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God3"/>
          <p:cNvPicPr/>
          <p:nvPr/>
        </p:nvPicPr>
        <p:blipFill>
          <a:blip r:embed="rId2"/>
          <a:stretch/>
        </p:blipFill>
        <p:spPr>
          <a:xfrm>
            <a:off x="5867280" y="76320"/>
            <a:ext cx="2971800" cy="1600200"/>
          </a:xfrm>
          <a:prstGeom prst="rect">
            <a:avLst/>
          </a:prstGeom>
          <a:ln w="0">
            <a:noFill/>
          </a:ln>
        </p:spPr>
      </p:pic>
      <p:sp>
        <p:nvSpPr>
          <p:cNvPr id="13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82081-6C04-4BB3-98CA-3E1D2A20E3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Content Placeholder 4" descr="Picture 092.jpg"/>
          <p:cNvPicPr/>
          <p:nvPr/>
        </p:nvPicPr>
        <p:blipFill>
          <a:blip r:embed="rId1"/>
          <a:stretch/>
        </p:blipFill>
        <p:spPr>
          <a:xfrm>
            <a:off x="2057400" y="228600"/>
            <a:ext cx="4343400" cy="5945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19" name="TextBox 4" descr=""/>
          <p:cNvPicPr/>
          <p:nvPr/>
        </p:nvPicPr>
        <p:blipFill>
          <a:blip r:embed="rId2"/>
          <a:stretch/>
        </p:blipFill>
        <p:spPr>
          <a:xfrm>
            <a:off x="6486480" y="176040"/>
            <a:ext cx="2633760" cy="841680"/>
          </a:xfrm>
          <a:prstGeom prst="rect">
            <a:avLst/>
          </a:prstGeom>
          <a:ln w="0">
            <a:noFill/>
          </a:ln>
        </p:spPr>
      </p:pic>
      <p:sp>
        <p:nvSpPr>
          <p:cNvPr id="22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1523880" y="609480"/>
            <a:ext cx="617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333399"/>
                </a:solidFill>
                <a:latin typeface="Times New Roman"/>
                <a:cs typeface="B Titr"/>
              </a:rPr>
              <a:t>نقش سند اخلاقی در سازمانه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2209680" y="1828800"/>
            <a:ext cx="62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1</a:t>
            </a:r>
            <a:r>
              <a:rPr b="1" lang="fa-IR" sz="36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عنصر زیرساختی جهان بینی سازمان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3048120" y="2514600"/>
            <a:ext cx="541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2</a:t>
            </a:r>
            <a:r>
              <a:rPr b="1" lang="fa-IR" sz="36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- آرمان فرهنگ سازمان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2895480" y="396252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r>
              <a:rPr b="1" lang="fa-IR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ممیزی اخلاقی تصمیم سازی</a:t>
            </a:r>
            <a:r>
              <a:rPr b="1" lang="fa-IR" sz="36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2286000" y="4648320"/>
            <a:ext cx="60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5</a:t>
            </a:r>
            <a:r>
              <a:rPr b="1" lang="fa-IR" sz="36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ارزیابی عملکرد اخلاقی سازما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8"/>
          <p:cNvSpPr/>
          <p:nvPr/>
        </p:nvSpPr>
        <p:spPr>
          <a:xfrm>
            <a:off x="2362320" y="327672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3</a:t>
            </a:r>
            <a:r>
              <a:rPr b="1" lang="fa-IR" sz="36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- اخلاقی سازی اهداف و برنامه ه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6534E-1385-4B59-B908-175754C3FA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3"/>
          <p:cNvSpPr/>
          <p:nvPr/>
        </p:nvSpPr>
        <p:spPr>
          <a:xfrm>
            <a:off x="3492360" y="1916280"/>
            <a:ext cx="194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4"/>
          <p:cNvGrpSpPr/>
          <p:nvPr/>
        </p:nvGrpSpPr>
        <p:grpSpPr>
          <a:xfrm>
            <a:off x="3276720" y="423720"/>
            <a:ext cx="2742840" cy="1191240"/>
            <a:chOff x="3276720" y="423720"/>
            <a:chExt cx="2742840" cy="1191240"/>
          </a:xfrm>
        </p:grpSpPr>
        <p:sp>
          <p:nvSpPr>
            <p:cNvPr id="230" name="AutoShape 5"/>
            <p:cNvSpPr/>
            <p:nvPr/>
          </p:nvSpPr>
          <p:spPr>
            <a:xfrm>
              <a:off x="3276720" y="477720"/>
              <a:ext cx="2742840" cy="1008360"/>
            </a:xfrm>
            <a:prstGeom prst="downArrowCallout">
              <a:avLst>
                <a:gd name="adj1" fmla="val 68009"/>
                <a:gd name="adj2" fmla="val 68002"/>
                <a:gd name="adj3" fmla="val 16667"/>
                <a:gd name="adj4" fmla="val 66667"/>
              </a:avLst>
            </a:prstGeom>
            <a:solidFill>
              <a:srgbClr val="ffff99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6"/>
            <p:cNvSpPr/>
            <p:nvPr/>
          </p:nvSpPr>
          <p:spPr>
            <a:xfrm>
              <a:off x="3580560" y="423720"/>
              <a:ext cx="2133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400" spc="-1" strike="noStrike">
                  <a:solidFill>
                    <a:srgbClr val="3366ff"/>
                  </a:solidFill>
                  <a:latin typeface="Times New Roman"/>
                  <a:cs typeface="Times New Roman"/>
                </a:rPr>
                <a:t>تدوين سند اخلاقي  سازما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Group 7"/>
          <p:cNvGrpSpPr/>
          <p:nvPr/>
        </p:nvGrpSpPr>
        <p:grpSpPr>
          <a:xfrm>
            <a:off x="3419640" y="1484280"/>
            <a:ext cx="2675880" cy="1008000"/>
            <a:chOff x="3419640" y="1484280"/>
            <a:chExt cx="2675880" cy="1008000"/>
          </a:xfrm>
        </p:grpSpPr>
        <p:sp>
          <p:nvSpPr>
            <p:cNvPr id="233" name="AutoShape 8"/>
            <p:cNvSpPr/>
            <p:nvPr/>
          </p:nvSpPr>
          <p:spPr>
            <a:xfrm>
              <a:off x="3419640" y="1484280"/>
              <a:ext cx="2675880" cy="1008000"/>
            </a:xfrm>
            <a:prstGeom prst="downArrowCallout">
              <a:avLst>
                <a:gd name="adj1" fmla="val 66372"/>
                <a:gd name="adj2" fmla="val 66366"/>
                <a:gd name="adj3" fmla="val 16667"/>
                <a:gd name="adj4" fmla="val 66667"/>
              </a:avLst>
            </a:prstGeom>
            <a:solidFill>
              <a:srgbClr val="ffff99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9"/>
            <p:cNvSpPr/>
            <p:nvPr/>
          </p:nvSpPr>
          <p:spPr>
            <a:xfrm>
              <a:off x="3716280" y="1503360"/>
              <a:ext cx="2379240" cy="94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200" spc="-1" strike="noStrike">
                  <a:solidFill>
                    <a:srgbClr val="3366ff"/>
                  </a:solidFill>
                  <a:latin typeface="Times New Roman"/>
                  <a:cs typeface="Times New Roman"/>
                </a:rPr>
                <a:t>اعلام سند به محيط دروني و بيروني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Group 10"/>
          <p:cNvGrpSpPr/>
          <p:nvPr/>
        </p:nvGrpSpPr>
        <p:grpSpPr>
          <a:xfrm>
            <a:off x="3490920" y="2514600"/>
            <a:ext cx="2680920" cy="840960"/>
            <a:chOff x="3490920" y="2514600"/>
            <a:chExt cx="2680920" cy="840960"/>
          </a:xfrm>
        </p:grpSpPr>
        <p:sp>
          <p:nvSpPr>
            <p:cNvPr id="236" name="AutoShape 11"/>
            <p:cNvSpPr/>
            <p:nvPr/>
          </p:nvSpPr>
          <p:spPr>
            <a:xfrm>
              <a:off x="3490920" y="2514600"/>
              <a:ext cx="2680920" cy="840960"/>
            </a:xfrm>
            <a:prstGeom prst="downArrowCallout">
              <a:avLst>
                <a:gd name="adj1" fmla="val 79705"/>
                <a:gd name="adj2" fmla="val 79698"/>
                <a:gd name="adj3" fmla="val 16667"/>
                <a:gd name="adj4" fmla="val 6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12"/>
            <p:cNvSpPr/>
            <p:nvPr/>
          </p:nvSpPr>
          <p:spPr>
            <a:xfrm>
              <a:off x="3787920" y="2532600"/>
              <a:ext cx="20847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400" spc="-1" strike="noStrike">
                  <a:solidFill>
                    <a:srgbClr val="3366ff"/>
                  </a:solidFill>
                  <a:latin typeface="Times New Roman"/>
                  <a:cs typeface="Times New Roman"/>
                </a:rPr>
                <a:t>پاي بندي به سن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Group 13"/>
          <p:cNvGrpSpPr/>
          <p:nvPr/>
        </p:nvGrpSpPr>
        <p:grpSpPr>
          <a:xfrm>
            <a:off x="3564000" y="3502080"/>
            <a:ext cx="2379240" cy="863640"/>
            <a:chOff x="3564000" y="3502080"/>
            <a:chExt cx="2379240" cy="863640"/>
          </a:xfrm>
        </p:grpSpPr>
        <p:sp>
          <p:nvSpPr>
            <p:cNvPr id="239" name="AutoShape 14"/>
            <p:cNvSpPr/>
            <p:nvPr/>
          </p:nvSpPr>
          <p:spPr>
            <a:xfrm>
              <a:off x="3564000" y="3502080"/>
              <a:ext cx="2379240" cy="863640"/>
            </a:xfrm>
            <a:prstGeom prst="downArrowCallout">
              <a:avLst>
                <a:gd name="adj1" fmla="val 68879"/>
                <a:gd name="adj2" fmla="val 68872"/>
                <a:gd name="adj3" fmla="val 16667"/>
                <a:gd name="adj4" fmla="val 6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15"/>
            <p:cNvSpPr/>
            <p:nvPr/>
          </p:nvSpPr>
          <p:spPr>
            <a:xfrm>
              <a:off x="3828240" y="3537000"/>
              <a:ext cx="1849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400" spc="-1" strike="noStrike">
                  <a:solidFill>
                    <a:srgbClr val="3366ff"/>
                  </a:solidFill>
                  <a:latin typeface="Times New Roman"/>
                  <a:cs typeface="Times New Roman"/>
                </a:rPr>
                <a:t>تبليغ پاي بند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Text Box 16"/>
          <p:cNvSpPr/>
          <p:nvPr/>
        </p:nvSpPr>
        <p:spPr>
          <a:xfrm>
            <a:off x="914400" y="4800600"/>
            <a:ext cx="3168720" cy="94716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9900cc"/>
                </a:solidFill>
                <a:latin typeface="Times New Roman"/>
                <a:cs typeface="Times New Roman"/>
              </a:rPr>
              <a:t>موفقيت در شرايط بحرا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7"/>
          <p:cNvSpPr/>
          <p:nvPr/>
        </p:nvSpPr>
        <p:spPr>
          <a:xfrm>
            <a:off x="380880" y="565308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9999"/>
                </a:solidFill>
                <a:latin typeface="Times New Roman"/>
                <a:cs typeface="Times New Roman"/>
              </a:rPr>
              <a:t>نقش پاي بندي تخلف ناپذير به منشور اخلاقي در موفقيت سازما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18" descr="30704-09"/>
          <p:cNvPicPr/>
          <p:nvPr/>
        </p:nvPicPr>
        <p:blipFill>
          <a:blip r:embed="rId1"/>
          <a:stretch/>
        </p:blipFill>
        <p:spPr>
          <a:xfrm>
            <a:off x="6423120" y="2441520"/>
            <a:ext cx="1695240" cy="2505240"/>
          </a:xfrm>
          <a:prstGeom prst="rect">
            <a:avLst/>
          </a:prstGeom>
          <a:ln w="0">
            <a:noFill/>
          </a:ln>
        </p:spPr>
      </p:pic>
      <p:sp>
        <p:nvSpPr>
          <p:cNvPr id="244" name="Slide Number Placeholder 2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CC379-11A7-45D8-9EB6-DC3B568397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9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9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9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9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WordArt 2"/>
          <p:cNvSpPr txBox="1"/>
          <p:nvPr/>
        </p:nvSpPr>
        <p:spPr>
          <a:xfrm>
            <a:off x="2209680" y="533520"/>
            <a:ext cx="4680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9999"/>
                  </a:outerShdw>
                </a:effectLst>
                <a:latin typeface="Arial"/>
              </a:rPr>
              <a:t>ویژگی‌های سند اخلاقی  شرکت 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99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3733920" y="1828800"/>
            <a:ext cx="426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-76320" y="1752480"/>
            <a:ext cx="891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1</a:t>
            </a:r>
            <a:r>
              <a:rPr b="1" lang="fa-IR" sz="4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.</a:t>
            </a:r>
            <a:r>
              <a:rPr b="1" lang="fa-IR" sz="2800" spc="-1" strike="noStrike">
                <a:solidFill>
                  <a:srgbClr val="ff66cc"/>
                </a:solidFill>
                <a:latin typeface="Arial"/>
              </a:rPr>
              <a:t> </a:t>
            </a:r>
            <a:r>
              <a:rPr b="1" lang="fa-IR" sz="4000" spc="-1" strike="noStrike">
                <a:solidFill>
                  <a:srgbClr val="ff66cc"/>
                </a:solidFill>
                <a:latin typeface="Times New Roman"/>
                <a:cs typeface="Times New Roman"/>
              </a:rPr>
              <a:t>فراگير نسبت به همه عناصر محيط وابعاد بنگا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2971800" y="2895480"/>
            <a:ext cx="556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4419720" y="2438280"/>
            <a:ext cx="4343400" cy="29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2</a:t>
            </a:r>
            <a:r>
              <a:rPr b="1" lang="fa-IR" sz="36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. قابل تحقق واجر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380880" y="370188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3</a:t>
            </a:r>
            <a:r>
              <a:rPr b="1" lang="fa-IR" sz="36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.</a:t>
            </a:r>
            <a:r>
              <a:rPr b="1" lang="fa-IR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fa-IR" sz="3600" spc="-1" strike="noStrike">
                <a:solidFill>
                  <a:srgbClr val="9900cc"/>
                </a:solidFill>
                <a:latin typeface="Times New Roman"/>
                <a:cs typeface="Times New Roman"/>
              </a:rPr>
              <a:t>عاری از ابهام در سه سطح زبان، مفاهیم،  ساختا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8"/>
          <p:cNvSpPr/>
          <p:nvPr/>
        </p:nvSpPr>
        <p:spPr>
          <a:xfrm>
            <a:off x="2590920" y="4253040"/>
            <a:ext cx="617220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4</a:t>
            </a:r>
            <a:r>
              <a:rPr b="1" lang="fa-IR" sz="36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.</a:t>
            </a:r>
            <a:r>
              <a:rPr b="1" lang="fa-IR" sz="24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fa-IR" sz="3600" spc="-1" strike="noStrike">
                <a:solidFill>
                  <a:srgbClr val="3366ff"/>
                </a:solidFill>
                <a:latin typeface="Times New Roman"/>
                <a:cs typeface="Times New Roman"/>
              </a:rPr>
              <a:t>اولويت بندي در مسؤليته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9"/>
          <p:cNvSpPr/>
          <p:nvPr/>
        </p:nvSpPr>
        <p:spPr>
          <a:xfrm>
            <a:off x="4854960" y="5181480"/>
            <a:ext cx="477000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rtl="1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5</a:t>
            </a:r>
            <a:r>
              <a:rPr b="1" lang="fa-IR" sz="36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. متلائم و سازگا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6309B-8DA1-47DD-92DD-A1B88A875C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4"/>
          <p:cNvSpPr/>
          <p:nvPr/>
        </p:nvSpPr>
        <p:spPr>
          <a:xfrm>
            <a:off x="1600200" y="136440"/>
            <a:ext cx="56386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000" spc="-1" strike="noStrike">
                <a:solidFill>
                  <a:srgbClr val="ff6600"/>
                </a:solidFill>
                <a:latin typeface="Times New Roman"/>
                <a:cs typeface="B Hamid"/>
              </a:rPr>
              <a:t>منابع تدوین سند اخلاقی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0" y="1392120"/>
            <a:ext cx="883908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5000"/>
              </a:lnSpc>
              <a:spcBef>
                <a:spcPts val="2251"/>
              </a:spcBef>
              <a:buClr>
                <a:srgbClr val="9900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9900cc"/>
                </a:solidFill>
                <a:latin typeface="Times New Roman"/>
                <a:cs typeface="B Tehran"/>
              </a:rPr>
              <a:t>متون دینی (قرآن و احادیث</a:t>
            </a:r>
            <a:r>
              <a:rPr b="1" lang="en-US" sz="3600" spc="-1" strike="noStrike">
                <a:solidFill>
                  <a:srgbClr val="9900cc"/>
                </a:solidFill>
                <a:latin typeface="Times New Roman"/>
                <a:ea typeface="B Tehran"/>
              </a:rPr>
              <a:t>(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75000"/>
              </a:lnSpc>
              <a:spcBef>
                <a:spcPts val="2251"/>
              </a:spcBef>
              <a:buClr>
                <a:srgbClr val="9900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9900cc"/>
                </a:solidFill>
                <a:latin typeface="Times New Roman"/>
                <a:ea typeface="B Tehran"/>
              </a:rPr>
              <a:t> تجارب ایرانی در تمدن‌های ایران باستان و ایران اسلام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75000"/>
              </a:lnSpc>
              <a:spcBef>
                <a:spcPts val="2251"/>
              </a:spcBef>
              <a:buClr>
                <a:srgbClr val="9900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9900cc"/>
                </a:solidFill>
                <a:latin typeface="Times New Roman"/>
                <a:cs typeface="B Tehran"/>
              </a:rPr>
              <a:t>ره آورد معرفتی عالمان اخلاق در سنت اسلام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75000"/>
              </a:lnSpc>
              <a:spcBef>
                <a:spcPts val="2251"/>
              </a:spcBef>
              <a:buClr>
                <a:srgbClr val="9900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9900cc"/>
                </a:solidFill>
                <a:latin typeface="Times New Roman"/>
                <a:cs typeface="B Tehran"/>
              </a:rPr>
              <a:t>ره آورد معرفتی عالمان اخلاق در مغرب زمی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75000"/>
              </a:lnSpc>
              <a:spcBef>
                <a:spcPts val="2251"/>
              </a:spcBef>
              <a:buClr>
                <a:srgbClr val="9900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9900cc"/>
                </a:solidFill>
                <a:latin typeface="Times New Roman"/>
                <a:cs typeface="B Tehran"/>
              </a:rPr>
              <a:t>تجارب سازمانهای مغرب زمی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75000"/>
              </a:lnSpc>
              <a:spcBef>
                <a:spcPts val="2251"/>
              </a:spcBef>
              <a:buClr>
                <a:srgbClr val="9900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9900cc"/>
                </a:solidFill>
                <a:latin typeface="Times New Roman"/>
                <a:cs typeface="B Tehran"/>
              </a:rPr>
              <a:t>بیانیه های اخلاق جهان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75000"/>
              </a:lnSpc>
              <a:spcBef>
                <a:spcPts val="2251"/>
              </a:spcBef>
              <a:buClr>
                <a:srgbClr val="9900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9900cc"/>
                </a:solidFill>
                <a:latin typeface="Times New Roman"/>
                <a:cs typeface="B Tehran"/>
              </a:rPr>
              <a:t>استانداردهای بین الملل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C5693-A14E-4F24-9CCD-BDF7F61BBD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WordArt 3"/>
          <p:cNvSpPr txBox="1"/>
          <p:nvPr/>
        </p:nvSpPr>
        <p:spPr>
          <a:xfrm>
            <a:off x="3132000" y="380880"/>
            <a:ext cx="44881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9999"/>
                  </a:outerShdw>
                </a:effectLst>
                <a:latin typeface="Arial"/>
              </a:rPr>
              <a:t>مسئولیت‌های اخلاقی سازمان  </a:t>
            </a:r>
            <a:endParaRPr b="0" i="1" lang="en-US" sz="2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99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5437440" y="2209680"/>
            <a:ext cx="29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كنيك تجزيه مساله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5" descr="invest3"/>
          <p:cNvPicPr/>
          <p:nvPr/>
        </p:nvPicPr>
        <p:blipFill>
          <a:blip r:embed="rId3"/>
          <a:stretch/>
        </p:blipFill>
        <p:spPr>
          <a:xfrm>
            <a:off x="152280" y="152280"/>
            <a:ext cx="2171880" cy="280836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6"/>
          <p:cNvSpPr/>
          <p:nvPr/>
        </p:nvSpPr>
        <p:spPr>
          <a:xfrm>
            <a:off x="1905120" y="335268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00000"/>
              </a:lnSpc>
              <a:buClr>
                <a:srgbClr val="ff0000"/>
              </a:buClr>
              <a:buSzPct val="11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ازمان در قبال چه کسانی ونهادهایی مسئولیت دارد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1905120" y="3886200"/>
            <a:ext cx="662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I</a:t>
            </a:r>
            <a:r>
              <a:rPr b="1" lang="fa-I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ین افراد و نهادها چه اولویتی دارند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8"/>
          <p:cNvSpPr/>
          <p:nvPr/>
        </p:nvSpPr>
        <p:spPr>
          <a:xfrm>
            <a:off x="2895480" y="4581360"/>
            <a:ext cx="57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II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fa-I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ین افراد و نهادها چه حقوقی دارند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lide Number Placeholder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2642A-93B8-4717-92D8-BD3D1FA9DF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10"/>
          <p:cNvSpPr/>
          <p:nvPr/>
        </p:nvSpPr>
        <p:spPr>
          <a:xfrm>
            <a:off x="1752480" y="5181480"/>
            <a:ext cx="6782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ІV</a:t>
            </a:r>
            <a:r>
              <a:rPr b="1" lang="fa-I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سئولیت سازمان در قبال حقوق این افراد چیست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Isosceles Triangle 3"/>
          <p:cNvSpPr/>
          <p:nvPr/>
        </p:nvSpPr>
        <p:spPr>
          <a:xfrm>
            <a:off x="1042920" y="476280"/>
            <a:ext cx="6697800" cy="57610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4"/>
          <p:cNvSpPr/>
          <p:nvPr/>
        </p:nvSpPr>
        <p:spPr>
          <a:xfrm>
            <a:off x="3132000" y="1844640"/>
            <a:ext cx="2592360" cy="5763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5"/>
          <p:cNvSpPr/>
          <p:nvPr/>
        </p:nvSpPr>
        <p:spPr>
          <a:xfrm>
            <a:off x="2556000" y="2781360"/>
            <a:ext cx="3744720" cy="79200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6"/>
          <p:cNvSpPr/>
          <p:nvPr/>
        </p:nvSpPr>
        <p:spPr>
          <a:xfrm>
            <a:off x="1219320" y="182880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7"/>
          <p:cNvSpPr/>
          <p:nvPr/>
        </p:nvSpPr>
        <p:spPr>
          <a:xfrm>
            <a:off x="3635280" y="292428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ardrop 9"/>
          <p:cNvSpPr/>
          <p:nvPr/>
        </p:nvSpPr>
        <p:spPr>
          <a:xfrm rot="18952800">
            <a:off x="5437080" y="3859200"/>
            <a:ext cx="935280" cy="792000"/>
          </a:xfrm>
          <a:custGeom>
            <a:avLst/>
            <a:gdLst/>
            <a:ahLst/>
            <a:rect l="l" t="t" r="r" b="b"/>
            <a:pathLst>
              <a:path w="935037" h="792162">
                <a:moveTo>
                  <a:pt x="0" y="396081"/>
                </a:moveTo>
                <a:cubicBezTo>
                  <a:pt x="0" y="177332"/>
                  <a:pt x="209315" y="0"/>
                  <a:pt x="467519" y="0"/>
                </a:cubicBezTo>
                <a:cubicBezTo>
                  <a:pt x="649862" y="0"/>
                  <a:pt x="832205" y="-22454"/>
                  <a:pt x="1014548" y="-67361"/>
                </a:cubicBezTo>
                <a:cubicBezTo>
                  <a:pt x="961541" y="87120"/>
                  <a:pt x="935037" y="241600"/>
                  <a:pt x="935037" y="396081"/>
                </a:cubicBezTo>
                <a:cubicBezTo>
                  <a:pt x="935037" y="614830"/>
                  <a:pt x="725722" y="792162"/>
                  <a:pt x="467518" y="792162"/>
                </a:cubicBezTo>
                <a:cubicBezTo>
                  <a:pt x="209314" y="792162"/>
                  <a:pt x="-1" y="614830"/>
                  <a:pt x="-1" y="396081"/>
                </a:cubicBezTo>
                <a:lnTo>
                  <a:pt x="0" y="396081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ardrop 10"/>
          <p:cNvSpPr/>
          <p:nvPr/>
        </p:nvSpPr>
        <p:spPr>
          <a:xfrm rot="18952800">
            <a:off x="4498920" y="3930120"/>
            <a:ext cx="936720" cy="792360"/>
          </a:xfrm>
          <a:custGeom>
            <a:avLst/>
            <a:gdLst/>
            <a:ahLst/>
            <a:rect l="l" t="t" r="r" b="b"/>
            <a:pathLst>
              <a:path w="936625" h="792163">
                <a:moveTo>
                  <a:pt x="0" y="396082"/>
                </a:moveTo>
                <a:cubicBezTo>
                  <a:pt x="0" y="177332"/>
                  <a:pt x="209671" y="0"/>
                  <a:pt x="468313" y="0"/>
                </a:cubicBezTo>
                <a:cubicBezTo>
                  <a:pt x="650966" y="0"/>
                  <a:pt x="833618" y="-22454"/>
                  <a:pt x="1016271" y="-67362"/>
                </a:cubicBezTo>
                <a:cubicBezTo>
                  <a:pt x="963174" y="87119"/>
                  <a:pt x="936625" y="241601"/>
                  <a:pt x="936625" y="396082"/>
                </a:cubicBezTo>
                <a:cubicBezTo>
                  <a:pt x="936625" y="614832"/>
                  <a:pt x="726954" y="792164"/>
                  <a:pt x="468312" y="792164"/>
                </a:cubicBezTo>
                <a:cubicBezTo>
                  <a:pt x="209670" y="792164"/>
                  <a:pt x="-1" y="614832"/>
                  <a:pt x="-1" y="396082"/>
                </a:cubicBezTo>
                <a:lnTo>
                  <a:pt x="0" y="396082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ardrop 11"/>
          <p:cNvSpPr/>
          <p:nvPr/>
        </p:nvSpPr>
        <p:spPr>
          <a:xfrm rot="18952800">
            <a:off x="3347640" y="3930120"/>
            <a:ext cx="934920" cy="792360"/>
          </a:xfrm>
          <a:custGeom>
            <a:avLst/>
            <a:gdLst/>
            <a:ahLst/>
            <a:rect l="l" t="t" r="r" b="b"/>
            <a:pathLst>
              <a:path w="935037" h="792163">
                <a:moveTo>
                  <a:pt x="0" y="396082"/>
                </a:moveTo>
                <a:cubicBezTo>
                  <a:pt x="0" y="177332"/>
                  <a:pt x="209315" y="0"/>
                  <a:pt x="467519" y="0"/>
                </a:cubicBezTo>
                <a:cubicBezTo>
                  <a:pt x="649862" y="0"/>
                  <a:pt x="832205" y="-22454"/>
                  <a:pt x="1014548" y="-67362"/>
                </a:cubicBezTo>
                <a:cubicBezTo>
                  <a:pt x="961541" y="87119"/>
                  <a:pt x="935037" y="241601"/>
                  <a:pt x="935037" y="396082"/>
                </a:cubicBezTo>
                <a:cubicBezTo>
                  <a:pt x="935037" y="614832"/>
                  <a:pt x="725722" y="792164"/>
                  <a:pt x="467518" y="792164"/>
                </a:cubicBezTo>
                <a:cubicBezTo>
                  <a:pt x="209314" y="792164"/>
                  <a:pt x="-1" y="614832"/>
                  <a:pt x="-1" y="396082"/>
                </a:cubicBezTo>
                <a:lnTo>
                  <a:pt x="0" y="396082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ardrop 12"/>
          <p:cNvSpPr/>
          <p:nvPr/>
        </p:nvSpPr>
        <p:spPr>
          <a:xfrm rot="18952800">
            <a:off x="2410920" y="3862080"/>
            <a:ext cx="936720" cy="792000"/>
          </a:xfrm>
          <a:custGeom>
            <a:avLst/>
            <a:gdLst/>
            <a:ahLst/>
            <a:rect l="l" t="t" r="r" b="b"/>
            <a:pathLst>
              <a:path w="936625" h="792162">
                <a:moveTo>
                  <a:pt x="0" y="396081"/>
                </a:moveTo>
                <a:cubicBezTo>
                  <a:pt x="0" y="177332"/>
                  <a:pt x="209671" y="0"/>
                  <a:pt x="468313" y="0"/>
                </a:cubicBezTo>
                <a:cubicBezTo>
                  <a:pt x="650966" y="0"/>
                  <a:pt x="833618" y="-22454"/>
                  <a:pt x="1016271" y="-67361"/>
                </a:cubicBezTo>
                <a:cubicBezTo>
                  <a:pt x="963174" y="87120"/>
                  <a:pt x="936625" y="241600"/>
                  <a:pt x="936625" y="396081"/>
                </a:cubicBezTo>
                <a:cubicBezTo>
                  <a:pt x="936625" y="614830"/>
                  <a:pt x="726954" y="792162"/>
                  <a:pt x="468312" y="792162"/>
                </a:cubicBezTo>
                <a:cubicBezTo>
                  <a:pt x="209670" y="792162"/>
                  <a:pt x="-1" y="614830"/>
                  <a:pt x="-1" y="396081"/>
                </a:cubicBezTo>
                <a:lnTo>
                  <a:pt x="0" y="396081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lowchart: Terminator 15"/>
          <p:cNvSpPr/>
          <p:nvPr/>
        </p:nvSpPr>
        <p:spPr>
          <a:xfrm rot="17611800">
            <a:off x="2038320" y="5208480"/>
            <a:ext cx="1224000" cy="360360"/>
          </a:xfrm>
          <a:prstGeom prst="flowChartTerminator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lowchart: Terminator 16"/>
          <p:cNvSpPr/>
          <p:nvPr/>
        </p:nvSpPr>
        <p:spPr>
          <a:xfrm rot="17171400">
            <a:off x="2752560" y="5275080"/>
            <a:ext cx="1224000" cy="360360"/>
          </a:xfrm>
          <a:prstGeom prst="flowChartTerminator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Terminator 17"/>
          <p:cNvSpPr/>
          <p:nvPr/>
        </p:nvSpPr>
        <p:spPr>
          <a:xfrm rot="16728600">
            <a:off x="3504240" y="5321880"/>
            <a:ext cx="1225440" cy="360360"/>
          </a:xfrm>
          <a:prstGeom prst="flowChartTerminator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lowchart: Terminator 18"/>
          <p:cNvSpPr/>
          <p:nvPr/>
        </p:nvSpPr>
        <p:spPr>
          <a:xfrm rot="16200000">
            <a:off x="4283640" y="5321880"/>
            <a:ext cx="1225440" cy="360360"/>
          </a:xfrm>
          <a:prstGeom prst="flowChartTerminator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lowchart: Terminator 19"/>
          <p:cNvSpPr/>
          <p:nvPr/>
        </p:nvSpPr>
        <p:spPr>
          <a:xfrm rot="15400200">
            <a:off x="5034600" y="5255280"/>
            <a:ext cx="1224000" cy="358920"/>
          </a:xfrm>
          <a:prstGeom prst="flowChartTerminator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lowchart: Terminator 20"/>
          <p:cNvSpPr/>
          <p:nvPr/>
        </p:nvSpPr>
        <p:spPr>
          <a:xfrm rot="15204000">
            <a:off x="5844960" y="5182920"/>
            <a:ext cx="1224000" cy="360360"/>
          </a:xfrm>
          <a:prstGeom prst="flowChartTerminator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lowchart: Terminator 21"/>
          <p:cNvSpPr/>
          <p:nvPr/>
        </p:nvSpPr>
        <p:spPr>
          <a:xfrm rot="18085800">
            <a:off x="1422360" y="5103720"/>
            <a:ext cx="1224000" cy="370080"/>
          </a:xfrm>
          <a:prstGeom prst="flowChartTerminator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22"/>
          <p:cNvSpPr/>
          <p:nvPr/>
        </p:nvSpPr>
        <p:spPr>
          <a:xfrm>
            <a:off x="3419640" y="5300640"/>
            <a:ext cx="165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d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25"/>
          <p:cNvSpPr/>
          <p:nvPr/>
        </p:nvSpPr>
        <p:spPr>
          <a:xfrm>
            <a:off x="2195640" y="4076640"/>
            <a:ext cx="18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ub-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26"/>
          <p:cNvSpPr/>
          <p:nvPr/>
        </p:nvSpPr>
        <p:spPr>
          <a:xfrm>
            <a:off x="2411280" y="26028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4"/>
          <p:cNvSpPr/>
          <p:nvPr/>
        </p:nvSpPr>
        <p:spPr>
          <a:xfrm>
            <a:off x="-76320" y="177840"/>
            <a:ext cx="9068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0000"/>
                </a:solidFill>
                <a:latin typeface="Times New Roman"/>
                <a:cs typeface="B Morvarid"/>
              </a:rPr>
              <a:t>وظایف اخلاقی سازمان در قبال حقوق مصرف کننده و مشتر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3921120" y="762120"/>
            <a:ext cx="5105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1</a:t>
            </a: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) احترام اصیل و نامشرو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6"/>
          <p:cNvSpPr/>
          <p:nvPr/>
        </p:nvSpPr>
        <p:spPr>
          <a:xfrm>
            <a:off x="4648320" y="117324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2</a:t>
            </a: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) صداقت و صراح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7"/>
          <p:cNvSpPr/>
          <p:nvPr/>
        </p:nvSpPr>
        <p:spPr>
          <a:xfrm>
            <a:off x="322200" y="155412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3</a:t>
            </a: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) خدمات قبل از فروش، حین فروش و پس از فرو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8"/>
          <p:cNvSpPr/>
          <p:nvPr/>
        </p:nvSpPr>
        <p:spPr>
          <a:xfrm>
            <a:off x="4267080" y="190512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4</a:t>
            </a: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) تنوع کالا و خدم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9"/>
          <p:cNvSpPr/>
          <p:nvPr/>
        </p:nvSpPr>
        <p:spPr>
          <a:xfrm>
            <a:off x="4419720" y="228600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5</a:t>
            </a: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) اجتناب از تبعی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0"/>
          <p:cNvSpPr/>
          <p:nvPr/>
        </p:nvSpPr>
        <p:spPr>
          <a:xfrm>
            <a:off x="1828800" y="266688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6</a:t>
            </a: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) حفظ حریم شخصی، رازداری و امانت دار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1"/>
          <p:cNvSpPr/>
          <p:nvPr/>
        </p:nvSpPr>
        <p:spPr>
          <a:xfrm>
            <a:off x="3429000" y="3048120"/>
            <a:ext cx="5105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7</a:t>
            </a: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) قیمت پایین همراه با کیفیت برت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2"/>
          <p:cNvSpPr/>
          <p:nvPr/>
        </p:nvSpPr>
        <p:spPr>
          <a:xfrm>
            <a:off x="3352680" y="3429000"/>
            <a:ext cx="5105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8</a:t>
            </a: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) سرعت در تحویل کالا و خدم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3"/>
          <p:cNvSpPr/>
          <p:nvPr/>
        </p:nvSpPr>
        <p:spPr>
          <a:xfrm>
            <a:off x="2743200" y="3809880"/>
            <a:ext cx="586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9</a:t>
            </a: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) پای بندی به قرادادهای وفای به عه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4"/>
          <p:cNvSpPr/>
          <p:nvPr/>
        </p:nvSpPr>
        <p:spPr>
          <a:xfrm>
            <a:off x="4038480" y="4191120"/>
            <a:ext cx="5105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10</a:t>
            </a: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) نقدپذیری و پاسخگوی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5"/>
          <p:cNvSpPr/>
          <p:nvPr/>
        </p:nvSpPr>
        <p:spPr>
          <a:xfrm>
            <a:off x="4495680" y="460224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11</a:t>
            </a: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) اعتماد به مشتر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6"/>
          <p:cNvSpPr/>
          <p:nvPr/>
        </p:nvSpPr>
        <p:spPr>
          <a:xfrm>
            <a:off x="4267080" y="502920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12</a:t>
            </a: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) اجتناب از زیان زد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7"/>
          <p:cNvSpPr/>
          <p:nvPr/>
        </p:nvSpPr>
        <p:spPr>
          <a:xfrm>
            <a:off x="4114800" y="5410080"/>
            <a:ext cx="5105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13</a:t>
            </a: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) جبران خسارت محتم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9"/>
          <p:cNvSpPr/>
          <p:nvPr/>
        </p:nvSpPr>
        <p:spPr>
          <a:xfrm>
            <a:off x="3657600" y="5821200"/>
            <a:ext cx="5105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14</a:t>
            </a: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) پیش بینی پذیری برای مشتر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lide Number Placeholder 1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554BF-5222-4400-9A3B-54591440D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4"/>
          <p:cNvSpPr/>
          <p:nvPr/>
        </p:nvSpPr>
        <p:spPr>
          <a:xfrm>
            <a:off x="-228600" y="-76320"/>
            <a:ext cx="952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8000"/>
                </a:solidFill>
                <a:latin typeface="Times New Roman"/>
                <a:cs typeface="B Morvarid"/>
              </a:rPr>
              <a:t>وظایف اخلاقی سازمان در قبال کارکنا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5"/>
          <p:cNvSpPr/>
          <p:nvPr/>
        </p:nvSpPr>
        <p:spPr>
          <a:xfrm>
            <a:off x="1066680" y="40644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1</a:t>
            </a: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) ارتقاء سطح دانش، مهارت، توانایی و نگرش کارکنا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6"/>
          <p:cNvSpPr/>
          <p:nvPr/>
        </p:nvSpPr>
        <p:spPr>
          <a:xfrm>
            <a:off x="1752480" y="83808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0000"/>
                </a:solidFill>
                <a:latin typeface="Times New Roman"/>
                <a:ea typeface="B Lotus"/>
              </a:rPr>
              <a:t>2</a:t>
            </a:r>
            <a:r>
              <a:rPr b="1" lang="fa-IR" sz="3200" spc="-1" strike="noStrike">
                <a:solidFill>
                  <a:srgbClr val="ff0000"/>
                </a:solidFill>
                <a:latin typeface="Times New Roman"/>
                <a:ea typeface="B Lotus"/>
              </a:rPr>
              <a:t>) تأمین امنیت شغلی و ایجاد فرصت ارتقاء شغل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7"/>
          <p:cNvSpPr/>
          <p:nvPr/>
        </p:nvSpPr>
        <p:spPr>
          <a:xfrm>
            <a:off x="3809880" y="1219320"/>
            <a:ext cx="4800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3</a:t>
            </a: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) تأمین حقوق عادلانه و مکف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8"/>
          <p:cNvSpPr/>
          <p:nvPr/>
        </p:nvSpPr>
        <p:spPr>
          <a:xfrm>
            <a:off x="2514600" y="1600200"/>
            <a:ext cx="60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0000"/>
                </a:solidFill>
                <a:latin typeface="Times New Roman"/>
                <a:ea typeface="B Lotus"/>
              </a:rPr>
              <a:t>4</a:t>
            </a:r>
            <a:r>
              <a:rPr b="1" lang="fa-IR" sz="3200" spc="-1" strike="noStrike">
                <a:solidFill>
                  <a:srgbClr val="ff0000"/>
                </a:solidFill>
                <a:latin typeface="Times New Roman"/>
                <a:ea typeface="B Lotus"/>
              </a:rPr>
              <a:t>) تصحیح انگیزش و تقویت درون انگیختگ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9"/>
          <p:cNvSpPr/>
          <p:nvPr/>
        </p:nvSpPr>
        <p:spPr>
          <a:xfrm>
            <a:off x="3809880" y="1981080"/>
            <a:ext cx="4800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5</a:t>
            </a: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) نقدپذیری و مشارکت طلب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0"/>
          <p:cNvSpPr/>
          <p:nvPr/>
        </p:nvSpPr>
        <p:spPr>
          <a:xfrm>
            <a:off x="3886200" y="2362320"/>
            <a:ext cx="4724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0000"/>
                </a:solidFill>
                <a:latin typeface="Times New Roman"/>
                <a:ea typeface="B Lotus"/>
              </a:rPr>
              <a:t>6</a:t>
            </a:r>
            <a:r>
              <a:rPr b="1" lang="fa-IR" sz="3200" spc="-1" strike="noStrike">
                <a:solidFill>
                  <a:srgbClr val="ff0000"/>
                </a:solidFill>
                <a:latin typeface="Times New Roman"/>
                <a:ea typeface="B Lotus"/>
              </a:rPr>
              <a:t>) تناسب اختیارات و مسئولیت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1"/>
          <p:cNvSpPr/>
          <p:nvPr/>
        </p:nvSpPr>
        <p:spPr>
          <a:xfrm>
            <a:off x="3886200" y="2743200"/>
            <a:ext cx="4724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7</a:t>
            </a: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) تسهیل ارتباطات سازمان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2"/>
          <p:cNvSpPr/>
          <p:nvPr/>
        </p:nvSpPr>
        <p:spPr>
          <a:xfrm>
            <a:off x="3581280" y="3200400"/>
            <a:ext cx="5029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0000"/>
                </a:solidFill>
                <a:latin typeface="Times New Roman"/>
                <a:ea typeface="B Lotus"/>
              </a:rPr>
              <a:t>8</a:t>
            </a:r>
            <a:r>
              <a:rPr b="1" lang="fa-IR" sz="3200" spc="-1" strike="noStrike">
                <a:solidFill>
                  <a:srgbClr val="ff0000"/>
                </a:solidFill>
                <a:latin typeface="Times New Roman"/>
                <a:ea typeface="B Lotus"/>
              </a:rPr>
              <a:t>) حمایت معنوی و مادی از کارکنا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3"/>
          <p:cNvSpPr/>
          <p:nvPr/>
        </p:nvSpPr>
        <p:spPr>
          <a:xfrm>
            <a:off x="4267080" y="3657600"/>
            <a:ext cx="434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9</a:t>
            </a: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) احترام و اعتماد به کارکنا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4"/>
          <p:cNvSpPr/>
          <p:nvPr/>
        </p:nvSpPr>
        <p:spPr>
          <a:xfrm>
            <a:off x="3352680" y="4038480"/>
            <a:ext cx="54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0000"/>
                </a:solidFill>
                <a:latin typeface="Times New Roman"/>
                <a:ea typeface="B Lotus"/>
              </a:rPr>
              <a:t>10</a:t>
            </a:r>
            <a:r>
              <a:rPr b="1" lang="fa-IR" sz="3200" spc="-1" strike="noStrike">
                <a:solidFill>
                  <a:srgbClr val="ff0000"/>
                </a:solidFill>
                <a:latin typeface="Times New Roman"/>
                <a:ea typeface="B Lotus"/>
              </a:rPr>
              <a:t>) مواجهه صادقانه و صریح با کارکنا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5"/>
          <p:cNvSpPr/>
          <p:nvPr/>
        </p:nvSpPr>
        <p:spPr>
          <a:xfrm>
            <a:off x="1981080" y="441972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11</a:t>
            </a: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) حفظ حریم شخصی، رازداری و امانت نگر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6"/>
          <p:cNvSpPr/>
          <p:nvPr/>
        </p:nvSpPr>
        <p:spPr>
          <a:xfrm>
            <a:off x="3962520" y="4800600"/>
            <a:ext cx="4876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0000"/>
                </a:solidFill>
                <a:latin typeface="Times New Roman"/>
                <a:ea typeface="B Lotus"/>
              </a:rPr>
              <a:t>12</a:t>
            </a:r>
            <a:r>
              <a:rPr b="1" lang="fa-IR" sz="3200" spc="-1" strike="noStrike">
                <a:solidFill>
                  <a:srgbClr val="ff0000"/>
                </a:solidFill>
                <a:latin typeface="Times New Roman"/>
                <a:ea typeface="B Lotus"/>
              </a:rPr>
              <a:t>) تأمین مدیران لایق و منص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7"/>
          <p:cNvSpPr/>
          <p:nvPr/>
        </p:nvSpPr>
        <p:spPr>
          <a:xfrm>
            <a:off x="3962520" y="5181480"/>
            <a:ext cx="4876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13</a:t>
            </a: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) حمایت از آزادی های فرد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8"/>
          <p:cNvSpPr/>
          <p:nvPr/>
        </p:nvSpPr>
        <p:spPr>
          <a:xfrm>
            <a:off x="4038480" y="5592600"/>
            <a:ext cx="4800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0000"/>
                </a:solidFill>
                <a:latin typeface="Times New Roman"/>
                <a:ea typeface="B Lotus"/>
              </a:rPr>
              <a:t>14</a:t>
            </a:r>
            <a:r>
              <a:rPr b="1" lang="fa-IR" sz="3200" spc="-1" strike="noStrike">
                <a:solidFill>
                  <a:srgbClr val="ff0000"/>
                </a:solidFill>
                <a:latin typeface="Times New Roman"/>
                <a:ea typeface="B Lotus"/>
              </a:rPr>
              <a:t>) حمایت از تشکل‌های صنف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1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F3FC7-BA63-4401-B954-CECCA1EEE3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Text Box 4" descr=""/>
          <p:cNvPicPr/>
          <p:nvPr/>
        </p:nvPicPr>
        <p:blipFill>
          <a:blip r:embed="rId1"/>
          <a:stretch/>
        </p:blipFill>
        <p:spPr>
          <a:xfrm>
            <a:off x="152280" y="195120"/>
            <a:ext cx="5565960" cy="1073160"/>
          </a:xfrm>
          <a:prstGeom prst="rect">
            <a:avLst/>
          </a:prstGeom>
          <a:ln w="0">
            <a:noFill/>
          </a:ln>
        </p:spPr>
      </p:pic>
      <p:sp>
        <p:nvSpPr>
          <p:cNvPr id="317" name="Text Box 5"/>
          <p:cNvSpPr/>
          <p:nvPr/>
        </p:nvSpPr>
        <p:spPr>
          <a:xfrm>
            <a:off x="-228600" y="685800"/>
            <a:ext cx="9144000" cy="63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lnSpc>
                <a:spcPct val="50000"/>
              </a:lnSpc>
              <a:spcBef>
                <a:spcPts val="2001"/>
              </a:spcBef>
              <a:buClr>
                <a:srgbClr val="3333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اصل انتفاع طرفی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50000"/>
              </a:lnSpc>
              <a:spcBef>
                <a:spcPts val="2001"/>
              </a:spcBef>
              <a:buClr>
                <a:srgbClr val="3333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احترام اصیل به رقب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50000"/>
              </a:lnSpc>
              <a:spcBef>
                <a:spcPts val="2001"/>
              </a:spcBef>
              <a:buClr>
                <a:srgbClr val="3333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اصل اجتناب از ضررسان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50000"/>
              </a:lnSpc>
              <a:spcBef>
                <a:spcPts val="2001"/>
              </a:spcBef>
              <a:buClr>
                <a:srgbClr val="3333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333399"/>
                </a:solidFill>
                <a:latin typeface="Times New Roman"/>
                <a:cs typeface="Times New Roman"/>
              </a:rPr>
              <a:t>تلاش در رقابتی کردن محی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50000"/>
              </a:lnSpc>
              <a:spcBef>
                <a:spcPts val="2001"/>
              </a:spcBef>
              <a:buClr>
                <a:srgbClr val="3333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سوق رقابت به رفاق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50000"/>
              </a:lnSpc>
              <a:spcBef>
                <a:spcPts val="2001"/>
              </a:spcBef>
              <a:buClr>
                <a:srgbClr val="3333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333399"/>
                </a:solidFill>
                <a:latin typeface="Times New Roman"/>
                <a:cs typeface="Times New Roman"/>
              </a:rPr>
              <a:t>اجتناب از روابط غیر اخلاقی با کارکنان بنگاه رقی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50000"/>
              </a:lnSpc>
              <a:spcBef>
                <a:spcPts val="2001"/>
              </a:spcBef>
              <a:buClr>
                <a:srgbClr val="3333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رعایت حقوق رقبا در بازاریاب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50000"/>
              </a:lnSpc>
              <a:spcBef>
                <a:spcPts val="2001"/>
              </a:spcBef>
              <a:buClr>
                <a:srgbClr val="3333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333399"/>
                </a:solidFill>
                <a:latin typeface="Times New Roman"/>
                <a:cs typeface="Times New Roman"/>
              </a:rPr>
              <a:t>حفظ حریم رقبا و صیانت از اسرار آن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50000"/>
              </a:lnSpc>
              <a:spcBef>
                <a:spcPts val="2001"/>
              </a:spcBef>
              <a:buClr>
                <a:srgbClr val="3333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حمایت معنوی از رقب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50000"/>
              </a:lnSpc>
              <a:spcBef>
                <a:spcPts val="2001"/>
              </a:spcBef>
              <a:buClr>
                <a:srgbClr val="3333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مواجهه صادقانه و صریح با رقب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50000"/>
              </a:lnSpc>
              <a:spcBef>
                <a:spcPts val="2001"/>
              </a:spcBef>
              <a:buClr>
                <a:srgbClr val="3333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اجتناب از اقدامهای تلافی جویانه غیر اخلاق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50000"/>
              </a:lnSpc>
              <a:spcBef>
                <a:spcPts val="2001"/>
              </a:spcBef>
              <a:buClr>
                <a:srgbClr val="3333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ترویج اخلاق حرفه ای نزد رقب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5A798-274B-45E1-BF51-665C58E4C4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WordArt 5"/>
          <p:cNvSpPr txBox="1"/>
          <p:nvPr/>
        </p:nvSpPr>
        <p:spPr>
          <a:xfrm>
            <a:off x="2362320" y="5181480"/>
            <a:ext cx="354312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000099"/>
                  </a:solidFill>
                  <a:miter/>
                </a:ln>
                <a:solidFill>
                  <a:srgbClr val="00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 </a:t>
            </a:r>
            <a:endParaRPr b="1" lang="en-US" sz="2800" spc="1" strike="noStrike">
              <a:ln w="19080">
                <a:solidFill>
                  <a:srgbClr val="000099"/>
                </a:solidFill>
                <a:miter/>
              </a:ln>
              <a:solidFill>
                <a:srgbClr val="00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6" name="Text Box 6" descr=""/>
          <p:cNvPicPr/>
          <p:nvPr/>
        </p:nvPicPr>
        <p:blipFill>
          <a:blip r:embed="rId1"/>
          <a:stretch/>
        </p:blipFill>
        <p:spPr>
          <a:xfrm>
            <a:off x="0" y="1292400"/>
            <a:ext cx="8766000" cy="2236680"/>
          </a:xfrm>
          <a:prstGeom prst="rect">
            <a:avLst/>
          </a:prstGeom>
          <a:ln w="0">
            <a:noFill/>
          </a:ln>
        </p:spPr>
      </p:pic>
      <p:sp>
        <p:nvSpPr>
          <p:cNvPr id="137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85A70-609A-4AB6-998D-84C57F4EA7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5"/>
          <p:cNvSpPr/>
          <p:nvPr/>
        </p:nvSpPr>
        <p:spPr>
          <a:xfrm>
            <a:off x="228600" y="0"/>
            <a:ext cx="81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333399"/>
                </a:solidFill>
                <a:latin typeface="Times New Roman"/>
                <a:cs typeface="Times New Roman"/>
              </a:rPr>
              <a:t>ابعاد مسئولیت سازمان در قبال محیط زیس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6"/>
          <p:cNvSpPr/>
          <p:nvPr/>
        </p:nvSpPr>
        <p:spPr>
          <a:xfrm>
            <a:off x="-304920" y="533520"/>
            <a:ext cx="9144000" cy="65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fa-I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همکاری با سازمانهای مرتبط با محیط زیس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fa-I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قانون پذیری نسبت به قوانین و مقررات حفاظت محیط زیس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fa-I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ترویج تفکر سبز و حمایت از گروه های سب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fa-I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رعایت اصول و استانداردهای زیست محیط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fa-I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تلاش در کاهش آلایندگی محیط زیس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fa-I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توسعه دانش و فن آوری حفاظت محیط زیس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fa-I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توسعه برنامه های بازیاف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lang="fa-I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ارتقاء کیفیت محصو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1" lang="fa-I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صرفه جویی در استفاده از مناب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A11DC-5F61-479A-84A3-6E033B4121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77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6" dur="770" fill="hold"/>
                                        <p:tgtEl>
                                          <p:spTgt spid="3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8" dur="77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0" dur="77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 Box 5"/>
          <p:cNvSpPr/>
          <p:nvPr/>
        </p:nvSpPr>
        <p:spPr>
          <a:xfrm>
            <a:off x="304920" y="84240"/>
            <a:ext cx="8839080" cy="9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7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500" spc="-1" strike="noStrike">
                <a:solidFill>
                  <a:srgbClr val="9900cc"/>
                </a:solidFill>
                <a:latin typeface="Times New Roman"/>
                <a:cs typeface="Times New Roman"/>
              </a:rPr>
              <a:t>خط مشی اخلاقی سازمان در قبال منافع ملی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1</a:t>
            </a:r>
            <a:r>
              <a:rPr b="1" lang="fa-IR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ارتقاء کیفیت محصول به منظور افزایش دوام محصول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2</a:t>
            </a:r>
            <a:r>
              <a:rPr b="1" lang="fa-IR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صرفه جویی در استفاده از منابع و پرهیز از اتلاف منابع محدو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3</a:t>
            </a:r>
            <a:r>
              <a:rPr b="1" lang="fa-IR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تلاش در جهت توسعه صنعتی و تولید علم در کشو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4</a:t>
            </a:r>
            <a:r>
              <a:rPr b="1" lang="fa-IR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 اطلاع رسانی صحیح و آگاهی دادن به شهروندا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5</a:t>
            </a:r>
            <a:r>
              <a:rPr b="1" lang="fa-IR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پای بندی به اصول و قوانین حاکم بر کشو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6</a:t>
            </a:r>
            <a:r>
              <a:rPr b="1" lang="fa-IR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نقدپذیری، پاسخگویی و مواجهه صادقانه و صریح با مردم و جامع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7</a:t>
            </a:r>
            <a:r>
              <a:rPr b="1" lang="fa-IR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مشارکت در طرحهای اقتصاد، اجتماعی، عمرانی و امور خیری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8</a:t>
            </a:r>
            <a:r>
              <a:rPr b="1" lang="fa-IR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تعریف، توسعه و ارتقاء استانداردهای مرتبط با صنع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9</a:t>
            </a:r>
            <a:r>
              <a:rPr b="1" lang="fa-IR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همکاری در تدوین قوانین، مقررات و آیین نامه های مرتبط با صنع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10</a:t>
            </a:r>
            <a:r>
              <a:rPr b="1" lang="fa-IR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معرفی و حمایت از خبرگان صنع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61277-3613-47BB-BB47-FF6AC7D6C1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4"/>
          <p:cNvSpPr/>
          <p:nvPr/>
        </p:nvSpPr>
        <p:spPr>
          <a:xfrm>
            <a:off x="0" y="380880"/>
            <a:ext cx="88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5"/>
          <p:cNvSpPr/>
          <p:nvPr/>
        </p:nvSpPr>
        <p:spPr>
          <a:xfrm>
            <a:off x="0" y="0"/>
            <a:ext cx="9144000" cy="78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11</a:t>
            </a: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ایفاء به موقع حقوق ادارات، سازمانها و نهادهای کشو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12</a:t>
            </a: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مشارکت در توسعه اشتغال و توزیع عادلانه فرصته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13</a:t>
            </a: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مشارکت در ارتقاء سطح رفاه عموم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14</a:t>
            </a: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تلاش در جهت رعایت بهای عادلانه محصو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15</a:t>
            </a: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ترویج تفکر سبز و حمایت از گروه های سبز و سازمانهای مرتبط با محیط زیس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16</a:t>
            </a: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رعایت اصول و استانداردهای زیست محیطی و تلاش در کاهش آلایندگی محیط زیس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17</a:t>
            </a: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توسعه دانش و فنآوری حفاظت محیط زیس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18</a:t>
            </a: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اعتلای صنعت قیر و صنایع جانب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19</a:t>
            </a: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تلاش در بهبود و احیای محیط زیس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20</a:t>
            </a: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توسعه برنامه های بازیاف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21</a:t>
            </a: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مشارکت در ارتقاء فرهنگ عمومی و حفظ میراث فرهنگی و تاریخ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22</a:t>
            </a: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احترام به هنجارهای اجتماعی و ارزشهای دین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23</a:t>
            </a: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رعایت حقوق همسایگا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24</a:t>
            </a: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مشارکت در ترویج ورزش، هنر، و فرهنگ نشاط، شادی و امیدوار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8BEDA-DB42-4F37-8B0C-70A70AD71B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17"/>
          <p:cNvSpPr/>
          <p:nvPr/>
        </p:nvSpPr>
        <p:spPr>
          <a:xfrm>
            <a:off x="2743200" y="380880"/>
            <a:ext cx="4952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3366ff"/>
                </a:solidFill>
                <a:latin typeface="Times New Roman"/>
                <a:cs typeface="Times New Roman"/>
              </a:rPr>
              <a:t>سازمان‌های تأمین کنند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24"/>
          <p:cNvGrpSpPr/>
          <p:nvPr/>
        </p:nvGrpSpPr>
        <p:grpSpPr>
          <a:xfrm>
            <a:off x="1752480" y="1276200"/>
            <a:ext cx="5334120" cy="4952880"/>
            <a:chOff x="1752480" y="1276200"/>
            <a:chExt cx="5334120" cy="4952880"/>
          </a:xfrm>
        </p:grpSpPr>
        <p:sp>
          <p:nvSpPr>
            <p:cNvPr id="329" name="Oval 4"/>
            <p:cNvSpPr/>
            <p:nvPr/>
          </p:nvSpPr>
          <p:spPr>
            <a:xfrm>
              <a:off x="1828800" y="1276200"/>
              <a:ext cx="5257800" cy="4952880"/>
            </a:xfrm>
            <a:prstGeom prst="ellipse">
              <a:avLst/>
            </a:prstGeom>
            <a:solidFill>
              <a:srgbClr val="ffccff"/>
            </a:solidFill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1"/>
            <p:cNvSpPr/>
            <p:nvPr/>
          </p:nvSpPr>
          <p:spPr>
            <a:xfrm>
              <a:off x="1981080" y="2952720"/>
              <a:ext cx="5105520" cy="1003320"/>
            </a:xfrm>
            <a:custGeom>
              <a:avLst/>
              <a:gdLst>
                <a:gd name="textAreaLeft" fmla="*/ 0 w 5105520"/>
                <a:gd name="textAreaRight" fmla="*/ 5105880 w 5105520"/>
                <a:gd name="textAreaTop" fmla="*/ 0 h 1003320"/>
                <a:gd name="textAreaBottom" fmla="*/ 1003680 h 1003320"/>
              </a:gdLst>
              <a:ahLst/>
              <a:rect l="textAreaLeft" t="textAreaTop" r="textAreaRight" b="textAreaBottom"/>
              <a:pathLst>
                <a:path w="3216" h="632">
                  <a:moveTo>
                    <a:pt x="3216" y="528"/>
                  </a:moveTo>
                  <a:cubicBezTo>
                    <a:pt x="3048" y="328"/>
                    <a:pt x="2880" y="128"/>
                    <a:pt x="2640" y="96"/>
                  </a:cubicBezTo>
                  <a:cubicBezTo>
                    <a:pt x="2400" y="64"/>
                    <a:pt x="2056" y="256"/>
                    <a:pt x="1776" y="336"/>
                  </a:cubicBezTo>
                  <a:cubicBezTo>
                    <a:pt x="1496" y="416"/>
                    <a:pt x="1256" y="632"/>
                    <a:pt x="960" y="576"/>
                  </a:cubicBezTo>
                  <a:cubicBezTo>
                    <a:pt x="664" y="520"/>
                    <a:pt x="160" y="96"/>
                    <a:pt x="0" y="0"/>
                  </a:cubicBezTo>
                </a:path>
              </a:pathLst>
            </a:custGeom>
            <a:noFill/>
            <a:ln w="44280">
              <a:solidFill>
                <a:srgbClr val="99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895480" y="2419200"/>
              <a:ext cx="350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800" spc="-1" strike="noStrike">
                  <a:solidFill>
                    <a:srgbClr val="009999"/>
                  </a:solidFill>
                  <a:latin typeface="Times New Roman"/>
                  <a:cs typeface="Times New Roman"/>
                </a:rPr>
                <a:t>تأمین کننده کال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14"/>
            <p:cNvSpPr/>
            <p:nvPr/>
          </p:nvSpPr>
          <p:spPr>
            <a:xfrm>
              <a:off x="2438280" y="1809720"/>
              <a:ext cx="1524240" cy="24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400" spc="-1" strike="noStrike">
                  <a:solidFill>
                    <a:srgbClr val="009999"/>
                  </a:solidFill>
                  <a:latin typeface="Times New Roman"/>
                  <a:cs typeface="Times New Roman"/>
                </a:rPr>
                <a:t>تأمین کننده امور معنوی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400" spc="-1" strike="noStrike">
                  <a:solidFill>
                    <a:srgbClr val="009999"/>
                  </a:solidFill>
                  <a:latin typeface="Times New Roman"/>
                  <a:ea typeface="Times New Roman"/>
                </a:rPr>
                <a:t>(دانش و گواهی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15"/>
            <p:cNvSpPr/>
            <p:nvPr/>
          </p:nvSpPr>
          <p:spPr>
            <a:xfrm>
              <a:off x="4419720" y="3714480"/>
              <a:ext cx="236196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800" spc="-1" strike="noStrike">
                  <a:solidFill>
                    <a:srgbClr val="009999"/>
                  </a:solidFill>
                  <a:latin typeface="Times New Roman"/>
                  <a:cs typeface="Times New Roman"/>
                </a:rPr>
                <a:t>تأمین کننده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800" spc="-1" strike="noStrike">
                  <a:solidFill>
                    <a:srgbClr val="009999"/>
                  </a:solidFill>
                  <a:latin typeface="Times New Roman"/>
                  <a:cs typeface="Times New Roman"/>
                </a:rPr>
                <a:t>خدما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 Box 16"/>
            <p:cNvSpPr/>
            <p:nvPr/>
          </p:nvSpPr>
          <p:spPr>
            <a:xfrm>
              <a:off x="1752480" y="4248000"/>
              <a:ext cx="350532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800" spc="-1" strike="noStrike">
                  <a:solidFill>
                    <a:srgbClr val="009999"/>
                  </a:solidFill>
                  <a:latin typeface="Times New Roman"/>
                  <a:cs typeface="Times New Roman"/>
                </a:rPr>
                <a:t>تأمین کننده مالی و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800" spc="-1" strike="noStrike">
                  <a:solidFill>
                    <a:srgbClr val="009999"/>
                  </a:solidFill>
                  <a:latin typeface="Times New Roman"/>
                  <a:cs typeface="Times New Roman"/>
                </a:rPr>
                <a:t>تسهیلات اعتبار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3"/>
            <p:cNvSpPr/>
            <p:nvPr/>
          </p:nvSpPr>
          <p:spPr>
            <a:xfrm>
              <a:off x="3886200" y="1352520"/>
              <a:ext cx="1181160" cy="4876560"/>
            </a:xfrm>
            <a:custGeom>
              <a:avLst/>
              <a:gdLst>
                <a:gd name="textAreaLeft" fmla="*/ 0 w 1181160"/>
                <a:gd name="textAreaRight" fmla="*/ 1181520 w 1181160"/>
                <a:gd name="textAreaTop" fmla="*/ 0 h 4876560"/>
                <a:gd name="textAreaBottom" fmla="*/ 4876920 h 4876560"/>
              </a:gdLst>
              <a:ahLst/>
              <a:rect l="textAreaLeft" t="textAreaTop" r="textAreaRight" b="textAreaBottom"/>
              <a:pathLst>
                <a:path w="744" h="3072">
                  <a:moveTo>
                    <a:pt x="592" y="0"/>
                  </a:moveTo>
                  <a:cubicBezTo>
                    <a:pt x="312" y="156"/>
                    <a:pt x="32" y="312"/>
                    <a:pt x="16" y="528"/>
                  </a:cubicBezTo>
                  <a:cubicBezTo>
                    <a:pt x="0" y="744"/>
                    <a:pt x="384" y="1048"/>
                    <a:pt x="496" y="1296"/>
                  </a:cubicBezTo>
                  <a:cubicBezTo>
                    <a:pt x="608" y="1544"/>
                    <a:pt x="744" y="1720"/>
                    <a:pt x="688" y="2016"/>
                  </a:cubicBezTo>
                  <a:cubicBezTo>
                    <a:pt x="632" y="2312"/>
                    <a:pt x="396" y="2692"/>
                    <a:pt x="160" y="3072"/>
                  </a:cubicBezTo>
                </a:path>
              </a:pathLst>
            </a:custGeom>
            <a:noFill/>
            <a:ln w="41400">
              <a:solidFill>
                <a:srgbClr val="99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Slide Number Placeholder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0A26B-038E-4F30-A932-DA4681C53E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4"/>
          <p:cNvSpPr/>
          <p:nvPr/>
        </p:nvSpPr>
        <p:spPr>
          <a:xfrm>
            <a:off x="-304920" y="60480"/>
            <a:ext cx="9525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9900cc"/>
                </a:solidFill>
                <a:latin typeface="Times New Roman"/>
                <a:cs typeface="Times New Roman"/>
              </a:rPr>
              <a:t>خط مشی اخلاقی سازمان در قبال تأمین کنندگا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-990720" y="1127160"/>
            <a:ext cx="9753840" cy="68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lnSpc>
                <a:spcPct val="100000"/>
              </a:lnSpc>
              <a:spcBef>
                <a:spcPts val="2126"/>
              </a:spcBef>
              <a:buClr>
                <a:srgbClr val="0099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 نگرش مثبت و خیرخواهانه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2126"/>
              </a:spcBef>
              <a:buClr>
                <a:srgbClr val="0099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 مواجهه صادقانه، صریح و توأم با احترام اصیل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2126"/>
              </a:spcBef>
              <a:buClr>
                <a:srgbClr val="0099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 پای بندی به تعهدات و پرداخت به موقع مطالبات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2126"/>
              </a:spcBef>
              <a:buClr>
                <a:srgbClr val="0099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 حفظ حریم شخصی و حقوق مالکیت معنوی و فکری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2126"/>
              </a:spcBef>
              <a:buClr>
                <a:srgbClr val="0099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 رازداری و امانت داری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2126"/>
              </a:spcBef>
              <a:buClr>
                <a:srgbClr val="0099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 اجتناب از ضرر رساندن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2126"/>
              </a:spcBef>
              <a:buClr>
                <a:srgbClr val="0099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 جبران خسارت ناشی از عملکرد سازمان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D055B-5F4D-47D1-8A85-2152FEAE09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4"/>
          <p:cNvSpPr/>
          <p:nvPr/>
        </p:nvSpPr>
        <p:spPr>
          <a:xfrm>
            <a:off x="152280" y="479520"/>
            <a:ext cx="8839440" cy="78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7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8</a:t>
            </a:r>
            <a:r>
              <a:rPr b="1" lang="fa-IR" sz="37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) پیش بینی پذیری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7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 </a:t>
            </a:r>
            <a:r>
              <a:rPr b="1" lang="fa-IR" sz="37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9</a:t>
            </a:r>
            <a:r>
              <a:rPr b="1" lang="fa-IR" sz="37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) نقدپذیری و پاسخگویی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7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10</a:t>
            </a:r>
            <a:r>
              <a:rPr b="1" lang="fa-IR" sz="37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) سرعت و سهولت در تعامل همراه با دقت و صحت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7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11</a:t>
            </a:r>
            <a:r>
              <a:rPr b="1" lang="fa-IR" sz="37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) اطلاع رسانی به موقع، دقیق و شفاف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7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12</a:t>
            </a:r>
            <a:r>
              <a:rPr b="1" lang="fa-IR" sz="37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) حمایت معنوی و وفاداری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7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13</a:t>
            </a:r>
            <a:r>
              <a:rPr b="1" lang="fa-IR" sz="37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) ارائه عادلانه فرصتها و پرهیز از هرگونه تبعیض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7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14</a:t>
            </a:r>
            <a:r>
              <a:rPr b="1" lang="fa-IR" sz="37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) ترویج اخلاق حرفه ای در تأمین کنندگان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94BB6-8962-40D1-995B-88B1278FFE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2" name=""/>
          <p:cNvGraphicFramePr/>
          <p:nvPr/>
        </p:nvGraphicFramePr>
        <p:xfrm>
          <a:off x="762120" y="52560"/>
          <a:ext cx="7696080" cy="6730920"/>
        </p:xfrm>
        <a:graphic>
          <a:graphicData uri="http://schemas.openxmlformats.org/drawingml/2006/table">
            <a:tbl>
              <a:tblPr/>
              <a:tblGrid>
                <a:gridCol w="6962760"/>
                <a:gridCol w="7333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333399"/>
                          </a:solidFill>
                          <a:latin typeface="Times New Roman"/>
                          <a:cs typeface="Times New Roman"/>
                        </a:rPr>
                        <a:t>وظايف اخلاقي هيات مدير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132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خلاق ورزي در زندگي شخص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خلاق ورزي در شغل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خلاق سازي آرمان واهداف سازمان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نظام مند كردن همه امور حرفه</a:t>
                      </a: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ي در سازمان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جهت گيري اخلاقي نظامهاي حرفه اي در </a:t>
                      </a: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سازما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رزيابي مستمر عملكرد اخلاقي </a:t>
                      </a: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سازما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مواجهه روشمند با معضلات اخلاقي (تشخيص مساله و حل آنها 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رويج ارزشهاي اخلاقي وآموزش اخلاق ورزي در</a:t>
                      </a: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سازما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وقوف بر تبعات اخلاقي تصميم هاي هيات مدير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دوين،</a:t>
                      </a: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ويب و اعلام منشور اخلاقي سازمان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نظارت بر پاي بندي استثنا ناپذير به منشور اخلاقي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بليغ اقدامهاي اخلاقي </a:t>
                      </a: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سازما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rtl="1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B4136-C3AF-405C-ABD7-B37F4BB5B9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4" name=""/>
          <p:cNvGraphicFramePr/>
          <p:nvPr/>
        </p:nvGraphicFramePr>
        <p:xfrm>
          <a:off x="762120" y="762120"/>
          <a:ext cx="7848360" cy="4636800"/>
        </p:xfrm>
        <a:graphic>
          <a:graphicData uri="http://schemas.openxmlformats.org/drawingml/2006/table">
            <a:tbl>
              <a:tblPr/>
              <a:tblGrid>
                <a:gridCol w="7259400"/>
                <a:gridCol w="588960"/>
              </a:tblGrid>
              <a:tr h="1655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ar-SA" sz="3200" spc="-1" strike="noStrike">
                          <a:solidFill>
                            <a:srgbClr val="ff0000"/>
                          </a:solidFill>
                          <a:latin typeface="Times New Roman"/>
                          <a:cs typeface="Times New Roman"/>
                        </a:rPr>
                        <a:t>آثار نظام</a:t>
                      </a:r>
                      <a:r>
                        <a:rPr b="1" i="1" lang="fa-IR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‌</a:t>
                      </a:r>
                      <a:r>
                        <a:rPr b="1" i="1" lang="ar-SA" sz="3200" spc="-1" strike="noStrike">
                          <a:solidFill>
                            <a:srgbClr val="ff0000"/>
                          </a:solidFill>
                          <a:latin typeface="Times New Roman"/>
                          <a:cs typeface="Times New Roman"/>
                        </a:rPr>
                        <a:t>مندسازي شو</a:t>
                      </a:r>
                      <a:r>
                        <a:rPr b="1" i="1" lang="fa-IR" sz="3200" spc="-1" strike="noStrike">
                          <a:solidFill>
                            <a:srgbClr val="ff0000"/>
                          </a:solidFill>
                          <a:latin typeface="Times New Roman"/>
                          <a:cs typeface="Times New Roman"/>
                        </a:rPr>
                        <a:t>ؤ</a:t>
                      </a:r>
                      <a:r>
                        <a:rPr b="1" i="1" lang="ar-SA" sz="3200" spc="-1" strike="noStrike">
                          <a:solidFill>
                            <a:srgbClr val="ff0000"/>
                          </a:solidFill>
                          <a:latin typeface="Times New Roman"/>
                          <a:cs typeface="Times New Roman"/>
                        </a:rPr>
                        <a:t>نات حرفه در بنگاه</a:t>
                      </a:r>
                      <a:r>
                        <a:rPr b="1" i="1" lang="ar-SA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524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333399"/>
                          </a:solidFill>
                          <a:latin typeface="Times New Roman"/>
                          <a:cs typeface="Times New Roman"/>
                        </a:rPr>
                        <a:t>منع تصميم هاي سليقه اي و تبعيض آميز و كاهش ظلم سازماني افزايش نرخ پيش بيني  پذيري سازمان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333399"/>
                          </a:solidFill>
                          <a:latin typeface="Times New Roman"/>
                          <a:cs typeface="Times New Roman"/>
                        </a:rPr>
                        <a:t>ايجاد و ترويج اعتماد راسخ ، پايدار و فراگير  محيط  به بنگا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333399"/>
                          </a:solidFill>
                          <a:latin typeface="Times New Roman"/>
                          <a:cs typeface="Times New Roman"/>
                        </a:rPr>
                        <a:t>تحقق شايسته سالاري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333399"/>
                          </a:solidFill>
                          <a:latin typeface="Times New Roman"/>
                          <a:cs typeface="Times New Roman"/>
                        </a:rPr>
                        <a:t>استقلال و مسئوليت  پذيري بخشها و مجموعه ها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333399"/>
                          </a:solidFill>
                          <a:latin typeface="Times New Roman"/>
                          <a:cs typeface="Times New Roman"/>
                        </a:rPr>
                        <a:t>زمينه سازي براي تحول در عين ثبات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333399"/>
                          </a:solidFill>
                          <a:latin typeface="Times New Roman"/>
                          <a:cs typeface="Times New Roman"/>
                        </a:rPr>
                        <a:t>تسهيل و تصحيح رابطه صف و ستاد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5" name="Text Box 13"/>
          <p:cNvSpPr/>
          <p:nvPr/>
        </p:nvSpPr>
        <p:spPr>
          <a:xfrm>
            <a:off x="7375680" y="5299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14"/>
          <p:cNvSpPr/>
          <p:nvPr/>
        </p:nvSpPr>
        <p:spPr>
          <a:xfrm>
            <a:off x="7162920" y="5638680"/>
            <a:ext cx="457200" cy="228600"/>
          </a:xfrm>
          <a:custGeom>
            <a:avLst/>
            <a:gdLst>
              <a:gd name="textAreaLeft" fmla="*/ 79920 w 457200"/>
              <a:gd name="textAreaRight" fmla="*/ 331560 w 4572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6600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15"/>
          <p:cNvSpPr/>
          <p:nvPr/>
        </p:nvSpPr>
        <p:spPr>
          <a:xfrm>
            <a:off x="1799280" y="5562720"/>
            <a:ext cx="638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لايل اخلاقي بودن نظام مندسازي 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ازما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3B44F-CF74-43B6-8B66-00B349D6FE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66cc">
                  <a:alpha val="30196"/>
                </a:srgbClr>
              </a:gs>
              <a:gs pos="50000">
                <a:srgbClr val="ffffff">
                  <a:alpha val="30196"/>
                </a:srgbClr>
              </a:gs>
              <a:gs pos="100000">
                <a:srgbClr val="ff66cc">
                  <a:alpha val="3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000" spc="-1" strike="noStrike">
                <a:solidFill>
                  <a:srgbClr val="000000"/>
                </a:solidFill>
                <a:latin typeface="Arial"/>
                <a:cs typeface="B Zar"/>
              </a:rPr>
              <a:t>احترام</a:t>
            </a:r>
            <a:r>
              <a:rPr b="0" lang="fa-IR" sz="6000" spc="-1" strike="noStrike">
                <a:solidFill>
                  <a:srgbClr val="000000"/>
                </a:solidFill>
                <a:latin typeface="Arial"/>
                <a:ea typeface="B Zar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B Zar"/>
              </a:rPr>
              <a:t>رفتاری که احساس ارزشمندی را به طرف مقابل منتقل می کند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B Zar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5"/>
          <p:cNvSpPr/>
          <p:nvPr/>
        </p:nvSpPr>
        <p:spPr>
          <a:xfrm>
            <a:off x="2666880" y="152280"/>
            <a:ext cx="914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800" spc="-1" strike="noStrike">
                <a:solidFill>
                  <a:srgbClr val="ff0000"/>
                </a:solidFill>
                <a:latin typeface="Arial"/>
              </a:rPr>
              <a:t>؟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6"/>
          <p:cNvSpPr/>
          <p:nvPr/>
        </p:nvSpPr>
        <p:spPr>
          <a:xfrm>
            <a:off x="1219320" y="3276720"/>
            <a:ext cx="7391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B Zar"/>
              </a:rPr>
              <a:t>خود داری از هر گونه تحقیر و خوار داشتن طرف مقاب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BB4AF-F2C3-489B-ABCA-659848BD5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nodeType="clickEffect" fill="hold">
                      <p:stCondLst>
                        <p:cond delay="0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5" dur="2000" fill="hold"/>
                                        <p:tgtEl>
                                          <p:spTgt spid="3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9" dur="1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66cc">
                  <a:alpha val="30196"/>
                </a:srgbClr>
              </a:gs>
              <a:gs pos="50000">
                <a:srgbClr val="ffffff">
                  <a:alpha val="30196"/>
                </a:srgbClr>
              </a:gs>
              <a:gs pos="100000">
                <a:srgbClr val="ff66cc">
                  <a:alpha val="3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ff6600"/>
                </a:solidFill>
                <a:latin typeface="Arial"/>
                <a:cs typeface="B Zar"/>
              </a:rPr>
              <a:t>امانت چیس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B Zar"/>
              </a:rPr>
              <a:t>چه اموری در دست ما امانت محسوب می شوند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5"/>
          <p:cNvSpPr/>
          <p:nvPr/>
        </p:nvSpPr>
        <p:spPr>
          <a:xfrm>
            <a:off x="2590920" y="0"/>
            <a:ext cx="914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800" spc="-1" strike="noStrike">
                <a:solidFill>
                  <a:srgbClr val="ff0000"/>
                </a:solidFill>
                <a:latin typeface="Arial"/>
              </a:rPr>
              <a:t>؟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6"/>
          <p:cNvSpPr/>
          <p:nvPr/>
        </p:nvSpPr>
        <p:spPr>
          <a:xfrm>
            <a:off x="8153280" y="2286000"/>
            <a:ext cx="304920" cy="3962520"/>
          </a:xfrm>
          <a:custGeom>
            <a:avLst/>
            <a:gdLst>
              <a:gd name="textAreaLeft" fmla="*/ 0 w 304920"/>
              <a:gd name="textAreaRight" fmla="*/ 110160 w 304920"/>
              <a:gd name="textAreaTop" fmla="*/ 103320 h 3962520"/>
              <a:gd name="textAreaBottom" fmla="*/ 385920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7"/>
          <p:cNvSpPr/>
          <p:nvPr/>
        </p:nvSpPr>
        <p:spPr>
          <a:xfrm>
            <a:off x="6095880" y="24526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B Zar"/>
              </a:rPr>
              <a:t>خودمان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Zar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8"/>
          <p:cNvSpPr/>
          <p:nvPr/>
        </p:nvSpPr>
        <p:spPr>
          <a:xfrm>
            <a:off x="5638680" y="2971800"/>
            <a:ext cx="2210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B Zar"/>
              </a:rPr>
              <a:t>امکانات سازمان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Zar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9"/>
          <p:cNvSpPr/>
          <p:nvPr/>
        </p:nvSpPr>
        <p:spPr>
          <a:xfrm>
            <a:off x="5410080" y="3429000"/>
            <a:ext cx="251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B Zar"/>
              </a:rPr>
              <a:t>اطلاعات سازمان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Zar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0"/>
          <p:cNvSpPr/>
          <p:nvPr/>
        </p:nvSpPr>
        <p:spPr>
          <a:xfrm>
            <a:off x="5943600" y="3886200"/>
            <a:ext cx="190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B Zar"/>
              </a:rPr>
              <a:t>برند سازما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1"/>
          <p:cNvSpPr/>
          <p:nvPr/>
        </p:nvSpPr>
        <p:spPr>
          <a:xfrm>
            <a:off x="6095880" y="426708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B Zar"/>
              </a:rPr>
              <a:t>سرمایه سازمان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Zar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2"/>
          <p:cNvSpPr/>
          <p:nvPr/>
        </p:nvSpPr>
        <p:spPr>
          <a:xfrm>
            <a:off x="6324480" y="464832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B Zar"/>
              </a:rPr>
              <a:t>مشتری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Zar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3"/>
          <p:cNvSpPr/>
          <p:nvPr/>
        </p:nvSpPr>
        <p:spPr>
          <a:xfrm>
            <a:off x="6324480" y="510552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B Zar"/>
              </a:rPr>
              <a:t>همکارا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Slide Number Placeholder 1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8311B-59BE-41A3-9BD4-19FA806DD7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0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6" dur="5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8" dur="2000" fill="hold"/>
                                        <p:tgtEl>
                                          <p:spTgt spid="3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4"/>
          <p:cNvSpPr/>
          <p:nvPr/>
        </p:nvSpPr>
        <p:spPr>
          <a:xfrm>
            <a:off x="5943600" y="1905120"/>
            <a:ext cx="327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9900cc"/>
                </a:solidFill>
                <a:latin typeface="Times New Roman"/>
                <a:cs typeface="Times New Roman"/>
              </a:rPr>
              <a:t>اخلاق حرفه ا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6019920" y="1219320"/>
            <a:ext cx="533160" cy="2286000"/>
          </a:xfrm>
          <a:custGeom>
            <a:avLst/>
            <a:gdLst>
              <a:gd name="textAreaLeft" fmla="*/ 0 w 533160"/>
              <a:gd name="textAreaRight" fmla="*/ 374040 w 533160"/>
              <a:gd name="textAreaTop" fmla="*/ 95040 h 2286000"/>
              <a:gd name="textAreaBottom" fmla="*/ 21909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889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12"/>
          <p:cNvGrpSpPr/>
          <p:nvPr/>
        </p:nvGrpSpPr>
        <p:grpSpPr>
          <a:xfrm>
            <a:off x="-533520" y="762120"/>
            <a:ext cx="5562360" cy="938880"/>
            <a:chOff x="-533520" y="762120"/>
            <a:chExt cx="5562360" cy="938880"/>
          </a:xfrm>
        </p:grpSpPr>
        <p:sp>
          <p:nvSpPr>
            <p:cNvPr id="141" name="Text Box 6"/>
            <p:cNvSpPr/>
            <p:nvPr/>
          </p:nvSpPr>
          <p:spPr>
            <a:xfrm>
              <a:off x="1981080" y="762120"/>
              <a:ext cx="3047760" cy="93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200" spc="-1" strike="noStrike">
                  <a:solidFill>
                    <a:srgbClr val="3366ff"/>
                  </a:solidFill>
                  <a:latin typeface="Times New Roman"/>
                  <a:cs typeface="Times New Roman"/>
                </a:rPr>
                <a:t>رهیافت مدیریت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200" spc="-1" strike="noStrike">
                  <a:solidFill>
                    <a:srgbClr val="3366ff"/>
                  </a:solidFill>
                  <a:latin typeface="Times New Roman"/>
                  <a:cs typeface="Times New Roman"/>
                </a:rPr>
                <a:t>منابع انسانی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AutoShape 7"/>
            <p:cNvSpPr/>
            <p:nvPr/>
          </p:nvSpPr>
          <p:spPr>
            <a:xfrm>
              <a:off x="1981080" y="914400"/>
              <a:ext cx="685800" cy="609480"/>
            </a:xfrm>
            <a:prstGeom prst="leftArrow">
              <a:avLst>
                <a:gd name="adj1" fmla="val 50000"/>
                <a:gd name="adj2" fmla="val 2813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8"/>
            <p:cNvSpPr/>
            <p:nvPr/>
          </p:nvSpPr>
          <p:spPr>
            <a:xfrm>
              <a:off x="-533520" y="930240"/>
              <a:ext cx="30477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3000" spc="-1" strike="noStrike">
                  <a:solidFill>
                    <a:srgbClr val="ff0000"/>
                  </a:solidFill>
                  <a:latin typeface="Times New Roman"/>
                  <a:cs typeface="Times New Roman"/>
                </a:rPr>
                <a:t>کارکنان اخلاقی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13"/>
          <p:cNvGrpSpPr/>
          <p:nvPr/>
        </p:nvGrpSpPr>
        <p:grpSpPr>
          <a:xfrm>
            <a:off x="-457200" y="3048120"/>
            <a:ext cx="5486400" cy="1128240"/>
            <a:chOff x="-457200" y="3048120"/>
            <a:chExt cx="5486400" cy="1128240"/>
          </a:xfrm>
        </p:grpSpPr>
        <p:sp>
          <p:nvSpPr>
            <p:cNvPr id="145" name="Text Box 9"/>
            <p:cNvSpPr/>
            <p:nvPr/>
          </p:nvSpPr>
          <p:spPr>
            <a:xfrm>
              <a:off x="1981080" y="3048120"/>
              <a:ext cx="3048120" cy="93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200" spc="-1" strike="noStrike">
                  <a:solidFill>
                    <a:srgbClr val="3366ff"/>
                  </a:solidFill>
                  <a:latin typeface="Times New Roman"/>
                  <a:cs typeface="Times New Roman"/>
                </a:rPr>
                <a:t>رهیافت مدیریت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200" spc="-1" strike="noStrike">
                  <a:solidFill>
                    <a:srgbClr val="3366ff"/>
                  </a:solidFill>
                  <a:latin typeface="Times New Roman"/>
                  <a:cs typeface="Times New Roman"/>
                </a:rPr>
                <a:t>راهبردی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10"/>
            <p:cNvSpPr/>
            <p:nvPr/>
          </p:nvSpPr>
          <p:spPr>
            <a:xfrm>
              <a:off x="2057400" y="3200400"/>
              <a:ext cx="533160" cy="6098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11"/>
            <p:cNvSpPr/>
            <p:nvPr/>
          </p:nvSpPr>
          <p:spPr>
            <a:xfrm>
              <a:off x="-457200" y="3168720"/>
              <a:ext cx="30477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3000" spc="-1" strike="noStrike">
                  <a:solidFill>
                    <a:srgbClr val="ff0000"/>
                  </a:solidFill>
                  <a:latin typeface="Times New Roman"/>
                  <a:cs typeface="Times New Roman"/>
                </a:rPr>
                <a:t>سازمان اخلاقی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Slide Number Placeholder 1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4490D-ED8D-4623-9A62-0D9680BFDC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Text Box 20" descr=""/>
          <p:cNvPicPr/>
          <p:nvPr/>
        </p:nvPicPr>
        <p:blipFill>
          <a:blip r:embed="rId1"/>
          <a:stretch/>
        </p:blipFill>
        <p:spPr>
          <a:xfrm>
            <a:off x="0" y="4973760"/>
            <a:ext cx="9144000" cy="1280880"/>
          </a:xfrm>
          <a:prstGeom prst="rect">
            <a:avLst/>
          </a:prstGeom>
          <a:ln w="0">
            <a:noFill/>
          </a:ln>
        </p:spPr>
      </p:pic>
      <p:sp>
        <p:nvSpPr>
          <p:cNvPr id="150" name="TextBox 13"/>
          <p:cNvSpPr/>
          <p:nvPr/>
        </p:nvSpPr>
        <p:spPr>
          <a:xfrm>
            <a:off x="4876920" y="914400"/>
            <a:ext cx="1066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99"/>
                </a:solidFill>
                <a:latin typeface="Arial"/>
              </a:rPr>
              <a:t>سنت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4"/>
          <p:cNvSpPr/>
          <p:nvPr/>
        </p:nvSpPr>
        <p:spPr>
          <a:xfrm>
            <a:off x="4876920" y="3200400"/>
            <a:ext cx="1066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99"/>
                </a:solidFill>
                <a:latin typeface="Arial"/>
              </a:rPr>
              <a:t>جدی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7"/>
          <p:cNvSpPr/>
          <p:nvPr/>
        </p:nvSpPr>
        <p:spPr>
          <a:xfrm>
            <a:off x="4267080" y="914400"/>
            <a:ext cx="685800" cy="609480"/>
          </a:xfrm>
          <a:prstGeom prst="leftArrow">
            <a:avLst>
              <a:gd name="adj1" fmla="val 50000"/>
              <a:gd name="adj2" fmla="val 281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4267080" y="3200400"/>
            <a:ext cx="685800" cy="609480"/>
          </a:xfrm>
          <a:prstGeom prst="leftArrow">
            <a:avLst>
              <a:gd name="adj1" fmla="val 50000"/>
              <a:gd name="adj2" fmla="val 281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66cc">
                  <a:alpha val="30196"/>
                </a:srgbClr>
              </a:gs>
              <a:gs pos="50000">
                <a:srgbClr val="ffffff">
                  <a:alpha val="30196"/>
                </a:srgbClr>
              </a:gs>
              <a:gs pos="100000">
                <a:srgbClr val="ff66cc">
                  <a:alpha val="3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ff6600"/>
                </a:solidFill>
                <a:latin typeface="Arial"/>
                <a:cs typeface="B Zar"/>
              </a:rPr>
              <a:t>امانت‌داری چیس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B Zar"/>
              </a:rPr>
              <a:t>حفظ و نگهداری بدون تصرف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2590920" y="0"/>
            <a:ext cx="914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800" spc="-1" strike="noStrike">
                <a:solidFill>
                  <a:srgbClr val="ff0000"/>
                </a:solidFill>
                <a:latin typeface="Arial"/>
              </a:rPr>
              <a:t>؟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6"/>
          <p:cNvSpPr/>
          <p:nvPr/>
        </p:nvSpPr>
        <p:spPr>
          <a:xfrm>
            <a:off x="3733920" y="259092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B Zar"/>
              </a:rPr>
              <a:t>تصرف درچارچوب مقررات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7"/>
          <p:cNvSpPr/>
          <p:nvPr/>
        </p:nvSpPr>
        <p:spPr>
          <a:xfrm>
            <a:off x="4800600" y="3581280"/>
            <a:ext cx="388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B Zar"/>
              </a:rPr>
              <a:t>تصرف در چارچوب توافق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8"/>
          <p:cNvSpPr/>
          <p:nvPr/>
        </p:nvSpPr>
        <p:spPr>
          <a:xfrm>
            <a:off x="2362320" y="5105520"/>
            <a:ext cx="44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Arial"/>
                <a:cs typeface="B Zar"/>
              </a:rPr>
              <a:t>تصرف بهینه = بهره ور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3B67E-C177-43A8-952D-EDA38E02C8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nodeType="clickEffect" fill="hold">
                      <p:stCondLst>
                        <p:cond delay="0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3" dur="50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5" dur="2000" fill="hold"/>
                                        <p:tgtEl>
                                          <p:spTgt spid="3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2" dur="1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3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Arial"/>
                <a:cs typeface="B Morvarid"/>
              </a:rPr>
              <a:t>عهدنامه اخلاقي انجمن كامپيوتر استراليا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B Morvarid"/>
              </a:rPr>
              <a:t>ACS </a:t>
            </a:r>
            <a:r>
              <a:rPr b="0" lang="fa-IR" sz="4000" spc="-1" strike="noStrike">
                <a:solidFill>
                  <a:srgbClr val="000000"/>
                </a:solidFill>
                <a:latin typeface="Arial"/>
                <a:ea typeface="B Morvarid"/>
              </a:rPr>
              <a:t>   1988</a:t>
            </a:r>
            <a:r>
              <a:rPr b="0" lang="fa-IR" sz="4000" spc="-1" strike="noStrike">
                <a:solidFill>
                  <a:srgbClr val="000000"/>
                </a:solidFill>
                <a:latin typeface="Arial"/>
                <a:ea typeface="B Morvarid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cs typeface="B Nazanin"/>
              </a:rPr>
              <a:t>من با مسئوليت پذيري شغلي وبدون هرگونه كوتاهي درمعامله با مشتريها،كارفرمايان، كارگران، دانشجويان وهيأت هاي عمومي مربوطه عمل خواهم كر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(الويتها) من به مصالح و منافع مشتريان، كارفرماها و كارمندانم و دانشجويان و هيات عمومي، خدمت خواهم كرد، چنين موضوعاتي از نظر الويت كمتر از اميال خودم يا همكارانم نيست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5859F-429A-4DE3-B354-83E4998CDA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nodeType="clickEffect" fill="hold">
                      <p:stCondLst>
                        <p:cond delay="0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2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179280" y="761760"/>
            <a:ext cx="896472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2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. (صلاحيت) من با شايستگي و پشتكار براي مشتريانم و كارفرما كار خواهم كر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3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. (صداقت ) من در نمايش مهارتها ، دانش ، خدمات و توليدات خودم صادق خواهم بود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4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. (پيامدهاي اجتماعي ) من براي پيش بردن كيفيت زندگي آنهايي كه تحت تاثير كار من هستند كوشش خواهم كرد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5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. (پيشرفت شغلي ) من توسعه خودم و همكارانم ، كارمندان، كارآموزان و دانشجويان را ترقي خواهم داد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6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. (تخصص حسابرسي ) من امور مربوط به مسائل حسابرسي را با تماميت و بدون عيب و نقص به متخصصين حسابرسي ارائه نموده و به اعضايشان احترام بيشتري خواهم گذاشت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CA9C4-EA8E-48E5-989B-499FDF644E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nodeType="clickEffect" fill="hold">
                      <p:stCondLst>
                        <p:cond delay="0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7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5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5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1" dur="5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78544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1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الويتها : من به منافع مشتريان و كار فرماها، كارمندان و شاگردان و جماعت و هيات هاي عمومي، خدمت خواهم كرد، چنين موضوعاتي از نظر الويت كمتر از اميال خودم يا همكارانم نيست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1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-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1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من براي حفظ كردن پيوستگي خدمات حسابرسي و جريان اطلاعات سپرده شده به من، خواهم كوشيد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2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1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من براي حفظ درستي و ايمني اطلاعات ديگران خواهم كوشيد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3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1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من به اصل مالكيت اطلاعات ديگران احترام خواهم گذاشت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4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1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من به مشتريان و كارفرماهايم درباره ي هر تضاد بالقوه منافع، بين مفهوم واگذاري و مشروعيت كار من يا ديگر نيازهاي پذيرفته شدۀ اجتماع سفارش خواهم كرد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D7F93-0706-4B47-81A2-354AC38D4E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nodeType="clickEffect" fill="hold">
                      <p:stCondLst>
                        <p:cond delay="0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611280" y="404280"/>
            <a:ext cx="820728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421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5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1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من مشتريان و كارفرماها را سريعا از هر تضاد منافع يا اعتراضات جدي كه با آن روبرو مي شوم و در ارتباط  با كارم مي باشد،آگاه خواهم كرد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2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صلاحي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Nazanin"/>
              </a:rPr>
              <a:t>من با شايستگي و سخت كوشي براي ارباب رجوع ها و كار فرماهايم ‘ كار خواهم كرد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1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2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من براي ايجاد محصولات و خدماتي كه با نيازهاي مالي و اجرايي مشتريان و كارفرماهايم رقابت كنند، خواهم كوشيد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2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2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من براي پول در خدمات و توليداتي كه تهيه كرده ام، ارزش قائل خواهم بود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3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2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من خودم را از استانداردهاي مناسب و عمل مطابق آن آگاه خواهم گذاشت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4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2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من از منافع اختصاصي كارفرماها و مشتريانم حمايت خواهم كرد و به آنها احترام خواهم گذاشت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FC7F9-E830-44D6-AC2D-BD332B8824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nodeType="clickEffect" fill="hold">
                      <p:stCondLst>
                        <p:cond delay="0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4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8" dur="5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2" dur="5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6" dur="500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0" dur="500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4" dur="500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8" dur="500"/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201240" y="404640"/>
            <a:ext cx="87138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5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2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 – من مسئوليت كار خودم را خواهم پذيرفت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580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6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2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- هروقت گمان كنم كه يك پروژه پيشنهاد شده به مصلحت آنها نيست، مشتريان و كارفرماهايم را مطلع خواهم كرد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580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7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2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 – من در صورت لزوم به منظور عملكرد حرفه اي، مافوق دستورالعمل خودم عمل خواهم كرد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580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3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 – صداقت 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580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00"/>
                </a:solidFill>
                <a:latin typeface="Arial"/>
                <a:cs typeface="B Nazanin"/>
              </a:rPr>
              <a:t>من در نمايش مهارتها، دانش، خدمات و محصولات صادق خواهم بود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580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1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3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 – من يك ارباب رجوع يا مشتري مستعد را در خصوص يك محصول يا خدمت ، عمداً گمراه نخواهم كرد 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580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2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3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 – مهارتها يا دانشم را بصورت بد و نامناسبي جلوه نخواهم كرد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580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3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 -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3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 – من نظراتي خواهم داد كه تا حد ممكن بي غرض و عيني هستند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580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4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 -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3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 – من براي پرورژه تحت كنترلم، واقع بينانه تخمين خواهم زد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580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5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3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 – من عقايد حرفه اي را كه مي دانم بر تجربيات علمي محدود بنا شده است، توصيف خواهم كرد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580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62E68-5E32-4294-A8C0-6888B9434B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nodeType="clickEffect" fill="hold">
                      <p:stCondLst>
                        <p:cond delay="0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5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9" dur="50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3" dur="500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4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7" dur="500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1" dur="500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5" dur="500"/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5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9" dur="50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3" dur="500"/>
                                        <p:tgtEl>
                                          <p:spTgt spid="3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6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7" dur="500"/>
                                        <p:tgtEl>
                                          <p:spTgt spid="3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1" dur="500"/>
                                        <p:tgtEl>
                                          <p:spTgt spid="3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685800" y="228240"/>
            <a:ext cx="77724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6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3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در جايي كه اعتبار لازم باشد، براي كار انجام شده توسط ديگران، اعتبار خواهم دا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5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4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پيامدهاي اجتماع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5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Nazanin"/>
              </a:rPr>
              <a:t>من براي پيشرفت كيفيت زندگي آنهايي كه تحت تاثير كار من هستند، كوشش خواهم كر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5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1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4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من سلامت و امنيت كساني را كه تحت تاثير كار من هستند،ترقي خواهم داد و محافظت خواهم كر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5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2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4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من به آسايش مردمي كه ممكن تحت تاثير كار من باشند توجه مي كنم و احترام خواهم گذاشت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5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3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4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من به كارمندانم احترام خواهم گذاشت و از رفتار غير منصفانه با آنها خودداري مي كن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5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4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4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من تلاش خواهم كرد كه احساسات آنهايي را كه تحت تاثير كار من هستند درك كنم و احترام لازم به آنها بگذارم، چه با احساسات موافق باشم چه نباش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1F196-9203-4D22-B184-2149887C86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nodeType="clickEffect" fill="hold">
                      <p:stCondLst>
                        <p:cond delay="0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1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1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10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10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8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10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10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9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10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10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9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1000" fill="hold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1000" fill="hold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0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1000" fill="hold"/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1000" fill="hold"/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0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1000" fill="hold"/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1000" fill="hold"/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64216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5</a:t>
            </a: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4</a:t>
            </a: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 – من كوشش خواهم كرد كه احساس رضايت شخصي، صلاحيت وكنترل آنهايي را كه تحت تاثير كار من هستند، افزايش ده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6</a:t>
            </a: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4</a:t>
            </a: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 – من به تحت نفوذ قرار دادن كسي براي انجام عملي كه مستلزم نقص اين مرامنامه است، نياز نخواهم داشت يا سعي نخواهم كر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5</a:t>
            </a: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 – توسعه ي شغل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cs typeface="B Nazanin"/>
              </a:rPr>
              <a:t>من توسعه شغلي خودم و همكارانم و كارمندانم و شاگردانم را ارتقاء خواهم داد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1-5</a:t>
            </a: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- من به بالا بردن سطح دانش و مهارتهايم ادامه خواهم دا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C6E76-4E35-4933-B9AA-DE0BAEFA39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nodeType="clickEffect" fill="hold">
                      <p:stCondLst>
                        <p:cond delay="0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6" dur="10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20" dur="100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24" dur="1000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2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28" dur="1000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3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32" dur="1000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685800" y="404280"/>
            <a:ext cx="77724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2-5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- من آگاهي‌هاي خود را ازموضوعات موثر بر حرفه حسابرسي و ارتباط آن با انجمن افزايش خواهم دا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3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3-5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- من همكارانم كارمندان و شاگردان به ادامه توسعه شغلي خودشان، تشويق خواهم كر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3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6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- تخصص حسابرسي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3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Nazanin"/>
              </a:rPr>
              <a:t>من وجدان حرفه اي، حرفه حسابرسي واحترام گذاشتن به اعضايش را ارتقاء خواهم دا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3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1-6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- من در موقع لزوم، عقايد حرفه اي همكاران در زمينه كارايي، جستجو خواهم كرد و به آنها احترام خواهم گذاشت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3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2-6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- من عمداً دست به كارهاي نادرست و نامشروع نخواهم زد يا با آنها در ارتباط نخواهم بو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3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3-6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- من براي ارتقاء شهرت خودم با خرج آبروي ديگران  تلاش نمي كن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09BEB-96A0-4EB2-9C52-AE4C9388B1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nodeType="clickEffect" fill="hold">
                      <p:stCondLst>
                        <p:cond delay="0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1" dur="10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7" dur="10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3" dur="1000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9" dur="1000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6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5" dur="1000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1" dur="1000"/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7" dur="1000"/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0" y="404280"/>
            <a:ext cx="8820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4-6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- درجلو بردن پردازش اطلاعات توسط ارتباط با ديگر حرفه اي ها، شاگردان و عموم، و با شركت كردن در كوشش هاي حرفه اي و جوامع علمي و مدارس، همكاري خواهم كر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5-6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- من از كسي كه عضويت در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B Nazanin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به دليل رفتار غير اخلاقي يا كردار ناخوشايند منقضي شده باشد، اطلاعات كارتخصصي خودم را پنهان مي كن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6-6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- اگر دريابم كه يك عضو يا شخصي توانسته است با دست زدن به رفتار غيراخلاقي يك عضو بالقوه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S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باشد، من عمل مناسب را انجام خواهم دا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7-6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- هر وقت با يك مسئله دشوار اخلاقي روبرو شدم كه قادر نباشم خودم حل كنم، نكته وپند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B Nazanin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B Nazanin"/>
              </a:rPr>
              <a:t>از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B Nazanin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را جستجو خواهم كر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8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6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براي مطمئن شدن به اينكه اعمال هماهنگ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S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مطابق با اين مرامنامه هستند،آنچه مي توانم انجام خواهم داد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9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6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من اذعان دارم به تعهد خودم نسبت به حرفه ي حسابرسي، تخصص گرايي را در محاسبات حمايت كرده و آن را ارتقاء خواهم داد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2E9BB-E4F3-4973-A915-04AB82BFC1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nodeType="clickEffect" fill="hold">
                      <p:stCondLst>
                        <p:cond delay="0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4" dur="10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9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100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9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10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9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1000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9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2" dur="1000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90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9" dur="1000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900" fill="hold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4"/>
          <p:cNvSpPr/>
          <p:nvPr/>
        </p:nvSpPr>
        <p:spPr>
          <a:xfrm>
            <a:off x="1295280" y="1538280"/>
            <a:ext cx="6782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333399"/>
                </a:solidFill>
                <a:latin typeface="Times New Roman"/>
                <a:cs typeface="B Nikoo"/>
              </a:rPr>
              <a:t>اخلاقی بودن سازمان در گر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3657600" y="4648320"/>
            <a:ext cx="5029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9900cc"/>
                </a:solidFill>
                <a:latin typeface="Times New Roman"/>
                <a:ea typeface="B Bardiya"/>
              </a:rPr>
              <a:t>4</a:t>
            </a:r>
            <a:r>
              <a:rPr b="1" lang="fa-IR" sz="3000" spc="-1" strike="noStrike">
                <a:solidFill>
                  <a:srgbClr val="9900cc"/>
                </a:solidFill>
                <a:latin typeface="Times New Roman"/>
                <a:ea typeface="B Bardiya"/>
              </a:rPr>
              <a:t>) مهارتهای رفتار ارتباط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3352680" y="3962520"/>
            <a:ext cx="5334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9900cc"/>
                </a:solidFill>
                <a:latin typeface="Times New Roman"/>
                <a:ea typeface="B Bardiya"/>
              </a:rPr>
              <a:t>3</a:t>
            </a:r>
            <a:r>
              <a:rPr b="1" lang="fa-IR" sz="3000" spc="-1" strike="noStrike">
                <a:solidFill>
                  <a:srgbClr val="9900cc"/>
                </a:solidFill>
                <a:latin typeface="Times New Roman"/>
                <a:ea typeface="B Bardiya"/>
              </a:rPr>
              <a:t>) انگیزش درونی (خود انگیختگی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295280" y="3255840"/>
            <a:ext cx="7391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9900cc"/>
                </a:solidFill>
                <a:latin typeface="Times New Roman"/>
                <a:ea typeface="B Bardiya"/>
              </a:rPr>
              <a:t>2</a:t>
            </a:r>
            <a:r>
              <a:rPr b="1" lang="fa-IR" sz="3000" spc="-1" strike="noStrike">
                <a:solidFill>
                  <a:srgbClr val="9900cc"/>
                </a:solidFill>
                <a:latin typeface="Times New Roman"/>
                <a:ea typeface="B Bardiya"/>
              </a:rPr>
              <a:t>) دانش اخلاق سازمانی (سند جامع اخلاق سازمان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FBF75-C5B5-4C14-B338-7004B4A7BC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Text Box 15" descr=""/>
          <p:cNvPicPr/>
          <p:nvPr/>
        </p:nvPicPr>
        <p:blipFill>
          <a:blip r:embed="rId1"/>
          <a:stretch/>
        </p:blipFill>
        <p:spPr>
          <a:xfrm>
            <a:off x="-79200" y="195120"/>
            <a:ext cx="9381960" cy="1316160"/>
          </a:xfrm>
          <a:prstGeom prst="rect">
            <a:avLst/>
          </a:prstGeom>
          <a:ln w="0">
            <a:noFill/>
          </a:ln>
        </p:spPr>
      </p:pic>
      <p:sp>
        <p:nvSpPr>
          <p:cNvPr id="160" name="TextBox 10"/>
          <p:cNvSpPr/>
          <p:nvPr/>
        </p:nvSpPr>
        <p:spPr>
          <a:xfrm>
            <a:off x="4267080" y="2646360"/>
            <a:ext cx="4419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9900cc"/>
                </a:solidFill>
                <a:latin typeface="Arial"/>
                <a:ea typeface="B Bardiya"/>
              </a:rPr>
              <a:t>1) </a:t>
            </a:r>
            <a:r>
              <a:rPr b="1" lang="fa-IR" sz="3000" spc="-1" strike="noStrike">
                <a:solidFill>
                  <a:srgbClr val="9900cc"/>
                </a:solidFill>
                <a:latin typeface="Arial"/>
                <a:cs typeface="B Bardiya"/>
              </a:rPr>
              <a:t>تلقی اخلاقی از محیط</a:t>
            </a:r>
            <a:r>
              <a:rPr b="1" lang="fa-IR" sz="3000" spc="-1" strike="noStrike">
                <a:solidFill>
                  <a:srgbClr val="9900cc"/>
                </a:solidFill>
                <a:latin typeface="Arial"/>
                <a:ea typeface="B Bardiy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3581280" y="5237280"/>
            <a:ext cx="5029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9900cc"/>
                </a:solidFill>
                <a:latin typeface="Times New Roman"/>
                <a:ea typeface="B Bardiya"/>
              </a:rPr>
              <a:t>5</a:t>
            </a:r>
            <a:r>
              <a:rPr b="1" lang="fa-IR" sz="3000" spc="-1" strike="noStrike">
                <a:solidFill>
                  <a:srgbClr val="9900cc"/>
                </a:solidFill>
                <a:latin typeface="Times New Roman"/>
                <a:ea typeface="B Bardiya"/>
              </a:rPr>
              <a:t>) بهینه سازی زیرساخت‌ها و فراینده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3581280" y="5770440"/>
            <a:ext cx="5029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9900cc"/>
                </a:solidFill>
                <a:latin typeface="Times New Roman"/>
                <a:ea typeface="B Bardiya"/>
              </a:rPr>
              <a:t>6</a:t>
            </a:r>
            <a:r>
              <a:rPr b="1" lang="fa-IR" sz="3000" spc="-1" strike="noStrike">
                <a:solidFill>
                  <a:srgbClr val="9900cc"/>
                </a:solidFill>
                <a:latin typeface="Times New Roman"/>
                <a:ea typeface="B Bardiya"/>
              </a:rPr>
              <a:t>) حمایت الزام قانونی از اخلا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500" spc="-1" strike="noStrike">
                <a:solidFill>
                  <a:srgbClr val="000000"/>
                </a:solidFill>
                <a:latin typeface="Arial"/>
                <a:cs typeface="B Morvarid"/>
              </a:rPr>
              <a:t>آيين نامه ي اخلاقي انستيتوي مهندسان برق و الكترونيك (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</a:t>
            </a:r>
            <a:r>
              <a:rPr b="1" lang="fa-IR" sz="3500" spc="-1" strike="noStrike">
                <a:solidFill>
                  <a:srgbClr val="000000"/>
                </a:solidFill>
                <a:latin typeface="Arial"/>
                <a:ea typeface="B Morvarid"/>
              </a:rPr>
              <a:t>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08000" y="1828800"/>
            <a:ext cx="9036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ما اعضا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B Lotus"/>
              </a:rPr>
              <a:t>IEE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Lotus"/>
              </a:rPr>
              <a:t>‘ با دانستن اهميت تكنولوژي خود در تاثير گذاري بر كيفيت زندگي در سراسر جهان ‘ و با قبول تعهد شخصي نسبت به حرفه خود، اعضاي آن و جوامعي كه به آنها خدمت مي كنيم، بدين وسيله خود را عاليترين رفتار اخلاقي و حرفه اي ملزم مي دانيم و مي پذيريم ك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در اتخاذ تصميم‌هاي مهندسي مطابق با ايمني، سلامت و رفاه عموم مسئوليت قبول كنيم و عواملي را كه ممكن است جامعه يا محيط را به خطر بيفكند فوراً مرتفع كنيم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هر جا كه ممكن باشد از تعارض واقعي يا فرضي مناقع اجتناب كنيم و در صورت وجود چنين تعارضي مانع تاثير آن بر طرفهاي ذي ربط شويم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6A00C-A343-4EB2-9438-5CD07462B3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023" dur="indefinite" restart="never" nodeType="tmRoot">
          <p:childTnLst>
            <p:seq>
              <p:cTn id="1024" dur="indefinite" nodeType="mainSeq">
                <p:childTnLst>
                  <p:par>
                    <p:cTn id="1025" nodeType="clickEffect" fill="hold">
                      <p:stCondLst>
                        <p:cond delay="0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9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7" dur="10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3" dur="10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9" dur="100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611280" y="333000"/>
            <a:ext cx="835344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Arial"/>
                <a:cs typeface="B Nazanin"/>
              </a:rPr>
              <a:t>در بيان ادعاها يا برآوردها، بر اساس داده هاي موجود، صادق و واقع بين باشي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Arial"/>
                <a:cs typeface="B Nazanin"/>
              </a:rPr>
              <a:t>ارتشاء را در تمام شكلهايش نفي كني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Arial"/>
                <a:cs typeface="B Nazanin"/>
              </a:rPr>
              <a:t>دانش فني، كاربرد ضروري آن و پيامدهاي بالقوه اش را بهبود ببخشي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Arial"/>
                <a:cs typeface="B Nazanin"/>
              </a:rPr>
              <a:t>صلاحيت فني خود را پاس داريم و ارتقاء دهيم و صرفا در صورت احراز تعليمات با تجارب، يا پس از رفع محدوديتهاي مقتضي، و ظايف تكنولوژيكي را بر عهده بگيري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Arial"/>
                <a:cs typeface="B Nazanin"/>
              </a:rPr>
              <a:t>جو يا پذيرا و ارائه كننده نقد صادقانه از كار فني باشيم، خطاها را بپذيريم و اصلاح كنيم، و براي نقش ديگران اعتبار شايسته قايل شوي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Arial"/>
                <a:cs typeface="B Nazanin"/>
              </a:rPr>
              <a:t>با همه ، صرف نظر از عواملي چون نژاد، مذهب، جنسيت، معلوليت، سن و سال، يا مليت با عدالت رفتار كني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Arial"/>
                <a:cs typeface="B Nazanin"/>
              </a:rPr>
              <a:t>از لطمه زدن به ديگران، اموال، شهرت و آبرو يا اشتغال آنها با اقدام‌هاي كاذب يا بدخواهانه خودداري كني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Arial"/>
                <a:cs typeface="B Nazanin"/>
              </a:rPr>
              <a:t>به همتايان و همكاران در رشد حرفه اي آنها ياري برسانيم و از آنها در پيروي از اين آيين نامه اخلاقي حمايت كني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50002-7C6C-4AEE-A859-AD3C7AEBEE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050" dur="indefinite" restart="never" nodeType="tmRoot">
          <p:childTnLst>
            <p:seq>
              <p:cTn id="1051" dur="indefinite" nodeType="mainSeq">
                <p:childTnLst>
                  <p:par>
                    <p:cTn id="1052" nodeType="clickEffect" fill="hold">
                      <p:stCondLst>
                        <p:cond delay="0"/>
                      </p:stCondLst>
                      <p:childTnLst>
                        <p:par>
                          <p:cTn id="10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9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6" dur="5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3" dur="5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0" dur="500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4" dur="500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1" dur="500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0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8" dur="500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107640" y="609120"/>
            <a:ext cx="889308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r" rtl="1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500" spc="-1" strike="noStrike">
                <a:solidFill>
                  <a:srgbClr val="000000"/>
                </a:solidFill>
                <a:latin typeface="Arial"/>
                <a:cs typeface="B Nazanin"/>
              </a:rPr>
              <a:t>ما معتقديم كه در وهله اول در برابر پزشكان، پرستاران، بيمارستانها، مادران و همه كساني كه فراورده هاي ما را مصرف مي كنند مسئول هستيم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500" spc="-1" strike="noStrike">
                <a:solidFill>
                  <a:srgbClr val="000000"/>
                </a:solidFill>
                <a:latin typeface="Arial"/>
                <a:cs typeface="B Nazanin"/>
              </a:rPr>
              <a:t>فراورده هاي ما همواره بايد مرغوبترين كيفيت را داشته باشد 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500" spc="-1" strike="noStrike">
                <a:solidFill>
                  <a:srgbClr val="000000"/>
                </a:solidFill>
                <a:latin typeface="Arial"/>
                <a:cs typeface="B Nazanin"/>
              </a:rPr>
              <a:t>ما بايد همواره بكوشيم كه قيمت اين فراورد ه ها را پايين بياوريم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500" spc="-1" strike="noStrike">
                <a:solidFill>
                  <a:srgbClr val="000000"/>
                </a:solidFill>
                <a:latin typeface="Arial"/>
                <a:cs typeface="B Nazanin"/>
              </a:rPr>
              <a:t>سفارشات بايد به فوريت و با دقت آماده شوند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500" spc="-1" strike="noStrike">
                <a:solidFill>
                  <a:srgbClr val="000000"/>
                </a:solidFill>
                <a:latin typeface="Arial"/>
                <a:cs typeface="B Nazanin"/>
              </a:rPr>
              <a:t>در وهله دوم، خود را در برابر كساني كه با ما كار مي كنند، مسئول مي دانيم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500" spc="-1" strike="noStrike">
                <a:solidFill>
                  <a:srgbClr val="000000"/>
                </a:solidFill>
                <a:latin typeface="Arial"/>
                <a:cs typeface="B Nazanin"/>
              </a:rPr>
              <a:t>مردان و زناني كه در كارخانه ها و دفاتر با ما همكاري مي‌كنند بايد از نظر شغلي احساس امنيت كنند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500" spc="-1" strike="noStrike">
                <a:solidFill>
                  <a:srgbClr val="000000"/>
                </a:solidFill>
                <a:latin typeface="Arial"/>
                <a:cs typeface="B Nazanin"/>
              </a:rPr>
              <a:t>دستمزدها بايد عادلانه و كافي باشد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500" spc="-1" strike="noStrike">
                <a:solidFill>
                  <a:srgbClr val="000000"/>
                </a:solidFill>
                <a:latin typeface="Arial"/>
                <a:cs typeface="B Nazanin"/>
              </a:rPr>
              <a:t>مديران آنها بايد منصف باشند. ساعات كار ‌آنها معقول، و محيط كار آنها تميز و منظم باشند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500" spc="-1" strike="noStrike">
                <a:solidFill>
                  <a:srgbClr val="000000"/>
                </a:solidFill>
                <a:latin typeface="Arial"/>
                <a:cs typeface="B Nazanin"/>
              </a:rPr>
              <a:t>به شكايات و پيشنهادهاي كاركنان بايد به طور سازمان يافته رسيدگي شود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500" spc="-1" strike="noStrike">
                <a:solidFill>
                  <a:srgbClr val="000000"/>
                </a:solidFill>
                <a:latin typeface="Arial"/>
                <a:cs typeface="B Nazanin"/>
              </a:rPr>
              <a:t>سرپرستان و روساي دواير بايد ورزيده و بي غرض باشند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500" spc="-1" strike="noStrike">
                <a:solidFill>
                  <a:srgbClr val="000000"/>
                </a:solidFill>
                <a:latin typeface="Arial"/>
                <a:cs typeface="B Nazanin"/>
              </a:rPr>
              <a:t>براي هر كس كه لياقت داشته باشد بايد فرصت پيشرفت فراهم باشد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500" spc="-1" strike="noStrike">
                <a:solidFill>
                  <a:srgbClr val="000000"/>
                </a:solidFill>
                <a:latin typeface="Arial"/>
                <a:cs typeface="B Nazanin"/>
              </a:rPr>
              <a:t>و با اشخاص بايد به صورت فردي عمل شود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500" spc="-1" strike="noStrike">
                <a:solidFill>
                  <a:srgbClr val="000000"/>
                </a:solidFill>
                <a:latin typeface="Arial"/>
                <a:cs typeface="B Nazanin"/>
              </a:rPr>
              <a:t>در وهله سوم خود را در برابر مديرانمان مسئول مي دانيم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500" spc="-1" strike="noStrike">
                <a:solidFill>
                  <a:srgbClr val="000000"/>
                </a:solidFill>
                <a:latin typeface="Arial"/>
                <a:ea typeface="B Nazani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4"/>
          <p:cNvSpPr/>
          <p:nvPr/>
        </p:nvSpPr>
        <p:spPr>
          <a:xfrm>
            <a:off x="1258920" y="115920"/>
            <a:ext cx="6697800" cy="5205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B Morvarid"/>
              </a:rPr>
              <a:t>مرامنامه شرکت جانسن اند جانس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FF300-1544-49D3-8CEF-2AB385526C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109" dur="indefinite" restart="never" nodeType="tmRoot">
          <p:childTnLst>
            <p:seq>
              <p:cTn id="1110" dur="indefinite" nodeType="mainSeq">
                <p:childTnLst>
                  <p:par>
                    <p:cTn id="1111" nodeType="clickEffect" fill="hold">
                      <p:stCondLst>
                        <p:cond delay="0"/>
                      </p:stCondLst>
                      <p:childTnLst>
                        <p:par>
                          <p:cTn id="1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5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1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5" dur="5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9" dur="500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3" dur="500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7" dur="500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1" dur="500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4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5" dur="500"/>
                                        <p:tgtEl>
                                          <p:spTgt spid="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9" dur="500"/>
                                        <p:tgtEl>
                                          <p:spTgt spid="4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3" dur="500"/>
                                        <p:tgtEl>
                                          <p:spTgt spid="4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5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7" dur="500"/>
                                        <p:tgtEl>
                                          <p:spTgt spid="4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5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1" dur="500"/>
                                        <p:tgtEl>
                                          <p:spTgt spid="4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6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5" dur="500"/>
                                        <p:tgtEl>
                                          <p:spTgt spid="4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16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9" dur="500"/>
                                        <p:tgtEl>
                                          <p:spTgt spid="4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7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3" dur="500"/>
                                        <p:tgtEl>
                                          <p:spTgt spid="4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395280" y="304920"/>
            <a:ext cx="835344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r" rtl="1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مديران ما بايد افرادي شايسته، مجرب و توانا باشند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آنها بايد از شعور متعارف و درك كامل بهره مند باشند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در مرحله بعد خود را در برابر جوامعي كه در آنها زندگي مي كنيم مسئول مي دانيم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ما بايد حمايت از نيكوكاري و نوعدوستي، شهروندان خوب جامعه باشيم و سهم خود را از ماليات عادلانه بپردازيم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بايد به شكرانه در اختيار داشتن اموال و ابزار، از آنها به خوبي مواظبت كنيم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بايد در ارتقاء و بهبود جامعه مدني، بهداشت، آموزش و دولت خوب، سهيم و شريك باشيم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و جامعه را از فعاليتهاي خود آگاه كنيم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پنجمين و آخرين مسئوليت ما، نسبت به سهامداران شركت است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سود شركت بايد چشمگير باشد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ما بايد اندوخته داشته باشيم و بايد كار پژوهش دنبال شود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برنامه هاي تكاپو جويانه تنظيم شود و تاوان خطاها پرداخت شود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بايد فكر زمان مبادا باشيم، مالياتها را بپردازيم، دستگاههاي جديد براي فروش تدارك كني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بايد افكار نو را به محك تجربه بيازمائيم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وقتي اين كار ها انجام شود، سهماداران نيز از حق عادلانه خود برخوردار خواهند شد، ما متكي به خداوند بزرگ هستيم تا به ياري او اين وظايف و تعهدات را به بهترين صورت انجام دهي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ea typeface="B Nazani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181CE-B676-4094-9849-EDDC1802A4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174" dur="indefinite" restart="never" nodeType="tmRoot">
          <p:childTnLst>
            <p:seq>
              <p:cTn id="1175" dur="indefinite" nodeType="mainSeq">
                <p:childTnLst>
                  <p:par>
                    <p:cTn id="1176" nodeType="clickEffect" fill="hold">
                      <p:stCondLst>
                        <p:cond delay="0"/>
                      </p:stCondLst>
                      <p:childTnLst>
                        <p:par>
                          <p:cTn id="1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80" dur="5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84" dur="5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88" dur="50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92" dur="500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96" dur="500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00" dur="500"/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04" dur="500"/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0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08" dur="500"/>
                                        <p:tgtEl>
                                          <p:spTgt spid="4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12" dur="500"/>
                                        <p:tgtEl>
                                          <p:spTgt spid="4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16" dur="500"/>
                                        <p:tgtEl>
                                          <p:spTgt spid="4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1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20" dur="500"/>
                                        <p:tgtEl>
                                          <p:spTgt spid="4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22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24" dur="500"/>
                                        <p:tgtEl>
                                          <p:spTgt spid="4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2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28" dur="500"/>
                                        <p:tgtEl>
                                          <p:spTgt spid="4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23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32" dur="500"/>
                                        <p:tgtEl>
                                          <p:spTgt spid="4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3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36" dur="500"/>
                                        <p:tgtEl>
                                          <p:spTgt spid="4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6" descr="MC900439257.JPG"/>
          <p:cNvPicPr/>
          <p:nvPr/>
        </p:nvPicPr>
        <p:blipFill>
          <a:blip r:embed="rId1"/>
          <a:stretch/>
        </p:blipFill>
        <p:spPr>
          <a:xfrm>
            <a:off x="539640" y="0"/>
            <a:ext cx="7993080" cy="6858000"/>
          </a:xfrm>
          <a:prstGeom prst="rect">
            <a:avLst/>
          </a:prstGeom>
          <a:ln w="0">
            <a:noFill/>
          </a:ln>
        </p:spPr>
      </p:pic>
      <p:pic>
        <p:nvPicPr>
          <p:cNvPr id="406" name="TextBox 3" descr=""/>
          <p:cNvPicPr/>
          <p:nvPr/>
        </p:nvPicPr>
        <p:blipFill>
          <a:blip r:embed="rId2"/>
          <a:stretch/>
        </p:blipFill>
        <p:spPr>
          <a:xfrm>
            <a:off x="817560" y="3975120"/>
            <a:ext cx="7680240" cy="2674800"/>
          </a:xfrm>
          <a:prstGeom prst="rect">
            <a:avLst/>
          </a:prstGeom>
          <a:ln w="0">
            <a:noFill/>
          </a:ln>
        </p:spPr>
      </p:pic>
      <p:sp>
        <p:nvSpPr>
          <p:cNvPr id="407" name="TextBox 4"/>
          <p:cNvSpPr/>
          <p:nvPr/>
        </p:nvSpPr>
        <p:spPr>
          <a:xfrm>
            <a:off x="2627280" y="3338640"/>
            <a:ext cx="403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500" spc="-1" strike="noStrike">
                <a:solidFill>
                  <a:srgbClr val="000000"/>
                </a:solidFill>
                <a:latin typeface="Calibri"/>
                <a:cs typeface="B Baran"/>
              </a:rPr>
              <a:t>تلفکس: </a:t>
            </a:r>
            <a:r>
              <a:rPr b="0" lang="fa-IR" sz="4500" spc="-1" strike="noStrike">
                <a:solidFill>
                  <a:srgbClr val="000000"/>
                </a:solidFill>
                <a:latin typeface="Calibri"/>
                <a:ea typeface="B Baran"/>
              </a:rPr>
              <a:t>88756019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ounded Rectangular Callout 9"/>
          <p:cNvSpPr/>
          <p:nvPr/>
        </p:nvSpPr>
        <p:spPr>
          <a:xfrm>
            <a:off x="5364000" y="404640"/>
            <a:ext cx="2592720" cy="792360"/>
          </a:xfrm>
          <a:prstGeom prst="wedgeRoundRectCallout">
            <a:avLst>
              <a:gd name="adj1" fmla="val -49935"/>
              <a:gd name="adj2" fmla="val 68171"/>
              <a:gd name="adj3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Rectangle 8" descr=""/>
          <p:cNvPicPr/>
          <p:nvPr/>
        </p:nvPicPr>
        <p:blipFill>
          <a:blip r:embed="rId3"/>
          <a:stretch/>
        </p:blipFill>
        <p:spPr>
          <a:xfrm>
            <a:off x="4992840" y="152280"/>
            <a:ext cx="3359160" cy="15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7" dur="indefinite" restart="never" nodeType="tmRoot">
          <p:childTnLst>
            <p:seq>
              <p:cTn id="1238" dur="indefinite" nodeType="mainSeq">
                <p:childTnLst>
                  <p:par>
                    <p:cTn id="1239" nodeType="clickEffect" fill="hold">
                      <p:stCondLst>
                        <p:cond delay="0"/>
                      </p:stCondLst>
                      <p:childTnLst>
                        <p:par>
                          <p:cTn id="1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3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2"/>
          <p:cNvSpPr/>
          <p:nvPr/>
        </p:nvSpPr>
        <p:spPr>
          <a:xfrm>
            <a:off x="3276720" y="152280"/>
            <a:ext cx="273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f0000"/>
                </a:solidFill>
                <a:latin typeface="Times New Roman"/>
                <a:cs typeface="B Titr"/>
              </a:rPr>
              <a:t>معرفی مناب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3"/>
          <p:cNvSpPr/>
          <p:nvPr/>
        </p:nvSpPr>
        <p:spPr>
          <a:xfrm>
            <a:off x="684360" y="1066680"/>
            <a:ext cx="3498840" cy="51739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4" descr="scan0003"/>
          <p:cNvPicPr/>
          <p:nvPr/>
        </p:nvPicPr>
        <p:blipFill>
          <a:blip r:embed="rId2"/>
          <a:stretch/>
        </p:blipFill>
        <p:spPr>
          <a:xfrm>
            <a:off x="5076720" y="1066680"/>
            <a:ext cx="3527640" cy="5108760"/>
          </a:xfrm>
          <a:prstGeom prst="rect">
            <a:avLst/>
          </a:prstGeom>
          <a:ln w="0">
            <a:noFill/>
          </a:ln>
        </p:spPr>
      </p:pic>
      <p:sp>
        <p:nvSpPr>
          <p:cNvPr id="413" name="Text Box 5"/>
          <p:cNvSpPr/>
          <p:nvPr/>
        </p:nvSpPr>
        <p:spPr>
          <a:xfrm>
            <a:off x="1908000" y="6308640"/>
            <a:ext cx="58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  <a:cs typeface="Majiid Shaded Mazar"/>
              </a:rPr>
              <a:t>گروه پژوهش اخلاق حرفه ای دانشگاه تهرا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EC025-4EA8-4301-A3E9-4D2B485544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scan0017"/>
          <p:cNvPicPr/>
          <p:nvPr/>
        </p:nvPicPr>
        <p:blipFill>
          <a:blip r:embed="rId1"/>
          <a:stretch/>
        </p:blipFill>
        <p:spPr>
          <a:xfrm>
            <a:off x="835200" y="893880"/>
            <a:ext cx="3455640" cy="511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16" name="Picture 3" descr=""/>
          <p:cNvPicPr/>
          <p:nvPr/>
        </p:nvPicPr>
        <p:blipFill>
          <a:blip r:embed="rId2"/>
          <a:stretch/>
        </p:blipFill>
        <p:spPr>
          <a:xfrm>
            <a:off x="5092560" y="907920"/>
            <a:ext cx="3527640" cy="5113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17" name="Text Box 4"/>
          <p:cNvSpPr/>
          <p:nvPr/>
        </p:nvSpPr>
        <p:spPr>
          <a:xfrm>
            <a:off x="1908000" y="6308640"/>
            <a:ext cx="58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  <a:cs typeface="Majiid Shaded Mazar"/>
              </a:rPr>
              <a:t>گروه پژوهش اخلاق حرفه ای دانشگاه تهرا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2E734-6401-4571-A692-B7D40BBDC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2" descr=""/>
          <p:cNvPicPr/>
          <p:nvPr/>
        </p:nvPicPr>
        <p:blipFill>
          <a:blip r:embed="rId1"/>
          <a:stretch/>
        </p:blipFill>
        <p:spPr>
          <a:xfrm>
            <a:off x="971640" y="1052640"/>
            <a:ext cx="3514680" cy="4897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20" name="Picture 3" descr="Picture 004"/>
          <p:cNvPicPr/>
          <p:nvPr/>
        </p:nvPicPr>
        <p:blipFill>
          <a:blip r:embed="rId2"/>
          <a:stretch/>
        </p:blipFill>
        <p:spPr>
          <a:xfrm>
            <a:off x="5076720" y="1052640"/>
            <a:ext cx="3492720" cy="496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1" name="Text Box 4"/>
          <p:cNvSpPr/>
          <p:nvPr/>
        </p:nvSpPr>
        <p:spPr>
          <a:xfrm>
            <a:off x="1908000" y="6308640"/>
            <a:ext cx="58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  <a:cs typeface="Majiid Shaded Mazar"/>
              </a:rPr>
              <a:t>گروه پژوهش اخلاق حرفه ای دانشگاه تهرا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EA8F9-CF03-4274-9101-A73A516E2D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2" descr=""/>
          <p:cNvPicPr/>
          <p:nvPr/>
        </p:nvPicPr>
        <p:blipFill>
          <a:blip r:embed="rId1"/>
          <a:stretch/>
        </p:blipFill>
        <p:spPr>
          <a:xfrm>
            <a:off x="1128600" y="1066680"/>
            <a:ext cx="3384720" cy="496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24" name="Picture 3" descr="Picture 003"/>
          <p:cNvPicPr/>
          <p:nvPr/>
        </p:nvPicPr>
        <p:blipFill>
          <a:blip r:embed="rId2"/>
          <a:stretch/>
        </p:blipFill>
        <p:spPr>
          <a:xfrm>
            <a:off x="5160960" y="1050840"/>
            <a:ext cx="3191040" cy="4897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5" name="Text Box 4"/>
          <p:cNvSpPr/>
          <p:nvPr/>
        </p:nvSpPr>
        <p:spPr>
          <a:xfrm>
            <a:off x="1908000" y="6308640"/>
            <a:ext cx="58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  <a:cs typeface="Majiid Shaded Mazar"/>
              </a:rPr>
              <a:t>گروه پژوهش اخلاق حرفه ای دانشگاه تهرا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F4470-F6A1-401A-825D-16753EDFF2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4" descr="Picture"/>
          <p:cNvPicPr/>
          <p:nvPr/>
        </p:nvPicPr>
        <p:blipFill>
          <a:blip r:embed="rId1"/>
          <a:stretch/>
        </p:blipFill>
        <p:spPr>
          <a:xfrm>
            <a:off x="5257800" y="1341360"/>
            <a:ext cx="3129120" cy="452592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6" descr="hamayesh-akhlaqhherfei"/>
          <p:cNvPicPr/>
          <p:nvPr/>
        </p:nvPicPr>
        <p:blipFill>
          <a:blip r:embed="rId2"/>
          <a:stretch/>
        </p:blipFill>
        <p:spPr>
          <a:xfrm>
            <a:off x="914400" y="1371600"/>
            <a:ext cx="3201840" cy="4525920"/>
          </a:xfrm>
          <a:prstGeom prst="rect">
            <a:avLst/>
          </a:prstGeom>
          <a:ln w="0">
            <a:noFill/>
          </a:ln>
        </p:spPr>
      </p:pic>
      <p:sp>
        <p:nvSpPr>
          <p:cNvPr id="42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5C307-B69F-42E1-9F9E-75A5443294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4"/>
          <p:cNvSpPr/>
          <p:nvPr/>
        </p:nvSpPr>
        <p:spPr>
          <a:xfrm>
            <a:off x="2286000" y="76320"/>
            <a:ext cx="4876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6600ff"/>
                </a:solidFill>
                <a:latin typeface="Times New Roman"/>
                <a:cs typeface="Times New Roman"/>
              </a:rPr>
              <a:t>مراحل اخلاقی ساز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-533520" y="1066680"/>
            <a:ext cx="9601200" cy="64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lnSpc>
                <a:spcPct val="100000"/>
              </a:lnSpc>
              <a:spcBef>
                <a:spcPts val="2251"/>
              </a:spcBef>
              <a:buClr>
                <a:srgbClr val="9900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  کمیته یا شورای اخلاق حرفه ای سازمان زیرنظر مستقیم رئیس سازما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2251"/>
              </a:spcBef>
              <a:buClr>
                <a:srgbClr val="9900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9900cc"/>
                </a:solidFill>
                <a:latin typeface="Times New Roman"/>
                <a:cs typeface="Times New Roman"/>
              </a:rPr>
              <a:t>تدوین سند جامع اخلاقی به روش مشارکت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2251"/>
              </a:spcBef>
              <a:buClr>
                <a:srgbClr val="9900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 تصویب سند جامع اخلاقی در بالاترین مرجع سازمان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2251"/>
              </a:spcBef>
              <a:buClr>
                <a:srgbClr val="9900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9900cc"/>
                </a:solidFill>
                <a:latin typeface="Times New Roman"/>
                <a:cs typeface="Times New Roman"/>
              </a:rPr>
              <a:t>آموزش روشمند و فراگی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2251"/>
              </a:spcBef>
              <a:buClr>
                <a:srgbClr val="9900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 نظارت بر حسن اجرای سند اخلاق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2251"/>
              </a:spcBef>
              <a:buClr>
                <a:srgbClr val="9900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 ارزیابی </a:t>
            </a:r>
            <a:r>
              <a:rPr b="1" lang="fa-IR" sz="36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360</a:t>
            </a:r>
            <a:r>
              <a:rPr b="1" lang="fa-IR" sz="36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 درجه اخلاق حرفه ای سازما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4A359-9573-4497-A9DF-DC6E7A8121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Arial"/>
              </a:rPr>
              <a:t>تعریف سند اخلاق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cs typeface="B Lotus"/>
              </a:rPr>
              <a:t>فراگیرترین بیانیه رسمی سازمان در تدوین مسئولیت‌های اخلاقی آن در قبال حقوق محیط درونی و بیرون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cs typeface="B Lotus"/>
              </a:rPr>
              <a:t>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cs typeface="B Lotus"/>
              </a:rPr>
              <a:t>وظایف اخلاقی منابع انسان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224CF-174B-45C6-AACE-4FBCE35B80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1523880" y="4572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ساختار سند جامع اخلاق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5334120" y="15238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1</a:t>
            </a:r>
            <a:r>
              <a:rPr b="1" lang="fa-IR" sz="36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مقدم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4114800" y="217800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2</a:t>
            </a:r>
            <a:r>
              <a:rPr b="1" lang="fa-IR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- اصول اخلاقی سازما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-380880" y="2895480"/>
            <a:ext cx="91440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3</a:t>
            </a:r>
            <a:r>
              <a:rPr b="1" lang="fa-IR" sz="36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منشور اخلاقی سازمان: خط مشی های اخلاقی سازما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9999"/>
                </a:solidFill>
                <a:latin typeface="Times New Roman"/>
                <a:cs typeface="Times New Roman"/>
              </a:rPr>
              <a:t>در قبال حقوق محیط درونی و بیرون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-152280" y="4572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4</a:t>
            </a:r>
            <a:r>
              <a:rPr b="1" lang="fa-IR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- عهدنامه های اخلاقی منابع انسانی (کارکنان و مدیران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58C16-8869-4F78-A67B-27FF660F53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3" descr="j0149481"/>
          <p:cNvPicPr/>
          <p:nvPr/>
        </p:nvPicPr>
        <p:blipFill>
          <a:blip r:embed="rId1"/>
          <a:stretch/>
        </p:blipFill>
        <p:spPr>
          <a:xfrm>
            <a:off x="5219640" y="1413000"/>
            <a:ext cx="3348000" cy="3402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f-dptos-invest"/>
          <p:cNvPicPr/>
          <p:nvPr/>
        </p:nvPicPr>
        <p:blipFill>
          <a:blip r:embed="rId2"/>
          <a:stretch/>
        </p:blipFill>
        <p:spPr>
          <a:xfrm>
            <a:off x="2971800" y="3962520"/>
            <a:ext cx="2332080" cy="2133360"/>
          </a:xfrm>
          <a:prstGeom prst="rect">
            <a:avLst/>
          </a:prstGeom>
          <a:ln w="0">
            <a:noFill/>
          </a:ln>
        </p:spPr>
      </p:pic>
      <p:grpSp>
        <p:nvGrpSpPr>
          <p:cNvPr id="177" name="Group 5"/>
          <p:cNvGrpSpPr/>
          <p:nvPr/>
        </p:nvGrpSpPr>
        <p:grpSpPr>
          <a:xfrm>
            <a:off x="4788000" y="404640"/>
            <a:ext cx="3959280" cy="1008360"/>
            <a:chOff x="4788000" y="404640"/>
            <a:chExt cx="3959280" cy="1008360"/>
          </a:xfrm>
        </p:grpSpPr>
        <p:sp>
          <p:nvSpPr>
            <p:cNvPr id="178" name="AutoShape 6"/>
            <p:cNvSpPr/>
            <p:nvPr/>
          </p:nvSpPr>
          <p:spPr>
            <a:xfrm>
              <a:off x="5076720" y="404640"/>
              <a:ext cx="3311640" cy="1008360"/>
            </a:xfrm>
            <a:prstGeom prst="downArrowCallout">
              <a:avLst>
                <a:gd name="adj1" fmla="val 82112"/>
                <a:gd name="adj2" fmla="val 82105"/>
                <a:gd name="adj3" fmla="val 16667"/>
                <a:gd name="adj4" fmla="val 6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7"/>
            <p:cNvSpPr/>
            <p:nvPr/>
          </p:nvSpPr>
          <p:spPr>
            <a:xfrm>
              <a:off x="4788000" y="476280"/>
              <a:ext cx="3959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عهد نامه اخلاقي فرد در حرف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8"/>
          <p:cNvGrpSpPr/>
          <p:nvPr/>
        </p:nvGrpSpPr>
        <p:grpSpPr>
          <a:xfrm>
            <a:off x="108000" y="2708280"/>
            <a:ext cx="3959280" cy="936720"/>
            <a:chOff x="108000" y="2708280"/>
            <a:chExt cx="3959280" cy="936720"/>
          </a:xfrm>
        </p:grpSpPr>
        <p:sp>
          <p:nvSpPr>
            <p:cNvPr id="181" name="AutoShape 9"/>
            <p:cNvSpPr/>
            <p:nvPr/>
          </p:nvSpPr>
          <p:spPr>
            <a:xfrm>
              <a:off x="539640" y="2708280"/>
              <a:ext cx="2952720" cy="936720"/>
            </a:xfrm>
            <a:prstGeom prst="upArrowCallout">
              <a:avLst>
                <a:gd name="adj1" fmla="val 78812"/>
                <a:gd name="adj2" fmla="val 78805"/>
                <a:gd name="adj3" fmla="val 16667"/>
                <a:gd name="adj4" fmla="val 6666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0"/>
            <p:cNvSpPr/>
            <p:nvPr/>
          </p:nvSpPr>
          <p:spPr>
            <a:xfrm>
              <a:off x="108000" y="3043080"/>
              <a:ext cx="395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منشور اخلاقي سازما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11"/>
          <p:cNvGrpSpPr/>
          <p:nvPr/>
        </p:nvGrpSpPr>
        <p:grpSpPr>
          <a:xfrm>
            <a:off x="5221440" y="5013360"/>
            <a:ext cx="3958920" cy="1224000"/>
            <a:chOff x="5221440" y="5013360"/>
            <a:chExt cx="3958920" cy="1224000"/>
          </a:xfrm>
        </p:grpSpPr>
        <p:sp>
          <p:nvSpPr>
            <p:cNvPr id="184" name="AutoShape 12"/>
            <p:cNvSpPr/>
            <p:nvPr/>
          </p:nvSpPr>
          <p:spPr>
            <a:xfrm rot="10800000">
              <a:off x="5724000" y="5013360"/>
              <a:ext cx="2808360" cy="1224000"/>
            </a:xfrm>
            <a:prstGeom prst="rightArrow">
              <a:avLst>
                <a:gd name="adj1" fmla="val 50000"/>
                <a:gd name="adj2" fmla="val 5736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13"/>
            <p:cNvSpPr/>
            <p:nvPr/>
          </p:nvSpPr>
          <p:spPr>
            <a:xfrm>
              <a:off x="5221440" y="5373720"/>
              <a:ext cx="39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اصول اخلاقي سازما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14"/>
          <p:cNvGrpSpPr/>
          <p:nvPr/>
        </p:nvGrpSpPr>
        <p:grpSpPr>
          <a:xfrm>
            <a:off x="250920" y="260280"/>
            <a:ext cx="3168720" cy="2349720"/>
            <a:chOff x="250920" y="260280"/>
            <a:chExt cx="3168720" cy="2349720"/>
          </a:xfrm>
        </p:grpSpPr>
        <p:grpSp>
          <p:nvGrpSpPr>
            <p:cNvPr id="187" name="Group 15"/>
            <p:cNvGrpSpPr/>
            <p:nvPr/>
          </p:nvGrpSpPr>
          <p:grpSpPr>
            <a:xfrm>
              <a:off x="250920" y="260280"/>
              <a:ext cx="3168720" cy="2349720"/>
              <a:chOff x="250920" y="260280"/>
              <a:chExt cx="3168720" cy="2349720"/>
            </a:xfrm>
          </p:grpSpPr>
          <p:grpSp>
            <p:nvGrpSpPr>
              <p:cNvPr id="188" name="Group 16"/>
              <p:cNvGrpSpPr/>
              <p:nvPr/>
            </p:nvGrpSpPr>
            <p:grpSpPr>
              <a:xfrm>
                <a:off x="250920" y="260280"/>
                <a:ext cx="3168720" cy="2349720"/>
                <a:chOff x="250920" y="260280"/>
                <a:chExt cx="3168720" cy="2349720"/>
              </a:xfrm>
            </p:grpSpPr>
            <p:sp>
              <p:nvSpPr>
                <p:cNvPr id="189" name="Freeform 17"/>
                <p:cNvSpPr/>
                <p:nvPr/>
              </p:nvSpPr>
              <p:spPr>
                <a:xfrm flipV="1">
                  <a:off x="250920" y="853200"/>
                  <a:ext cx="1050480" cy="969120"/>
                </a:xfrm>
                <a:custGeom>
                  <a:avLst/>
                  <a:gdLst>
                    <a:gd name="textAreaLeft" fmla="*/ 0 w 1050480"/>
                    <a:gd name="textAreaRight" fmla="*/ 1050840 w 1050480"/>
                    <a:gd name="textAreaTop" fmla="*/ 360 h 969120"/>
                    <a:gd name="textAreaBottom" fmla="*/ 969840 h 969120"/>
                  </a:gdLst>
                  <a:ahLst/>
                  <a:rect l="textAreaLeft" t="textAreaTop" r="textAreaRight" b="textAreaBottom"/>
                  <a:pathLst>
                    <a:path w="1019" h="907">
                      <a:moveTo>
                        <a:pt x="0" y="566"/>
                      </a:moveTo>
                      <a:lnTo>
                        <a:pt x="0" y="906"/>
                      </a:lnTo>
                      <a:lnTo>
                        <a:pt x="1014" y="283"/>
                      </a:lnTo>
                      <a:lnTo>
                        <a:pt x="1018" y="307"/>
                      </a:lnTo>
                      <a:lnTo>
                        <a:pt x="869" y="0"/>
                      </a:lnTo>
                      <a:lnTo>
                        <a:pt x="0" y="566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0808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Freeform 18"/>
                <p:cNvSpPr/>
                <p:nvPr/>
              </p:nvSpPr>
              <p:spPr>
                <a:xfrm flipV="1">
                  <a:off x="2368800" y="853200"/>
                  <a:ext cx="1050840" cy="969120"/>
                </a:xfrm>
                <a:custGeom>
                  <a:avLst/>
                  <a:gdLst>
                    <a:gd name="textAreaLeft" fmla="*/ 0 w 1050840"/>
                    <a:gd name="textAreaRight" fmla="*/ 1051200 w 1050840"/>
                    <a:gd name="textAreaTop" fmla="*/ 360 h 969120"/>
                    <a:gd name="textAreaBottom" fmla="*/ 969840 h 969120"/>
                  </a:gdLst>
                  <a:ahLst/>
                  <a:rect l="textAreaLeft" t="textAreaTop" r="textAreaRight" b="textAreaBottom"/>
                  <a:pathLst>
                    <a:path w="1019" h="907">
                      <a:moveTo>
                        <a:pt x="1018" y="566"/>
                      </a:moveTo>
                      <a:lnTo>
                        <a:pt x="1018" y="906"/>
                      </a:lnTo>
                      <a:lnTo>
                        <a:pt x="3" y="283"/>
                      </a:lnTo>
                      <a:lnTo>
                        <a:pt x="0" y="307"/>
                      </a:lnTo>
                      <a:lnTo>
                        <a:pt x="148" y="0"/>
                      </a:lnTo>
                      <a:lnTo>
                        <a:pt x="1018" y="566"/>
                      </a:lnTo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ffff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1" name="Group 19"/>
                <p:cNvGrpSpPr/>
                <p:nvPr/>
              </p:nvGrpSpPr>
              <p:grpSpPr>
                <a:xfrm>
                  <a:off x="484200" y="260280"/>
                  <a:ext cx="2714400" cy="2349720"/>
                  <a:chOff x="484200" y="260280"/>
                  <a:chExt cx="2714400" cy="2349720"/>
                </a:xfrm>
              </p:grpSpPr>
              <p:sp>
                <p:nvSpPr>
                  <p:cNvPr id="192" name="AutoShape 20"/>
                  <p:cNvSpPr/>
                  <p:nvPr/>
                </p:nvSpPr>
                <p:spPr>
                  <a:xfrm flipH="1" flipV="1" rot="10800000">
                    <a:off x="483840" y="261360"/>
                    <a:ext cx="2712600" cy="2348280"/>
                  </a:xfrm>
                  <a:prstGeom prst="triangle">
                    <a:avLst>
                      <a:gd name="adj" fmla="val 49995"/>
                    </a:avLst>
                  </a:prstGeom>
                  <a:blipFill rotWithShape="0">
                    <a:blip r:embed="rId3"/>
                    <a:srcRect/>
                    <a:tile tx="0" ty="0" sx="100000" sy="100000" algn="ctr"/>
                  </a:blipFill>
                  <a:ln cap="sq" w="12600">
                    <a:solidFill>
                      <a:srgbClr val="0066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Freeform 21"/>
                  <p:cNvSpPr/>
                  <p:nvPr/>
                </p:nvSpPr>
                <p:spPr>
                  <a:xfrm flipV="1">
                    <a:off x="484920" y="259920"/>
                    <a:ext cx="1356840" cy="2349360"/>
                  </a:xfrm>
                  <a:custGeom>
                    <a:avLst/>
                    <a:gdLst>
                      <a:gd name="textAreaLeft" fmla="*/ 0 w 1356840"/>
                      <a:gd name="textAreaRight" fmla="*/ 1357200 w 1356840"/>
                      <a:gd name="textAreaTop" fmla="*/ 360 h 2349360"/>
                      <a:gd name="textAreaBottom" fmla="*/ 2350080 h 2349360"/>
                    </a:gdLst>
                    <a:ahLst/>
                    <a:rect l="textAreaLeft" t="textAreaTop" r="textAreaRight" b="textAreaBottom"/>
                    <a:pathLst>
                      <a:path w="1316" h="2199">
                        <a:moveTo>
                          <a:pt x="1315" y="2198"/>
                        </a:moveTo>
                        <a:lnTo>
                          <a:pt x="1315" y="1815"/>
                        </a:lnTo>
                        <a:lnTo>
                          <a:pt x="409" y="214"/>
                        </a:lnTo>
                        <a:lnTo>
                          <a:pt x="0" y="0"/>
                        </a:lnTo>
                        <a:lnTo>
                          <a:pt x="1315" y="2198"/>
                        </a:lnTo>
                      </a:path>
                    </a:pathLst>
                  </a:custGeom>
                  <a:solidFill>
                    <a:srgbClr val="002010">
                      <a:alpha val="50000"/>
                    </a:srgbClr>
                  </a:solidFill>
                  <a:ln cap="sq" w="12600">
                    <a:solidFill>
                      <a:srgbClr val="00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Freeform 22"/>
                  <p:cNvSpPr/>
                  <p:nvPr/>
                </p:nvSpPr>
                <p:spPr>
                  <a:xfrm flipV="1">
                    <a:off x="484920" y="2377440"/>
                    <a:ext cx="2713680" cy="231840"/>
                  </a:xfrm>
                  <a:custGeom>
                    <a:avLst/>
                    <a:gdLst>
                      <a:gd name="textAreaLeft" fmla="*/ 0 w 2713680"/>
                      <a:gd name="textAreaRight" fmla="*/ 2714040 w 2713680"/>
                      <a:gd name="textAreaTop" fmla="*/ 360 h 231840"/>
                      <a:gd name="textAreaBottom" fmla="*/ 232560 h 231840"/>
                    </a:gdLst>
                    <a:ahLst/>
                    <a:rect l="textAreaLeft" t="textAreaTop" r="textAreaRight" b="textAreaBottom"/>
                    <a:pathLst>
                      <a:path w="2632" h="217">
                        <a:moveTo>
                          <a:pt x="0" y="0"/>
                        </a:moveTo>
                        <a:lnTo>
                          <a:pt x="409" y="216"/>
                        </a:lnTo>
                        <a:lnTo>
                          <a:pt x="2279" y="216"/>
                        </a:lnTo>
                        <a:lnTo>
                          <a:pt x="2631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71bb96">
                      <a:alpha val="50000"/>
                    </a:srgbClr>
                  </a:solidFill>
                  <a:ln cap="sq" w="12600">
                    <a:solidFill>
                      <a:srgbClr val="00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Freeform 23"/>
                  <p:cNvSpPr/>
                  <p:nvPr/>
                </p:nvSpPr>
                <p:spPr>
                  <a:xfrm flipV="1">
                    <a:off x="1840320" y="259920"/>
                    <a:ext cx="1357920" cy="2349360"/>
                  </a:xfrm>
                  <a:custGeom>
                    <a:avLst/>
                    <a:gdLst>
                      <a:gd name="textAreaLeft" fmla="*/ 0 w 1357920"/>
                      <a:gd name="textAreaRight" fmla="*/ 1358280 w 1357920"/>
                      <a:gd name="textAreaTop" fmla="*/ 360 h 2349360"/>
                      <a:gd name="textAreaBottom" fmla="*/ 2350080 h 2349360"/>
                    </a:gdLst>
                    <a:ahLst/>
                    <a:rect l="textAreaLeft" t="textAreaTop" r="textAreaRight" b="textAreaBottom"/>
                    <a:pathLst>
                      <a:path w="1317" h="2199">
                        <a:moveTo>
                          <a:pt x="0" y="2198"/>
                        </a:moveTo>
                        <a:lnTo>
                          <a:pt x="0" y="1815"/>
                        </a:lnTo>
                        <a:lnTo>
                          <a:pt x="906" y="214"/>
                        </a:lnTo>
                        <a:lnTo>
                          <a:pt x="1316" y="0"/>
                        </a:lnTo>
                        <a:lnTo>
                          <a:pt x="0" y="2198"/>
                        </a:lnTo>
                      </a:path>
                    </a:pathLst>
                  </a:custGeom>
                  <a:solidFill>
                    <a:srgbClr val="006633">
                      <a:alpha val="50000"/>
                    </a:srgbClr>
                  </a:solidFill>
                  <a:ln cap="sq" w="12600">
                    <a:solidFill>
                      <a:srgbClr val="00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6" name="Rectangle 24"/>
                <p:cNvSpPr/>
                <p:nvPr/>
              </p:nvSpPr>
              <p:spPr>
                <a:xfrm flipV="1">
                  <a:off x="250920" y="852480"/>
                  <a:ext cx="3163680" cy="332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50000">
                      <a:srgbClr val="99cc00"/>
                    </a:gs>
                    <a:gs pos="100000">
                      <a:srgbClr val="80808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7" name="Text Box 25"/>
              <p:cNvSpPr/>
              <p:nvPr/>
            </p:nvSpPr>
            <p:spPr>
              <a:xfrm>
                <a:off x="682920" y="765000"/>
                <a:ext cx="25192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a-IR" sz="2400" spc="-1" strike="noStrike">
                    <a:solidFill>
                      <a:srgbClr val="ffff66"/>
                    </a:solidFill>
                    <a:latin typeface="Times New Roman"/>
                    <a:cs typeface="Times New Roman"/>
                  </a:rPr>
                  <a:t>منشور اخلاقي سازما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8" name="Picture 26" descr="politd"/>
            <p:cNvPicPr/>
            <p:nvPr/>
          </p:nvPicPr>
          <p:blipFill>
            <a:blip r:embed="rId4"/>
            <a:stretch/>
          </p:blipFill>
          <p:spPr>
            <a:xfrm>
              <a:off x="1258920" y="1546200"/>
              <a:ext cx="1224000" cy="757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9" name="Slide Number Placeholder 2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C55FF-F426-44B1-A83F-64330CF66A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8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8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21"/>
          <p:cNvGrpSpPr/>
          <p:nvPr/>
        </p:nvGrpSpPr>
        <p:grpSpPr>
          <a:xfrm>
            <a:off x="228600" y="925560"/>
            <a:ext cx="8318520" cy="4332240"/>
            <a:chOff x="228600" y="925560"/>
            <a:chExt cx="8318520" cy="4332240"/>
          </a:xfrm>
        </p:grpSpPr>
        <p:sp>
          <p:nvSpPr>
            <p:cNvPr id="201" name="Oval 5"/>
            <p:cNvSpPr/>
            <p:nvPr/>
          </p:nvSpPr>
          <p:spPr>
            <a:xfrm>
              <a:off x="2784600" y="925560"/>
              <a:ext cx="3960720" cy="20163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3200" spc="-1" strike="noStrike">
                  <a:solidFill>
                    <a:srgbClr val="ff0000"/>
                  </a:solidFill>
                  <a:latin typeface="Times New Roman"/>
                  <a:cs typeface="Times New Roman"/>
                </a:rPr>
                <a:t>منشور اخلاقی سازما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3200" spc="-1" strike="noStrike">
                  <a:solidFill>
                    <a:srgbClr val="ff0000"/>
                  </a:solidFill>
                  <a:latin typeface="Times New Roman"/>
                  <a:cs typeface="Times New Roman"/>
                </a:rPr>
                <a:t>خط مشی های اخلاق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6"/>
            <p:cNvSpPr/>
            <p:nvPr/>
          </p:nvSpPr>
          <p:spPr>
            <a:xfrm>
              <a:off x="6675480" y="1656000"/>
              <a:ext cx="1871640" cy="93492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7"/>
            <p:cNvSpPr/>
            <p:nvPr/>
          </p:nvSpPr>
          <p:spPr>
            <a:xfrm>
              <a:off x="6554880" y="2351160"/>
              <a:ext cx="1346040" cy="183996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8"/>
            <p:cNvSpPr/>
            <p:nvPr/>
          </p:nvSpPr>
          <p:spPr>
            <a:xfrm>
              <a:off x="5451480" y="2884680"/>
              <a:ext cx="644400" cy="227952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9"/>
            <p:cNvSpPr/>
            <p:nvPr/>
          </p:nvSpPr>
          <p:spPr>
            <a:xfrm flipH="1">
              <a:off x="4495680" y="2954520"/>
              <a:ext cx="152640" cy="230328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10"/>
            <p:cNvSpPr/>
            <p:nvPr/>
          </p:nvSpPr>
          <p:spPr>
            <a:xfrm flipH="1">
              <a:off x="3352680" y="2895840"/>
              <a:ext cx="704880" cy="213336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11"/>
            <p:cNvSpPr/>
            <p:nvPr/>
          </p:nvSpPr>
          <p:spPr>
            <a:xfrm flipH="1">
              <a:off x="1447560" y="2438640"/>
              <a:ext cx="1641240" cy="213336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12"/>
            <p:cNvSpPr/>
            <p:nvPr/>
          </p:nvSpPr>
          <p:spPr>
            <a:xfrm>
              <a:off x="6745320" y="1219320"/>
              <a:ext cx="18003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200" spc="-1" strike="noStrike">
                  <a:solidFill>
                    <a:srgbClr val="006600"/>
                  </a:solidFill>
                  <a:latin typeface="Times New Roman"/>
                  <a:cs typeface="Times New Roman"/>
                </a:rPr>
                <a:t>مصرف کنندگان و مشتری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13"/>
            <p:cNvSpPr/>
            <p:nvPr/>
          </p:nvSpPr>
          <p:spPr>
            <a:xfrm>
              <a:off x="6512040" y="2033640"/>
              <a:ext cx="12952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200" spc="-1" strike="noStrike">
                  <a:solidFill>
                    <a:srgbClr val="ff00ff"/>
                  </a:solidFill>
                  <a:latin typeface="Times New Roman"/>
                  <a:cs typeface="Times New Roman"/>
                </a:rPr>
                <a:t>کارکنان و مدیران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14"/>
            <p:cNvSpPr/>
            <p:nvPr/>
          </p:nvSpPr>
          <p:spPr>
            <a:xfrm>
              <a:off x="5468760" y="2679840"/>
              <a:ext cx="152424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200" spc="-1" strike="noStrike">
                  <a:solidFill>
                    <a:srgbClr val="333399"/>
                  </a:solidFill>
                  <a:latin typeface="Times New Roman"/>
                  <a:cs typeface="Times New Roman"/>
                </a:rPr>
                <a:t>تأمین کنندگان کالا، مواد اولیه و منابع انسانی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15"/>
            <p:cNvSpPr/>
            <p:nvPr/>
          </p:nvSpPr>
          <p:spPr>
            <a:xfrm>
              <a:off x="4500720" y="2971800"/>
              <a:ext cx="11318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200" spc="-1" strike="noStrike">
                  <a:solidFill>
                    <a:srgbClr val="006600"/>
                  </a:solidFill>
                  <a:latin typeface="Times New Roman"/>
                  <a:cs typeface="Times New Roman"/>
                </a:rPr>
                <a:t>واحدهای تابعه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16"/>
            <p:cNvSpPr/>
            <p:nvPr/>
          </p:nvSpPr>
          <p:spPr>
            <a:xfrm>
              <a:off x="3832200" y="3078360"/>
              <a:ext cx="968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200" spc="-1" strike="noStrike">
                  <a:solidFill>
                    <a:srgbClr val="ff0000"/>
                  </a:solidFill>
                  <a:latin typeface="Times New Roman"/>
                  <a:cs typeface="Times New Roman"/>
                </a:rPr>
                <a:t>رقبا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17"/>
            <p:cNvSpPr/>
            <p:nvPr/>
          </p:nvSpPr>
          <p:spPr>
            <a:xfrm>
              <a:off x="2514600" y="2713320"/>
              <a:ext cx="1600200" cy="176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200" spc="-1" strike="noStrike">
                  <a:solidFill>
                    <a:srgbClr val="990099"/>
                  </a:solidFill>
                  <a:latin typeface="Times New Roman"/>
                  <a:cs typeface="Times New Roman"/>
                </a:rPr>
                <a:t>همسایه ها، شهروندان، منافع ملی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18"/>
            <p:cNvSpPr/>
            <p:nvPr/>
          </p:nvSpPr>
          <p:spPr>
            <a:xfrm>
              <a:off x="1219320" y="2027520"/>
              <a:ext cx="19447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200" spc="-1" strike="noStrike">
                  <a:solidFill>
                    <a:srgbClr val="996633"/>
                  </a:solidFill>
                  <a:latin typeface="Times New Roman"/>
                  <a:cs typeface="Times New Roman"/>
                </a:rPr>
                <a:t>محیط زیست طبیعی، حیوانی و انسانی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9"/>
            <p:cNvSpPr/>
            <p:nvPr/>
          </p:nvSpPr>
          <p:spPr>
            <a:xfrm flipV="1">
              <a:off x="228600" y="1371600"/>
              <a:ext cx="2862360" cy="137160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20"/>
            <p:cNvSpPr/>
            <p:nvPr/>
          </p:nvSpPr>
          <p:spPr>
            <a:xfrm>
              <a:off x="1295280" y="1067040"/>
              <a:ext cx="1425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200" spc="-1" strike="noStrike">
                  <a:solidFill>
                    <a:srgbClr val="ff0000"/>
                  </a:solidFill>
                  <a:latin typeface="Times New Roman"/>
                  <a:cs typeface="Times New Roman"/>
                </a:rPr>
                <a:t>سهامداران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Slide Number Placeholder 2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29232-3959-4664-B444-EFECB7EF2F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07:20:35Z</dcterms:created>
  <dc:creator>4R</dc:creator>
  <dc:description/>
  <dc:language>en-US</dc:language>
  <cp:lastModifiedBy>parsin</cp:lastModifiedBy>
  <dcterms:modified xsi:type="dcterms:W3CDTF">2019-02-03T11:14:54Z</dcterms:modified>
  <cp:revision>210</cp:revision>
  <dc:subject/>
  <dc:title>عهد نامه اخلاقي انجمن كامپيوتر استراليا     ACS    1988 </dc:title>
</cp:coreProperties>
</file>