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29.jpeg" ContentType="image/jpeg"/>
  <Override PartName="/ppt/media/image9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12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gif" ContentType="image/gif"/>
  <Override PartName="/ppt/media/image19.png" ContentType="image/png"/>
  <Override PartName="/ppt/media/image1.jpeg" ContentType="image/jpeg"/>
  <Override PartName="/ppt/media/image2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3038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397188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1080" y="8829720"/>
            <a:ext cx="3038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A752-1820-4ACF-A843-A7F8F30274A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1440" y="8829720"/>
            <a:ext cx="3038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C2C6-5CF5-430B-BF62-295B351290B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8E9-437D-4E65-9AE0-22B5E45C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8BE-88B2-432B-A12D-222DF2A5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28D-6BB6-48AE-90E3-A332AF59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8E7-2948-45E2-A76D-F69886E4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7799-2B89-408E-A797-7C912D91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8BC7-B1D8-4CA9-AC46-41338C8F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A3D2-86E4-42CD-9DD1-67F47E6D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74E9-B8E9-4A7D-A38E-AAF6FDDF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EA33-5F0E-4ECB-99A0-56487534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9B9B-04F4-4FD4-8DE4-D6371F82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2468-D204-490A-B004-1E068803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6A0-FE0B-47DA-91F1-06C7FBD3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F8DC-FD0B-4BE5-A696-64449828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66BF-D0FD-429D-B6DD-CFE29D0B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2DA7-5DEF-4E4A-BC79-AED42E05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EE24-AF7B-467D-8FA3-C61B5867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3B2C-E6BD-44A7-912D-343DF95A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2D72E-67C7-47D8-B24E-51752AEC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D3BF4-EC99-4D32-BF82-4D88A0C2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F876E-D7A5-4856-AE69-1BA024E7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89702-2F3E-43B1-8FCD-7498C329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69706-07C4-4381-A58E-AB7AF09B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947-C795-4304-96C7-1262D9C5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FAF3F-AD07-41AB-B713-D309E9E0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59CF3-2C52-4F47-93ED-0E833CD1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1A326-259B-41B0-913B-F03185AF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AA26F-B477-41F0-AA36-CECFB973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06084-1412-4373-9BB0-20DFAE71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EB0D0-BC41-4C26-8275-FFF93FE9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A0BC0-ECBD-4F31-AD71-ADE570E2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6F4-25CD-4D3B-B5D6-668D2531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18B-A185-4AF5-804C-F55C667F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C56-E097-42EE-9C91-0D9F582F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AF3-7480-4116-A9D3-A8D24E7D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F68-0A5F-435A-9121-D2354001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C46-8563-4F77-8A3B-FD5BAC38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3CEE-F9D0-4A24-9EBC-0730A3663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D567-E28C-4060-B2FE-62916E4D2E1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0" y="648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cc3300"/>
                </a:solidFill>
                <a:latin typeface="Arial"/>
              </a:rPr>
              <a:t>2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303840" y="64008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11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1447920" y="5409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9437-4388-4DAB-A6CB-D3A0F9308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BACK074"/>
          <p:cNvPicPr/>
          <p:nvPr/>
        </p:nvPicPr>
        <p:blipFill>
          <a:blip r:embed="rId1"/>
          <a:stretch/>
        </p:blipFill>
        <p:spPr>
          <a:xfrm>
            <a:off x="304920" y="266760"/>
            <a:ext cx="8381880" cy="6286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God3"/>
          <p:cNvPicPr/>
          <p:nvPr/>
        </p:nvPicPr>
        <p:blipFill>
          <a:blip r:embed="rId2"/>
          <a:stretch/>
        </p:blipFill>
        <p:spPr>
          <a:xfrm>
            <a:off x="5867280" y="76320"/>
            <a:ext cx="2971800" cy="160020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3119-99F9-4EF3-8452-F38394981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4" descr="Picture 092.jpg"/>
          <p:cNvPicPr/>
          <p:nvPr/>
        </p:nvPicPr>
        <p:blipFill>
          <a:blip r:embed="rId1"/>
          <a:stretch/>
        </p:blipFill>
        <p:spPr>
          <a:xfrm>
            <a:off x="2057400" y="228600"/>
            <a:ext cx="4343400" cy="594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9" name="TextBox 4" descr=""/>
          <p:cNvPicPr/>
          <p:nvPr/>
        </p:nvPicPr>
        <p:blipFill>
          <a:blip r:embed="rId2"/>
          <a:stretch/>
        </p:blipFill>
        <p:spPr>
          <a:xfrm>
            <a:off x="6486480" y="176040"/>
            <a:ext cx="2633760" cy="841680"/>
          </a:xfrm>
          <a:prstGeom prst="rect">
            <a:avLst/>
          </a:prstGeom>
          <a:ln w="0">
            <a:noFill/>
          </a:ln>
        </p:spPr>
      </p:pic>
      <p:sp>
        <p:nvSpPr>
          <p:cNvPr id="2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523880" y="6094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3399"/>
                </a:solidFill>
                <a:latin typeface="Times New Roman"/>
                <a:cs typeface="B Titr"/>
              </a:rPr>
              <a:t>نقش سند اخلاقی در سازمان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209680" y="18288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عنصر زیرساختی جهان بینی سازمان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048120" y="25146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2</a:t>
            </a:r>
            <a:r>
              <a:rPr b="1" lang="fa-IR" sz="36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- آرمان فرهنگ سازما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895480" y="39625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fa-I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ممیزی اخلاقی تصمیم سازی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286000" y="46483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رزیابی عملکرد اخلاق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2362320" y="32767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3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- اخلاقی سازی اهداف و برنام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A885-0D17-4563-BD76-EA93A8F9F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3492360" y="1916280"/>
            <a:ext cx="194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4"/>
          <p:cNvGrpSpPr/>
          <p:nvPr/>
        </p:nvGrpSpPr>
        <p:grpSpPr>
          <a:xfrm>
            <a:off x="3276720" y="423720"/>
            <a:ext cx="2742840" cy="1191240"/>
            <a:chOff x="3276720" y="423720"/>
            <a:chExt cx="2742840" cy="1191240"/>
          </a:xfrm>
        </p:grpSpPr>
        <p:sp>
          <p:nvSpPr>
            <p:cNvPr id="230" name="AutoShape 5"/>
            <p:cNvSpPr/>
            <p:nvPr/>
          </p:nvSpPr>
          <p:spPr>
            <a:xfrm>
              <a:off x="3276720" y="477720"/>
              <a:ext cx="2742840" cy="1008360"/>
            </a:xfrm>
            <a:prstGeom prst="downArrowCallout">
              <a:avLst>
                <a:gd name="adj1" fmla="val 68009"/>
                <a:gd name="adj2" fmla="val 68002"/>
                <a:gd name="adj3" fmla="val 16667"/>
                <a:gd name="adj4" fmla="val 66667"/>
              </a:avLst>
            </a:prstGeom>
            <a:solidFill>
              <a:srgbClr val="ffff99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6"/>
            <p:cNvSpPr/>
            <p:nvPr/>
          </p:nvSpPr>
          <p:spPr>
            <a:xfrm>
              <a:off x="3580560" y="423720"/>
              <a:ext cx="213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تدوين سند اخلاقي 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7"/>
          <p:cNvGrpSpPr/>
          <p:nvPr/>
        </p:nvGrpSpPr>
        <p:grpSpPr>
          <a:xfrm>
            <a:off x="3419640" y="1484280"/>
            <a:ext cx="2675880" cy="1008000"/>
            <a:chOff x="3419640" y="1484280"/>
            <a:chExt cx="2675880" cy="1008000"/>
          </a:xfrm>
        </p:grpSpPr>
        <p:sp>
          <p:nvSpPr>
            <p:cNvPr id="233" name="AutoShape 8"/>
            <p:cNvSpPr/>
            <p:nvPr/>
          </p:nvSpPr>
          <p:spPr>
            <a:xfrm>
              <a:off x="3419640" y="1484280"/>
              <a:ext cx="2675880" cy="1008000"/>
            </a:xfrm>
            <a:prstGeom prst="downArrowCallout">
              <a:avLst>
                <a:gd name="adj1" fmla="val 66372"/>
                <a:gd name="adj2" fmla="val 66366"/>
                <a:gd name="adj3" fmla="val 16667"/>
                <a:gd name="adj4" fmla="val 66667"/>
              </a:avLst>
            </a:prstGeom>
            <a:solidFill>
              <a:srgbClr val="ffff99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9"/>
            <p:cNvSpPr/>
            <p:nvPr/>
          </p:nvSpPr>
          <p:spPr>
            <a:xfrm>
              <a:off x="3716280" y="1503360"/>
              <a:ext cx="2379240" cy="94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اعلام سند به محيط دروني و بيروني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0"/>
          <p:cNvGrpSpPr/>
          <p:nvPr/>
        </p:nvGrpSpPr>
        <p:grpSpPr>
          <a:xfrm>
            <a:off x="3490920" y="2514600"/>
            <a:ext cx="2680920" cy="840960"/>
            <a:chOff x="3490920" y="2514600"/>
            <a:chExt cx="2680920" cy="840960"/>
          </a:xfrm>
        </p:grpSpPr>
        <p:sp>
          <p:nvSpPr>
            <p:cNvPr id="236" name="AutoShape 11"/>
            <p:cNvSpPr/>
            <p:nvPr/>
          </p:nvSpPr>
          <p:spPr>
            <a:xfrm>
              <a:off x="3490920" y="2514600"/>
              <a:ext cx="2680920" cy="840960"/>
            </a:xfrm>
            <a:prstGeom prst="downArrowCallout">
              <a:avLst>
                <a:gd name="adj1" fmla="val 79705"/>
                <a:gd name="adj2" fmla="val 79698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2"/>
            <p:cNvSpPr/>
            <p:nvPr/>
          </p:nvSpPr>
          <p:spPr>
            <a:xfrm>
              <a:off x="3787920" y="2532600"/>
              <a:ext cx="2084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پاي بندي به سن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3"/>
          <p:cNvGrpSpPr/>
          <p:nvPr/>
        </p:nvGrpSpPr>
        <p:grpSpPr>
          <a:xfrm>
            <a:off x="3564000" y="3502080"/>
            <a:ext cx="2379240" cy="863640"/>
            <a:chOff x="3564000" y="3502080"/>
            <a:chExt cx="2379240" cy="863640"/>
          </a:xfrm>
        </p:grpSpPr>
        <p:sp>
          <p:nvSpPr>
            <p:cNvPr id="239" name="AutoShape 14"/>
            <p:cNvSpPr/>
            <p:nvPr/>
          </p:nvSpPr>
          <p:spPr>
            <a:xfrm>
              <a:off x="3564000" y="3502080"/>
              <a:ext cx="2379240" cy="863640"/>
            </a:xfrm>
            <a:prstGeom prst="downArrowCallout">
              <a:avLst>
                <a:gd name="adj1" fmla="val 68879"/>
                <a:gd name="adj2" fmla="val 68872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5"/>
            <p:cNvSpPr/>
            <p:nvPr/>
          </p:nvSpPr>
          <p:spPr>
            <a:xfrm>
              <a:off x="3828240" y="3537000"/>
              <a:ext cx="184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تبليغ پاي بند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16"/>
          <p:cNvSpPr/>
          <p:nvPr/>
        </p:nvSpPr>
        <p:spPr>
          <a:xfrm>
            <a:off x="914400" y="4800600"/>
            <a:ext cx="3168720" cy="9471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موفقيت در شرايط بحر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380880" y="56530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cs typeface="Times New Roman"/>
              </a:rPr>
              <a:t>نقش پاي بندي تخلف ناپذير به منشور اخلاقي در موفقيت ساز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8" descr="30704-09"/>
          <p:cNvPicPr/>
          <p:nvPr/>
        </p:nvPicPr>
        <p:blipFill>
          <a:blip r:embed="rId1"/>
          <a:stretch/>
        </p:blipFill>
        <p:spPr>
          <a:xfrm>
            <a:off x="6423120" y="2441520"/>
            <a:ext cx="1695240" cy="250524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5450-E7A4-49D1-AD1D-E19661D9D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2209680" y="533520"/>
            <a:ext cx="4680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9999"/>
                  </a:outerShdw>
                </a:effectLst>
                <a:latin typeface="Arial"/>
              </a:rPr>
              <a:t>ویژگی‌های سند اخلاقی  شرکت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99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733920" y="18288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-76320" y="17524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1</a:t>
            </a:r>
            <a:r>
              <a:rPr b="1" lang="fa-IR" sz="4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.</a:t>
            </a:r>
            <a:r>
              <a:rPr b="1" lang="fa-IR" sz="28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ff66cc"/>
                </a:solidFill>
                <a:latin typeface="Times New Roman"/>
                <a:cs typeface="Times New Roman"/>
              </a:rPr>
              <a:t>فراگير نسبت به همه عناصر محيط وابعاد بنگا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289548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419720" y="2438280"/>
            <a:ext cx="4343400" cy="29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. قابل تحقق واج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80880" y="3701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3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.</a:t>
            </a:r>
            <a:r>
              <a:rPr b="1" lang="fa-IR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عاری از ابهام در سه سطح زبان، مفاهیم،  ساخت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2590920" y="4253040"/>
            <a:ext cx="61722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4</a:t>
            </a:r>
            <a:r>
              <a:rPr b="1" lang="fa-IR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.</a:t>
            </a:r>
            <a:r>
              <a:rPr b="1" lang="fa-IR" sz="2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fa-IR" sz="3600" spc="-1" strike="noStrike">
                <a:solidFill>
                  <a:srgbClr val="3366ff"/>
                </a:solidFill>
                <a:latin typeface="Times New Roman"/>
                <a:cs typeface="Times New Roman"/>
              </a:rPr>
              <a:t>اولويت بندي در مسؤليت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4854960" y="5181480"/>
            <a:ext cx="47700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. متلائم و سازگ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90FA-6479-4CE4-B597-F691B53E8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1600200" y="136440"/>
            <a:ext cx="5638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000" spc="-1" strike="noStrike">
                <a:solidFill>
                  <a:srgbClr val="ff6600"/>
                </a:solidFill>
                <a:latin typeface="Times New Roman"/>
                <a:cs typeface="B Hamid"/>
              </a:rPr>
              <a:t>منابع تدوین سند اخلاق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0" y="1392120"/>
            <a:ext cx="883908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متون دینی (قرآن و احادیث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  <a:ea typeface="B Tehr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B Tehran"/>
              </a:rPr>
              <a:t> تجارب ایرانی در تمدن‌های ایران باستان و ایران اسلام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ره آورد معرفتی عالمان اخلاق در سنت اسلام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ره آورد معرفتی عالمان اخلاق در مغرب زمی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تجارب سازمانهای مغرب زمی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بیانیه های اخلاق جها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استانداردهای بین الملل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61C8-F6EA-434E-AF3C-1B41FDF13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3"/>
          <p:cNvSpPr txBox="1"/>
          <p:nvPr/>
        </p:nvSpPr>
        <p:spPr>
          <a:xfrm>
            <a:off x="3132000" y="380880"/>
            <a:ext cx="44881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9999"/>
                  </a:outerShdw>
                </a:effectLst>
                <a:latin typeface="Arial"/>
              </a:rPr>
              <a:t>مسئولیت‌های اخلاقی سازمان  </a:t>
            </a:r>
            <a:endParaRPr b="0" i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99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437440" y="220968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نيك تجزيه مسال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invest3"/>
          <p:cNvPicPr/>
          <p:nvPr/>
        </p:nvPicPr>
        <p:blipFill>
          <a:blip r:embed="rId3"/>
          <a:stretch/>
        </p:blipFill>
        <p:spPr>
          <a:xfrm>
            <a:off x="152280" y="152280"/>
            <a:ext cx="2171880" cy="28083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1905120" y="33526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ff0000"/>
              </a:buClr>
              <a:buSzPct val="11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زمان در قبال چه کسانی ونهادهایی مسئولیت دار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905120" y="38862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fa-I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ین افراد و نهادها چه اولویتی دارند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2895480" y="45813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fa-I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ین افراد و نهادها چه حقوقی دارند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C69B-4574-44D0-B8CE-CD7F80536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1752480" y="518148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V</a:t>
            </a:r>
            <a:r>
              <a:rPr b="1" lang="fa-I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یت سازمان در قبال حقوق این افراد چیست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Isosceles Triangle 3"/>
          <p:cNvSpPr/>
          <p:nvPr/>
        </p:nvSpPr>
        <p:spPr>
          <a:xfrm>
            <a:off x="1042920" y="476280"/>
            <a:ext cx="6697800" cy="5761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132000" y="1844640"/>
            <a:ext cx="2592360" cy="576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2556000" y="2781360"/>
            <a:ext cx="3744720" cy="792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1219320" y="18288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3635280" y="2924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ardrop 9"/>
          <p:cNvSpPr/>
          <p:nvPr/>
        </p:nvSpPr>
        <p:spPr>
          <a:xfrm rot="18952800">
            <a:off x="5437080" y="3859200"/>
            <a:ext cx="935280" cy="792000"/>
          </a:xfrm>
          <a:custGeom>
            <a:avLst/>
            <a:gdLst/>
            <a:ahLst/>
            <a:rect l="l" t="t" r="r" b="b"/>
            <a:pathLst>
              <a:path w="935037" h="792162">
                <a:moveTo>
                  <a:pt x="0" y="396081"/>
                </a:moveTo>
                <a:cubicBezTo>
                  <a:pt x="0" y="177332"/>
                  <a:pt x="209315" y="0"/>
                  <a:pt x="467519" y="0"/>
                </a:cubicBezTo>
                <a:cubicBezTo>
                  <a:pt x="649862" y="0"/>
                  <a:pt x="832205" y="-22454"/>
                  <a:pt x="1014548" y="-67361"/>
                </a:cubicBezTo>
                <a:cubicBezTo>
                  <a:pt x="961541" y="87120"/>
                  <a:pt x="935037" y="241600"/>
                  <a:pt x="935037" y="396081"/>
                </a:cubicBezTo>
                <a:cubicBezTo>
                  <a:pt x="935037" y="614830"/>
                  <a:pt x="725722" y="792162"/>
                  <a:pt x="467518" y="792162"/>
                </a:cubicBezTo>
                <a:cubicBezTo>
                  <a:pt x="209314" y="792162"/>
                  <a:pt x="-1" y="614830"/>
                  <a:pt x="-1" y="396081"/>
                </a:cubicBezTo>
                <a:lnTo>
                  <a:pt x="0" y="396081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ardrop 10"/>
          <p:cNvSpPr/>
          <p:nvPr/>
        </p:nvSpPr>
        <p:spPr>
          <a:xfrm rot="18952800">
            <a:off x="4498920" y="3930120"/>
            <a:ext cx="936720" cy="792360"/>
          </a:xfrm>
          <a:custGeom>
            <a:avLst/>
            <a:gdLst/>
            <a:ahLst/>
            <a:rect l="l" t="t" r="r" b="b"/>
            <a:pathLst>
              <a:path w="936625" h="792163">
                <a:moveTo>
                  <a:pt x="0" y="396082"/>
                </a:moveTo>
                <a:cubicBezTo>
                  <a:pt x="0" y="177332"/>
                  <a:pt x="209671" y="0"/>
                  <a:pt x="468313" y="0"/>
                </a:cubicBezTo>
                <a:cubicBezTo>
                  <a:pt x="650966" y="0"/>
                  <a:pt x="833618" y="-22454"/>
                  <a:pt x="1016271" y="-67362"/>
                </a:cubicBezTo>
                <a:cubicBezTo>
                  <a:pt x="963174" y="87119"/>
                  <a:pt x="936625" y="241601"/>
                  <a:pt x="936625" y="396082"/>
                </a:cubicBezTo>
                <a:cubicBezTo>
                  <a:pt x="936625" y="614832"/>
                  <a:pt x="726954" y="792164"/>
                  <a:pt x="468312" y="792164"/>
                </a:cubicBezTo>
                <a:cubicBezTo>
                  <a:pt x="209670" y="792164"/>
                  <a:pt x="-1" y="614832"/>
                  <a:pt x="-1" y="396082"/>
                </a:cubicBezTo>
                <a:lnTo>
                  <a:pt x="0" y="396082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ardrop 11"/>
          <p:cNvSpPr/>
          <p:nvPr/>
        </p:nvSpPr>
        <p:spPr>
          <a:xfrm rot="18952800">
            <a:off x="3347640" y="3930120"/>
            <a:ext cx="934920" cy="792360"/>
          </a:xfrm>
          <a:custGeom>
            <a:avLst/>
            <a:gdLst/>
            <a:ahLst/>
            <a:rect l="l" t="t" r="r" b="b"/>
            <a:pathLst>
              <a:path w="935037" h="792163">
                <a:moveTo>
                  <a:pt x="0" y="396082"/>
                </a:moveTo>
                <a:cubicBezTo>
                  <a:pt x="0" y="177332"/>
                  <a:pt x="209315" y="0"/>
                  <a:pt x="467519" y="0"/>
                </a:cubicBezTo>
                <a:cubicBezTo>
                  <a:pt x="649862" y="0"/>
                  <a:pt x="832205" y="-22454"/>
                  <a:pt x="1014548" y="-67362"/>
                </a:cubicBezTo>
                <a:cubicBezTo>
                  <a:pt x="961541" y="87119"/>
                  <a:pt x="935037" y="241601"/>
                  <a:pt x="935037" y="396082"/>
                </a:cubicBezTo>
                <a:cubicBezTo>
                  <a:pt x="935037" y="614832"/>
                  <a:pt x="725722" y="792164"/>
                  <a:pt x="467518" y="792164"/>
                </a:cubicBezTo>
                <a:cubicBezTo>
                  <a:pt x="209314" y="792164"/>
                  <a:pt x="-1" y="614832"/>
                  <a:pt x="-1" y="396082"/>
                </a:cubicBezTo>
                <a:lnTo>
                  <a:pt x="0" y="396082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ardrop 12"/>
          <p:cNvSpPr/>
          <p:nvPr/>
        </p:nvSpPr>
        <p:spPr>
          <a:xfrm rot="18952800">
            <a:off x="2410920" y="3862080"/>
            <a:ext cx="936720" cy="79200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396081"/>
                </a:moveTo>
                <a:cubicBezTo>
                  <a:pt x="0" y="177332"/>
                  <a:pt x="209671" y="0"/>
                  <a:pt x="468313" y="0"/>
                </a:cubicBezTo>
                <a:cubicBezTo>
                  <a:pt x="650966" y="0"/>
                  <a:pt x="833618" y="-22454"/>
                  <a:pt x="1016271" y="-67361"/>
                </a:cubicBezTo>
                <a:cubicBezTo>
                  <a:pt x="963174" y="87120"/>
                  <a:pt x="936625" y="241600"/>
                  <a:pt x="936625" y="396081"/>
                </a:cubicBezTo>
                <a:cubicBezTo>
                  <a:pt x="936625" y="614830"/>
                  <a:pt x="726954" y="792162"/>
                  <a:pt x="468312" y="792162"/>
                </a:cubicBezTo>
                <a:cubicBezTo>
                  <a:pt x="209670" y="792162"/>
                  <a:pt x="-1" y="614830"/>
                  <a:pt x="-1" y="396081"/>
                </a:cubicBezTo>
                <a:lnTo>
                  <a:pt x="0" y="396081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lowchart: Terminator 15"/>
          <p:cNvSpPr/>
          <p:nvPr/>
        </p:nvSpPr>
        <p:spPr>
          <a:xfrm rot="17611800">
            <a:off x="2038320" y="5208480"/>
            <a:ext cx="122400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lowchart: Terminator 16"/>
          <p:cNvSpPr/>
          <p:nvPr/>
        </p:nvSpPr>
        <p:spPr>
          <a:xfrm rot="17171400">
            <a:off x="2752560" y="5275080"/>
            <a:ext cx="122400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Terminator 17"/>
          <p:cNvSpPr/>
          <p:nvPr/>
        </p:nvSpPr>
        <p:spPr>
          <a:xfrm rot="16728600">
            <a:off x="3504240" y="5321880"/>
            <a:ext cx="122544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lowchart: Terminator 18"/>
          <p:cNvSpPr/>
          <p:nvPr/>
        </p:nvSpPr>
        <p:spPr>
          <a:xfrm rot="16200000">
            <a:off x="4283640" y="5321880"/>
            <a:ext cx="122544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lowchart: Terminator 19"/>
          <p:cNvSpPr/>
          <p:nvPr/>
        </p:nvSpPr>
        <p:spPr>
          <a:xfrm rot="15400200">
            <a:off x="5034600" y="5255280"/>
            <a:ext cx="1224000" cy="35892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lowchart: Terminator 20"/>
          <p:cNvSpPr/>
          <p:nvPr/>
        </p:nvSpPr>
        <p:spPr>
          <a:xfrm rot="15204000">
            <a:off x="5844960" y="5182920"/>
            <a:ext cx="122400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owchart: Terminator 21"/>
          <p:cNvSpPr/>
          <p:nvPr/>
        </p:nvSpPr>
        <p:spPr>
          <a:xfrm rot="18085800">
            <a:off x="1422360" y="5103720"/>
            <a:ext cx="1224000" cy="37008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2"/>
          <p:cNvSpPr/>
          <p:nvPr/>
        </p:nvSpPr>
        <p:spPr>
          <a:xfrm>
            <a:off x="3419640" y="530064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5"/>
          <p:cNvSpPr/>
          <p:nvPr/>
        </p:nvSpPr>
        <p:spPr>
          <a:xfrm>
            <a:off x="2195640" y="407664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-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6"/>
          <p:cNvSpPr/>
          <p:nvPr/>
        </p:nvSpPr>
        <p:spPr>
          <a:xfrm>
            <a:off x="2411280" y="260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-76320" y="177840"/>
            <a:ext cx="906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cs typeface="B Morvarid"/>
              </a:rPr>
              <a:t>وظایف اخلاقی سازمان در قبال حقوق مصرف کننده و مشت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921120" y="7621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حترام اصیل و نامشرو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4648320" y="11732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2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صداقت و صراح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22200" y="15541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خدمات قبل از فروش، حین فروش و پس از فرو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4267080" y="19051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4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تنوع کالا و خد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4419720" y="2286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5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جتناب از تبعی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1828800" y="2666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6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حفظ حریم شخصی، رازداری و امانت د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3429000" y="30481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7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قیمت پایین همراه با کیفیت بر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3352680" y="34290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8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سرعت در تحویل کالا و خد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2743200" y="38098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9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پای بندی به قرادادهای وفای به عه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4038480" y="41911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0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نقدپذیری و پاسخگوی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4495680" y="460224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عتماد به مشت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4267080" y="5029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2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جتناب از زیان زد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4114800" y="541008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جبران خسارت محت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3657600" y="58212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4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پیش بینی پذیری برای مشت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D2EE-C4ED-4062-8C7F-28266586A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-228600" y="-76320"/>
            <a:ext cx="95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8000"/>
                </a:solidFill>
                <a:latin typeface="Times New Roman"/>
                <a:cs typeface="B Morvarid"/>
              </a:rPr>
              <a:t>وظایف اخلاقی سازمان در قبال کارکن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066680" y="40644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رتقاء سطح دانش، مهارت، توانایی و نگرش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1752480" y="8380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2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أمین امنیت شغلی و ایجاد فرصت ارتقاء شغل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3809880" y="12193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تأمین حقوق عادلانه و مک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2514600" y="1600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4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صحیح انگیزش و تقویت درون انگیختگ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809880" y="198108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5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نقدپذیری و مشارکت طل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3886200" y="236232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6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ناسب اختیارات و مسئولی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3886200" y="27432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7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تسهیل ارتباطات سازم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3581280" y="32004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8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حمایت معنوی و مادی از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267080" y="365760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9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حترام و اعتماد به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3352680" y="403848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10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مواجهه صادقانه و صریح با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1981080" y="44197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حفظ حریم شخصی، رازداری و امانت نگ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3962520" y="480060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12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أمین مدیران لایق و منص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3962520" y="518148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حمایت از آزادی های فرد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4038480" y="559260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14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حمایت از تشکل‌های صن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4E77-D2C7-49E2-9849-4A9B21145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ext Box 4" descr=""/>
          <p:cNvPicPr/>
          <p:nvPr/>
        </p:nvPicPr>
        <p:blipFill>
          <a:blip r:embed="rId1"/>
          <a:stretch/>
        </p:blipFill>
        <p:spPr>
          <a:xfrm>
            <a:off x="152280" y="195120"/>
            <a:ext cx="5565960" cy="10731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-228600" y="685800"/>
            <a:ext cx="9144000" cy="63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صل انتفاع طرفی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حترام اصیل به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صل اجتناب از ضررس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تلاش در رقابتی کردن محی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سوق رقابت به رفا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جتناب از روابط غیر اخلاقی با کارکنان بنگاه رقی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رعایت حقوق رقبا در بازاریا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حفظ حریم رقبا و صیانت از اسرار آ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حمایت معنوی از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مواجهه صادقانه و صریح با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جتناب از اقدامهای تلافی جویانه غیر اخلاق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ترویج اخلاق حرفه ای نزد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9BA1-28CB-4372-A770-8E20B8A3D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5"/>
          <p:cNvSpPr txBox="1"/>
          <p:nvPr/>
        </p:nvSpPr>
        <p:spPr>
          <a:xfrm>
            <a:off x="2362320" y="5181480"/>
            <a:ext cx="35431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 </a:t>
            </a:r>
            <a:endParaRPr b="1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00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Text Box 6" descr=""/>
          <p:cNvPicPr/>
          <p:nvPr/>
        </p:nvPicPr>
        <p:blipFill>
          <a:blip r:embed="rId1"/>
          <a:stretch/>
        </p:blipFill>
        <p:spPr>
          <a:xfrm>
            <a:off x="0" y="1292400"/>
            <a:ext cx="8766000" cy="2236680"/>
          </a:xfrm>
          <a:prstGeom prst="rect">
            <a:avLst/>
          </a:prstGeom>
          <a:ln w="0">
            <a:noFill/>
          </a:ln>
        </p:spPr>
      </p:pic>
      <p:sp>
        <p:nvSpPr>
          <p:cNvPr id="13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6A11-FC7C-41DF-9C46-953BFFD7E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5"/>
          <p:cNvSpPr/>
          <p:nvPr/>
        </p:nvSpPr>
        <p:spPr>
          <a:xfrm>
            <a:off x="228600" y="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بعاد مسئولیت سازمان در قبال محیط زیس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-304920" y="533520"/>
            <a:ext cx="9144000" cy="65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همکاری با سازمانهای مرتبط با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قانون پذیری نسبت به قوانین و مقررات حفاظت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رویج تفکر سبز و حمایت از گروه های سب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رعایت اصول و استانداردهای زیست محیط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لاش در کاهش آلایندگی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وسعه دانش و فن آوری حفاظت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وسعه برنامه های بازیاف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رتقاء کیفیت محصو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صرفه جویی در استفاده از مناب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21F2-2064-4366-A0FC-082650873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5"/>
          <p:cNvSpPr/>
          <p:nvPr/>
        </p:nvSpPr>
        <p:spPr>
          <a:xfrm>
            <a:off x="304920" y="84240"/>
            <a:ext cx="8839080" cy="9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5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خط مشی اخلاقی سازمان در قبال منافع مل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رتقاء کیفیت محصول به منظور افزایش دوام محصو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صرفه جویی در استفاده از منابع و پرهیز از اتلاف منابع محد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لاش در جهت توسعه صنعتی و تولید علم در کش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4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 اطلاع رسانی صحیح و آگاهی دادن به شهروند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پای بندی به اصول و قوانین حاکم بر کش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6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نقدپذیری، پاسخگویی و مواجهه صادقانه و صریح با مردم و جامع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7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طرحهای اقتصاد، اجتماعی، عمرانی و امور خیری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8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عریف، توسعه و ارتقاء استانداردهای مرتبط با صنع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9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همکاری در تدوین قوانین، مقررات و آیین نامه های مرتبط با صنع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0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عرفی و حمایت از خبرگان صنع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D405-5D49-4B8D-A745-9246632BD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4"/>
          <p:cNvSpPr/>
          <p:nvPr/>
        </p:nvSpPr>
        <p:spPr>
          <a:xfrm>
            <a:off x="0" y="380880"/>
            <a:ext cx="88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0" y="0"/>
            <a:ext cx="9144000" cy="78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1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یفاء به موقع حقوق ادارات، سازمانها و نهادهای کش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2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توسعه اشتغال و توزیع عادلانه فرصت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3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ارتقاء سطح رفاه عموم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4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لاش در جهت رعایت بهای عادلانه محص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5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رویج تفکر سبز و حمایت از گروه های سبز و سازمانهای مرتبط با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6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رعایت اصول و استانداردهای زیست محیطی و تلاش در کاهش آلایندگی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7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وسعه دانش و فنآوری حفاظت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8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عتلای صنعت قیر و صنایع جانب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9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لاش در بهبود و احیای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0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وسعه برنامه های بازیاف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1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ارتقاء فرهنگ عمومی و حفظ میراث فرهنگی و تاریخ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2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حترام به هنجارهای اجتماعی و ارزشهای دین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3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رعایت حقوق همسایگ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4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ترویج ورزش، هنر، و فرهنگ نشاط، شادی و امیدوار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E7B3-22DD-4105-AE74-40728589D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7"/>
          <p:cNvSpPr/>
          <p:nvPr/>
        </p:nvSpPr>
        <p:spPr>
          <a:xfrm>
            <a:off x="2743200" y="38088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3366ff"/>
                </a:solidFill>
                <a:latin typeface="Times New Roman"/>
                <a:cs typeface="Times New Roman"/>
              </a:rPr>
              <a:t>سازمان‌های تأمین کنند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4"/>
          <p:cNvGrpSpPr/>
          <p:nvPr/>
        </p:nvGrpSpPr>
        <p:grpSpPr>
          <a:xfrm>
            <a:off x="1752480" y="1276200"/>
            <a:ext cx="5334120" cy="4952880"/>
            <a:chOff x="1752480" y="1276200"/>
            <a:chExt cx="5334120" cy="4952880"/>
          </a:xfrm>
        </p:grpSpPr>
        <p:sp>
          <p:nvSpPr>
            <p:cNvPr id="329" name="Oval 4"/>
            <p:cNvSpPr/>
            <p:nvPr/>
          </p:nvSpPr>
          <p:spPr>
            <a:xfrm>
              <a:off x="1828800" y="1276200"/>
              <a:ext cx="5257800" cy="4952880"/>
            </a:xfrm>
            <a:prstGeom prst="ellipse">
              <a:avLst/>
            </a:prstGeom>
            <a:solidFill>
              <a:srgbClr val="ffccff"/>
            </a:solidFill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1"/>
            <p:cNvSpPr/>
            <p:nvPr/>
          </p:nvSpPr>
          <p:spPr>
            <a:xfrm>
              <a:off x="1981080" y="2952720"/>
              <a:ext cx="5105520" cy="1003320"/>
            </a:xfrm>
            <a:custGeom>
              <a:avLst/>
              <a:gdLst>
                <a:gd name="textAreaLeft" fmla="*/ 0 w 5105520"/>
                <a:gd name="textAreaRight" fmla="*/ 5105880 w 5105520"/>
                <a:gd name="textAreaTop" fmla="*/ 0 h 1003320"/>
                <a:gd name="textAreaBottom" fmla="*/ 1003680 h 1003320"/>
              </a:gdLst>
              <a:ahLst/>
              <a:rect l="textAreaLeft" t="textAreaTop" r="textAreaRight" b="textAreaBottom"/>
              <a:pathLst>
                <a:path w="3216" h="632">
                  <a:moveTo>
                    <a:pt x="3216" y="528"/>
                  </a:moveTo>
                  <a:cubicBezTo>
                    <a:pt x="3048" y="328"/>
                    <a:pt x="2880" y="128"/>
                    <a:pt x="2640" y="96"/>
                  </a:cubicBezTo>
                  <a:cubicBezTo>
                    <a:pt x="2400" y="64"/>
                    <a:pt x="2056" y="256"/>
                    <a:pt x="1776" y="336"/>
                  </a:cubicBezTo>
                  <a:cubicBezTo>
                    <a:pt x="1496" y="416"/>
                    <a:pt x="1256" y="632"/>
                    <a:pt x="960" y="576"/>
                  </a:cubicBezTo>
                  <a:cubicBezTo>
                    <a:pt x="664" y="520"/>
                    <a:pt x="160" y="96"/>
                    <a:pt x="0" y="0"/>
                  </a:cubicBezTo>
                </a:path>
              </a:pathLst>
            </a:custGeom>
            <a:noFill/>
            <a:ln w="4428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895480" y="2419200"/>
              <a:ext cx="350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کال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4"/>
            <p:cNvSpPr/>
            <p:nvPr/>
          </p:nvSpPr>
          <p:spPr>
            <a:xfrm>
              <a:off x="2438280" y="1809720"/>
              <a:ext cx="152424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امور معنو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(دانش و گواهی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5"/>
            <p:cNvSpPr/>
            <p:nvPr/>
          </p:nvSpPr>
          <p:spPr>
            <a:xfrm>
              <a:off x="4419720" y="3714480"/>
              <a:ext cx="23619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خدما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6"/>
            <p:cNvSpPr/>
            <p:nvPr/>
          </p:nvSpPr>
          <p:spPr>
            <a:xfrm>
              <a:off x="1752480" y="4248000"/>
              <a:ext cx="35053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مالی و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سهیلات اعتبار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"/>
            <p:cNvSpPr/>
            <p:nvPr/>
          </p:nvSpPr>
          <p:spPr>
            <a:xfrm>
              <a:off x="3886200" y="1352520"/>
              <a:ext cx="1181160" cy="4876560"/>
            </a:xfrm>
            <a:custGeom>
              <a:avLst/>
              <a:gdLst>
                <a:gd name="textAreaLeft" fmla="*/ 0 w 1181160"/>
                <a:gd name="textAreaRight" fmla="*/ 1181520 w 1181160"/>
                <a:gd name="textAreaTop" fmla="*/ 0 h 4876560"/>
                <a:gd name="textAreaBottom" fmla="*/ 4876920 h 4876560"/>
              </a:gdLst>
              <a:ahLst/>
              <a:rect l="textAreaLeft" t="textAreaTop" r="textAreaRight" b="textAreaBottom"/>
              <a:pathLst>
                <a:path w="744" h="3072">
                  <a:moveTo>
                    <a:pt x="592" y="0"/>
                  </a:moveTo>
                  <a:cubicBezTo>
                    <a:pt x="312" y="156"/>
                    <a:pt x="32" y="312"/>
                    <a:pt x="16" y="528"/>
                  </a:cubicBezTo>
                  <a:cubicBezTo>
                    <a:pt x="0" y="744"/>
                    <a:pt x="384" y="1048"/>
                    <a:pt x="496" y="1296"/>
                  </a:cubicBezTo>
                  <a:cubicBezTo>
                    <a:pt x="608" y="1544"/>
                    <a:pt x="744" y="1720"/>
                    <a:pt x="688" y="2016"/>
                  </a:cubicBezTo>
                  <a:cubicBezTo>
                    <a:pt x="632" y="2312"/>
                    <a:pt x="396" y="2692"/>
                    <a:pt x="160" y="3072"/>
                  </a:cubicBezTo>
                </a:path>
              </a:pathLst>
            </a:custGeom>
            <a:noFill/>
            <a:ln w="4140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A4DD-A927-4C6A-AAF6-9A4D0A7F6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-304920" y="60480"/>
            <a:ext cx="95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خط مشی اخلاقی سازمان در قبال تأمین کنندگ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-990720" y="1127160"/>
            <a:ext cx="9753840" cy="68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نگرش مثبت و خیرخواهان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مواجهه صادقانه، صریح و توأم با احترام اصی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پای بندی به تعهدات و پرداخت به موقع مطالبا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حفظ حریم شخصی و حقوق مالکیت معنوی و فکر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رازداری و امانت دار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اجتناب از ضرر رساند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جبران خسارت ناشی از عملکرد سازما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E077-50A2-4A0E-9AB9-85ADF026B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152280" y="479520"/>
            <a:ext cx="8839440" cy="78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8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پیش بینی پذیر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9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نقدپذیری و پاسخگوی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0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سرعت و سهولت در تعامل همراه با دقت و صحت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1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اطلاع رسانی به موقع، دقیق و شفاف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2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حمایت معنوی و وفادار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3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ارائه عادلانه فرصتها و پرهیز از هرگونه تبعیض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4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ترویج اخلاق حرفه ای در تأمین کنندگان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04F1-2768-4615-BA2D-69AB7ED21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762120" y="52560"/>
          <a:ext cx="7696080" cy="6730920"/>
        </p:xfrm>
        <a:graphic>
          <a:graphicData uri="http://schemas.openxmlformats.org/drawingml/2006/table">
            <a:tbl>
              <a:tblPr/>
              <a:tblGrid>
                <a:gridCol w="6962760"/>
                <a:gridCol w="733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وظايف اخلاقي هيات مدير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13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خلاق ورزي در زندگي شخص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خلاق ورزي در شغل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خلاق سازي آرمان واهداف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ظام مند كردن همه امور حرفه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ي در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هت گيري اخلاقي نظامهاي حرفه اي در 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رزيابي مستمر عملكرد اخلاقي 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واجهه روشمند با معضلات اخلاقي (تشخيص مساله و حل آنها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رويج ارزشهاي اخلاقي وآموزش اخلاق ورزي در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قوف بر تبعات اخلاقي تصميم هاي هيات مدير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دوين،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ويب و اعلام منشور اخلاقي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ظارت بر پاي بندي استثنا ناپذير به منشور اخلاقي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بليغ اقدامهاي اخلاقي 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CE77-46D3-42E0-BC4D-AE0571F39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762120" y="762120"/>
          <a:ext cx="7848360" cy="4636800"/>
        </p:xfrm>
        <a:graphic>
          <a:graphicData uri="http://schemas.openxmlformats.org/drawingml/2006/table">
            <a:tbl>
              <a:tblPr/>
              <a:tblGrid>
                <a:gridCol w="7259400"/>
                <a:gridCol w="588960"/>
              </a:tblGrid>
              <a:tr h="165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آثار نظام</a:t>
                      </a:r>
                      <a:r>
                        <a:rPr b="1" i="1" lang="fa-IR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‌</a:t>
                      </a: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مندسازي شو</a:t>
                      </a:r>
                      <a:r>
                        <a:rPr b="1" i="1" lang="fa-IR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ؤ</a:t>
                      </a: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نات حرفه در بنگاه</a:t>
                      </a: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2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منع تصميم هاي سليقه اي و تبعيض آميز و كاهش ظلم سازماني افزايش نرخ پيش بيني  پذيري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ايجاد و ترويج اعتماد راسخ ، پايدار و فراگير  محيط  به بنگا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تحقق شايسته سالاري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استقلال و مسئوليت  پذيري بخشها و مجموعه ها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زمينه سازي براي تحول در عين ثبات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تسهيل و تصحيح رابطه صف و ستاد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Text Box 13"/>
          <p:cNvSpPr/>
          <p:nvPr/>
        </p:nvSpPr>
        <p:spPr>
          <a:xfrm>
            <a:off x="7375680" y="529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7162920" y="563868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1799280" y="5562720"/>
            <a:ext cx="63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لايل اخلاقي بودن نظام مندسازي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زم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FEC9-F40B-4591-9683-BB1DFC403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cc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66cc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Arial"/>
                <a:cs typeface="B Zar"/>
              </a:rPr>
              <a:t>احترام</a:t>
            </a:r>
            <a:r>
              <a:rPr b="0" lang="fa-IR" sz="6000" spc="-1" strike="noStrike">
                <a:solidFill>
                  <a:srgbClr val="000000"/>
                </a:solidFill>
                <a:latin typeface="Arial"/>
                <a:ea typeface="B Zar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رفتاری که احساس ارزشمندی را به طرف مقابل منتقل می کن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Za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2666880" y="1522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0000"/>
                </a:solidFill>
                <a:latin typeface="Arial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1219320" y="32767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خود داری از هر گونه تحقیر و خوار داشتن طرف مقا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E406-2B90-4E64-8C74-9CAF72288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0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2" dur="2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cc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66cc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6600"/>
                </a:solidFill>
                <a:latin typeface="Arial"/>
                <a:cs typeface="B Zar"/>
              </a:rPr>
              <a:t>امانت چی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چه اموری در دست ما امانت محسوب می شون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2590920" y="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0000"/>
                </a:solidFill>
                <a:latin typeface="Arial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8153280" y="2286000"/>
            <a:ext cx="304920" cy="3962520"/>
          </a:xfrm>
          <a:custGeom>
            <a:avLst/>
            <a:gdLst>
              <a:gd name="textAreaLeft" fmla="*/ 0 w 304920"/>
              <a:gd name="textAreaRight" fmla="*/ 110160 w 3049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6095880" y="2452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خود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5638680" y="29718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امکانات ساز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5410080" y="34290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اطلاعات ساز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5943600" y="38862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برند ساز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6095880" y="4267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سرمایه ساز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6324480" y="46483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مشتری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6324480" y="51055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همکار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24FC-A2C1-4EE1-9B77-64DE94E3D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5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5" dur="2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5943600" y="1905120"/>
            <a:ext cx="32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اخلاق حرفه ا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6019920" y="1219320"/>
            <a:ext cx="533160" cy="2286000"/>
          </a:xfrm>
          <a:custGeom>
            <a:avLst/>
            <a:gdLst>
              <a:gd name="textAreaLeft" fmla="*/ 0 w 533160"/>
              <a:gd name="textAreaRight" fmla="*/ 374040 w 533160"/>
              <a:gd name="textAreaTop" fmla="*/ 95040 h 2286000"/>
              <a:gd name="textAreaBottom" fmla="*/ 21909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889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533520" y="762120"/>
            <a:ext cx="5562360" cy="938880"/>
            <a:chOff x="-533520" y="762120"/>
            <a:chExt cx="5562360" cy="938880"/>
          </a:xfrm>
        </p:grpSpPr>
        <p:sp>
          <p:nvSpPr>
            <p:cNvPr id="141" name="Text Box 6"/>
            <p:cNvSpPr/>
            <p:nvPr/>
          </p:nvSpPr>
          <p:spPr>
            <a:xfrm>
              <a:off x="1981080" y="762120"/>
              <a:ext cx="304776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رهیافت مدیریت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منابع انسان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>
              <a:off x="1981080" y="914400"/>
              <a:ext cx="685800" cy="609480"/>
            </a:xfrm>
            <a:prstGeom prst="leftArrow">
              <a:avLst>
                <a:gd name="adj1" fmla="val 50000"/>
                <a:gd name="adj2" fmla="val 2813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-533520" y="930240"/>
              <a:ext cx="3047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کارکنان اخلاقی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3"/>
          <p:cNvGrpSpPr/>
          <p:nvPr/>
        </p:nvGrpSpPr>
        <p:grpSpPr>
          <a:xfrm>
            <a:off x="-457200" y="3048120"/>
            <a:ext cx="5486400" cy="1128240"/>
            <a:chOff x="-457200" y="3048120"/>
            <a:chExt cx="5486400" cy="1128240"/>
          </a:xfrm>
        </p:grpSpPr>
        <p:sp>
          <p:nvSpPr>
            <p:cNvPr id="145" name="Text Box 9"/>
            <p:cNvSpPr/>
            <p:nvPr/>
          </p:nvSpPr>
          <p:spPr>
            <a:xfrm>
              <a:off x="1981080" y="3048120"/>
              <a:ext cx="304812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رهیافت مدیریت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راهبرد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0"/>
            <p:cNvSpPr/>
            <p:nvPr/>
          </p:nvSpPr>
          <p:spPr>
            <a:xfrm>
              <a:off x="2057400" y="3200400"/>
              <a:ext cx="533160" cy="6098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-457200" y="3168720"/>
              <a:ext cx="30477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سازمان اخلاقی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936E-D99B-4119-9B0C-4486A2989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Text Box 20" descr=""/>
          <p:cNvPicPr/>
          <p:nvPr/>
        </p:nvPicPr>
        <p:blipFill>
          <a:blip r:embed="rId1"/>
          <a:stretch/>
        </p:blipFill>
        <p:spPr>
          <a:xfrm>
            <a:off x="0" y="4973760"/>
            <a:ext cx="9144000" cy="12808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3"/>
          <p:cNvSpPr/>
          <p:nvPr/>
        </p:nvSpPr>
        <p:spPr>
          <a:xfrm>
            <a:off x="4876920" y="914400"/>
            <a:ext cx="1066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Arial"/>
              </a:rPr>
              <a:t>سنت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4876920" y="3200400"/>
            <a:ext cx="106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Arial"/>
              </a:rPr>
              <a:t>جدی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4267080" y="91440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4267080" y="320040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cc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66cc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6600"/>
                </a:solidFill>
                <a:latin typeface="Arial"/>
                <a:cs typeface="B Zar"/>
              </a:rPr>
              <a:t>امانت‌داری چی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حفظ و نگهداری بدون تصرف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2590920" y="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0000"/>
                </a:solidFill>
                <a:latin typeface="Arial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733920" y="25909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تصرف درچارچوب مقررا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4800600" y="35812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تصرف در چارچوب توافق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2362320" y="5105520"/>
            <a:ext cx="44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Zar"/>
              </a:rPr>
              <a:t>تصرف بهینه = بهره و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36A8-2268-48D6-8540-D7693E687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5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2" dur="2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"/>
                <a:cs typeface="B Morvarid"/>
              </a:rPr>
              <a:t>عهدنامه اخلاقي انجمن كامپيوتر استراليا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B Morvarid"/>
              </a:rPr>
              <a:t>ACS </a:t>
            </a:r>
            <a:r>
              <a:rPr b="0" lang="fa-IR" sz="4000" spc="-1" strike="noStrike">
                <a:solidFill>
                  <a:srgbClr val="000000"/>
                </a:solidFill>
                <a:latin typeface="Arial"/>
                <a:ea typeface="B Morvarid"/>
              </a:rPr>
              <a:t>   1988</a:t>
            </a:r>
            <a:r>
              <a:rPr b="0" lang="fa-IR" sz="4000" spc="-1" strike="noStrike">
                <a:solidFill>
                  <a:srgbClr val="000000"/>
                </a:solidFill>
                <a:latin typeface="Arial"/>
                <a:ea typeface="B Morvari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من با مسئوليت پذيري شغلي وبدون هرگونه كوتاهي درمعامله با مشتريها،كارفرمايان، كارگران، دانشجويان وهيأت هاي عمومي مربوطه عمل خواهم كر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(الويتها) من به مصالح و منافع مشتريان، كارفرماها و كارمندانم و دانشجويان و هيات عمومي، خدمت خواهم كرد، چنين موضوعاتي از نظر الويت كمتر از اميال خودم يا همكارانم نيست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B196-40D7-44EC-ACB3-063DA4BA2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79280" y="761760"/>
            <a:ext cx="89647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صلاحيت) من با شايستگي و پشتكار براي مشتريانم و كارفرما كار خواهم كر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صداقت ) من در نمايش مهارتها ، دانش ، خدمات و توليدات خودم صادق خواهم بو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پيامدهاي اجتماعي ) من براي پيش بردن كيفيت زندگي آنهايي كه تحت تاثير كار من هستند كوشش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پيشرفت شغلي ) من توسعه خودم و همكارانم ، كارمندان، كارآموزان و دانشجويان را ترقي خواهم د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تخصص حسابرسي ) من امور مربوط به مسائل حسابرسي را با تماميت و بدون عيب و نقص به متخصصين حسابرسي ارائه نموده و به اعضايشان احترام بيشتري خواهم گذاش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0B49-4944-4640-AE48-18F1F100B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0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الويتها : من به منافع مشتريان و كار فرماها، كارمندان و شاگردان و جماعت و هيات هاي عمومي، خدمت خواهم كرد، چنين موضوعاتي از نظر الويت كمتر از اميال خودم يا همكارانم نيس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راي حفظ كردن پيوستگي خدمات حسابرسي و جريان اطلاعات سپرده شده به من، خواهم كوش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راي حفظ درستي و ايمني اطلاعات ديگران خواهم كوش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ه اصل مالكيت اطلاعات ديگران احترام خواهم گذاش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ه مشتريان و كارفرماهايم درباره ي هر تضاد بالقوه منافع، بين مفهوم واگذاري و مشروعيت كار من يا ديگر نيازهاي پذيرفته شدۀ اجتماع سفارش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A302-3673-4C25-8A04-8CE1A23B8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0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2072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مشتريان و كارفرماها را سريعا از هر تضاد منافع يا اعتراضات جدي كه با آن روبرو مي شوم و در ارتباط  با كارم مي باشد،آگاه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صلاحي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ن با شايستگي و سخت كوشي براي ارباب رجوع ها و كار فرماهايم ‘ كار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راي ايجاد محصولات و خدماتي كه با نيازهاي مالي و اجرايي مشتريان و كارفرماهايم رقابت كنند، خواهم كوش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راي پول در خدمات و توليداتي كه تهيه كرده ام، ارزش قائل خواهم بو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خودم را از استانداردهاي مناسب و عمل مطابق آن آگاه خواهم گذاش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از منافع اختصاصي كارفرماها و مشتريانم حمايت خواهم كرد و به آنها احترام خواهم گذاش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B59C-2458-4D70-953E-1585B14C5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0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20124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مسئوليت كار خودم را خواهم پذيرفت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- هروقت گمان كنم كه يك پروژه پيشنهاد شده به مصلحت آنها نيست، مشتريان و كارفرماهايم را مطلع 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7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در صورت لزوم به منظور عملكرد حرفه اي، مافوق دستورالعمل خودم عمل 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صداقت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من در نمايش مهارتها، دانش، خدمات و محصولات صادق خواهم بو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يك ارباب رجوع يا مشتري مستعد را در خصوص يك محصول يا خدمت ، عمداً گمراه نخواهم كرد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هارتها يا دانشم را بصورت بد و نامناسبي جلوه ن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-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نظراتي خواهم داد كه تا حد ممكن بي غرض و عيني هستن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-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راي پرورژه تحت كنترلم، واقع بينانه تخمين خواهم ز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عقايد حرفه اي را كه مي دانم بر تجربيات علمي محدود بنا شده است، توصيف 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5891-5D59-4192-8937-34834D180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0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6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0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2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6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0" dur="5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4" dur="5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500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در جايي كه اعتبار لازم باشد، براي كار انجام شده توسط ديگران، اعتبار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پيامدهاي اجتم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ن براي پيشرفت كيفيت زندگي آنهايي كه تحت تاثير كار من هستند، كوشش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سلامت و امنيت كساني را كه تحت تاثير كار من هستند،ترقي خواهم داد و محافظت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ه آسايش مردمي كه ممكن تحت تاثير كار من باشند توجه مي كنم و احترام خواهم گذاش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ه كارمندانم احترام خواهم گذاشت و از رفتار غير منصفانه با آنها خودداري مي كن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تلاش خواهم كرد كه احساسات آنهايي را كه تحت تاثير كار من هستند درك كنم و احترام لازم به آنها بگذارم، چه با احساسات موافق باشم چه نباش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749C-12C7-4398-A039-04A42D6EB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0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من كوشش خواهم كرد كه احساس رضايت شخصي، صلاحيت وكنترل آنهايي را كه تحت تاثير كار من هستند، افزايش د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ه تحت نفوذ قرار دادن كسي براي انجام عملي كه مستلزم نقص اين مرامنامه است، نياز نخواهم داشت يا سعي نخواهم كر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توسعه ي شغ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من توسعه شغلي خودم و همكارانم و كارمندانم و شاگردانم را ارتقاء خواهم دا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1-5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- من به بالا بردن سطح دانش و مهارتهايم ادامه خواهم د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EA77-EC46-404C-BA72-2B0D5A708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0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3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7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1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5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9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-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آگاهي‌هاي خود را ازموضوعات موثر بر حرفه حسابرسي و ارتباط آن با انجمن افزايش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-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همكارانم كارمندان و شاگردان به ادامه توسعه شغلي خودشان، تشويق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تخصص حسابرسي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ن وجدان حرفه اي، حرفه حسابرسي واحترام گذاشتن به اعضايش را ارتقاء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-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در موقع لزوم، عقايد حرفه اي همكاران در زمينه كارايي، جستجو خواهم كرد و به آنها احترام خواهم گذاش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-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عمداً دست به كارهاي نادرست و نامشروع نخواهم زد يا با آنها در ارتباط نخواهم ب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-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براي ارتقاء شهرت خودم با خرج آبروي ديگران  تلاش نمي كن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8873-65B7-418E-87A9-8320F0E84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0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8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4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0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6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2" dur="1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8" dur="10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4" dur="10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8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درجلو بردن پردازش اطلاعات توسط ارتباط با ديگر حرفه اي ها، شاگردان و عموم، و با شركت كردن در كوشش هاي حرفه اي و جوامع علمي و مدارس، همكاري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از كسي كه عضويت در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به دليل رفتار غير اخلاقي يا كردار ناخوشايند منقضي شده باشد، اطلاعات كارتخصصي خودم را پنهان مي كن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اگر دريابم كه يك عضو يا شخصي توانسته است با دست زدن به رفتار غيراخلاقي يك عضو بالقوه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باشد، من عمل مناسب را انجام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7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هر وقت با يك مسئله دشوار اخلاقي روبرو شدم كه قادر نباشم خودم حل كنم، نكته وپند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ا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را جستجو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براي مطمئن شدن به اينكه اعمال هماهن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طابق با اين مرامنامه هستند،آنچه مي توانم انجام خواهم د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9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اذعان دارم به تعهد خودم نسبت به حرفه ي حسابرسي، تخصص گرايي را در محاسبات حمايت كرده و آن را ارتقاء خواهم داد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5074-9042-4C7D-A40E-DF2686A5C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0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9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9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9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9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9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295280" y="1538280"/>
            <a:ext cx="67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333399"/>
                </a:solidFill>
                <a:latin typeface="Times New Roman"/>
                <a:cs typeface="B Nikoo"/>
              </a:rPr>
              <a:t>اخلاقی بودن سازمان در گر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657600" y="464832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4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مهارتهای رفتار ارتباط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352680" y="3962520"/>
            <a:ext cx="5334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3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انگیزش درونی (خود انگیختگ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295280" y="325584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2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دانش اخلاق سازمانی (سند جامع اخلاق سازمان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4B1A-94BD-4C10-B179-B5F8E9EBC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Text Box 15" descr=""/>
          <p:cNvPicPr/>
          <p:nvPr/>
        </p:nvPicPr>
        <p:blipFill>
          <a:blip r:embed="rId1"/>
          <a:stretch/>
        </p:blipFill>
        <p:spPr>
          <a:xfrm>
            <a:off x="-79200" y="195120"/>
            <a:ext cx="9381960" cy="13161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0"/>
          <p:cNvSpPr/>
          <p:nvPr/>
        </p:nvSpPr>
        <p:spPr>
          <a:xfrm>
            <a:off x="4267080" y="2646360"/>
            <a:ext cx="4419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Arial"/>
                <a:ea typeface="B Bardiya"/>
              </a:rPr>
              <a:t>1) </a:t>
            </a:r>
            <a:r>
              <a:rPr b="1" lang="fa-IR" sz="3000" spc="-1" strike="noStrike">
                <a:solidFill>
                  <a:srgbClr val="9900cc"/>
                </a:solidFill>
                <a:latin typeface="Arial"/>
                <a:cs typeface="B Bardiya"/>
              </a:rPr>
              <a:t>تلقی اخلاقی از محیط</a:t>
            </a:r>
            <a:r>
              <a:rPr b="1" lang="fa-IR" sz="3000" spc="-1" strike="noStrike">
                <a:solidFill>
                  <a:srgbClr val="9900cc"/>
                </a:solidFill>
                <a:latin typeface="Arial"/>
                <a:ea typeface="B Bardiy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581280" y="523728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5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بهینه سازی زیرساخت‌ها و فراینده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581280" y="577044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6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حمایت الزام قانونی از اخلا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500" spc="-1" strike="noStrike">
                <a:solidFill>
                  <a:srgbClr val="000000"/>
                </a:solidFill>
                <a:latin typeface="Arial"/>
                <a:cs typeface="B Morvarid"/>
              </a:rPr>
              <a:t>آيين نامه ي اخلاقي انستيتوي مهندسان برق و الكترونيك (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</a:t>
            </a:r>
            <a:r>
              <a:rPr b="1" lang="fa-IR" sz="3500" spc="-1" strike="noStrike">
                <a:solidFill>
                  <a:srgbClr val="000000"/>
                </a:solidFill>
                <a:latin typeface="Arial"/>
                <a:ea typeface="B Morvarid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000" y="1828800"/>
            <a:ext cx="90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ا اعضا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B Lotus"/>
              </a:rPr>
              <a:t>IE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Lotus"/>
              </a:rPr>
              <a:t>‘ با دانستن اهميت تكنولوژي خود در تاثير گذاري بر كيفيت زندگي در سراسر جهان ‘ و با قبول تعهد شخصي نسبت به حرفه خود، اعضاي آن و جوامعي كه به آنها خدمت مي كنيم، بدين وسيله خود را عاليترين رفتار اخلاقي و حرفه اي ملزم مي دانيم و مي پذيريم ك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در اتخاذ تصميم‌هاي مهندسي مطابق با ايمني، سلامت و رفاه عموم مسئوليت قبول كنيم و عواملي را كه ممكن است جامعه يا محيط را به خطر بيفكند فوراً مرتفع كني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هر جا كه ممكن باشد از تعارض واقعي يا فرضي مناقع اجتناب كنيم و در صورت وجود چنين تعارضي مانع تاثير آن بر طرفهاي ذي ربط شويم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F043-E91C-4E1F-B7AE-AF13F95D9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0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3534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در بيان ادعاها يا برآوردها، بر اساس داده هاي موجود، صادق و واقع بين باش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ارتشاء را در تمام شكلهايش نفي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دانش فني، كاربرد ضروري آن و پيامدهاي بالقوه اش را بهبود ببخش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صلاحيت فني خود را پاس داريم و ارتقاء دهيم و صرفا در صورت احراز تعليمات با تجارب، يا پس از رفع محدوديتهاي مقتضي، و ظايف تكنولوژيكي را بر عهده بگير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جو يا پذيرا و ارائه كننده نقد صادقانه از كار فني باشيم، خطاها را بپذيريم و اصلاح كنيم، و براي نقش ديگران اعتبار شايسته قايل شو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با همه ، صرف نظر از عواملي چون نژاد، مذهب، جنسيت، معلوليت، سن و سال، يا مليت با عدالت رفتار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از لطمه زدن به ديگران، اموال، شهرت و آبرو يا اشتغال آنها با اقدام‌هاي كاذب يا بدخواهانه خودداري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به همتايان و همكاران در رشد حرفه اي آنها ياري برسانيم و از آنها در پيروي از اين آيين نامه اخلاقي حمايت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8E50-FFC4-4012-A220-1B7E2C998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107640" y="609120"/>
            <a:ext cx="88930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ا معتقديم كه در وهله اول در برابر پزشكان، پرستاران، بيمارستانها، مادران و همه كساني كه فراورده هاي ما را مصرف مي كنند مسئول هست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فراورده هاي ما همواره بايد مرغوبترين كيفيت را داشته باشد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ا بايد همواره بكوشيم كه قيمت اين فراورد ه ها را پايين بياور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سفارشات بايد به فوريت و با دقت آماده شو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در وهله دوم، خود را در برابر كساني كه با ما كار مي كنند، مسئول مي دان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ردان و زناني كه در كارخانه ها و دفاتر با ما همكاري مي‌كنند بايد از نظر شغلي احساس امنيت كن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دستمزدها بايد عادلانه و كافي باش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ديران آنها بايد منصف باشند. ساعات كار ‌آنها معقول، و محيط كار آنها تميز و منظم باش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به شكايات و پيشنهادهاي كاركنان بايد به طور سازمان يافته رسيدگي شو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سرپرستان و روساي دواير بايد ورزيده و بي غرض باش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براي هر كس كه لياقت داشته باشد بايد فرصت پيشرفت فراهم باش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و با اشخاص بايد به صورت فردي عمل شو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در وهله سوم خود را در برابر مديرانمان مسئول مي دان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1258920" y="115920"/>
            <a:ext cx="66978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B Morvarid"/>
              </a:rPr>
              <a:t>مرامنامه شرکت جانسن اند جانس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9406-85D6-41AD-9851-11CA30DFF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0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2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6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0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4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8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2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6" dur="5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0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4" dur="500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8" dur="500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2" dur="500"/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6" dur="500"/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0" dur="500"/>
                                        <p:tgtEl>
                                          <p:spTgt spid="4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95280" y="304920"/>
            <a:ext cx="8353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مديران ما بايد افرادي شايسته، مجرب و توانا باشن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آنها بايد از شعور متعارف و درك كامل بهره مند باشن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در مرحله بعد خود را در برابر جوامعي كه در آنها زندگي مي كنيم مسئول مي دان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ما بايد حمايت از نيكوكاري و نوعدوستي، شهروندان خوب جامعه باشيم و سهم خود را از ماليات عادلانه بپرداز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به شكرانه در اختيار داشتن اموال و ابزار، از آنها به خوبي مواظبت كن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در ارتقاء و بهبود جامعه مدني، بهداشت، آموزش و دولت خوب، سهيم و شريك باش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و جامعه را از فعاليتهاي خود آگاه كن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نجمين و آخرين مسئوليت ما، نسبت به سهامداران شركت است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سود شركت بايد چشمگير باش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ما بايد اندوخته داشته باشيم و بايد كار پژوهش دنبال شو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رنامه هاي تكاپو جويانه تنظيم شود و تاوان خطاها پرداخت شو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فكر زمان مبادا باشيم، مالياتها را بپردازيم، دستگاههاي جديد براي فروش تدارك كني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افكار نو را به محك تجربه بيازمائ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وقتي اين كار ها انجام شود، سهماداران نيز از حق عادلانه خود برخوردار خواهند شد، ما متكي به خداوند بزرگ هستيم تا به ياري او اين وظايف و تعهدات را به بهترين صورت انجام دهي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1846-B5A4-4E2E-872F-8CAB86873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nodeType="clickEffect" fill="hold">
                      <p:stCondLst>
                        <p:cond delay="0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7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1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5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9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3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7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1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5" dur="5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9" dur="500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3" dur="500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7" dur="500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1" dur="500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5" dur="500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9" dur="500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3" dur="500"/>
                                        <p:tgtEl>
                                          <p:spTgt spid="4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6" descr="MC900439257.JPG"/>
          <p:cNvPicPr/>
          <p:nvPr/>
        </p:nvPicPr>
        <p:blipFill>
          <a:blip r:embed="rId1"/>
          <a:stretch/>
        </p:blipFill>
        <p:spPr>
          <a:xfrm>
            <a:off x="539640" y="0"/>
            <a:ext cx="7993080" cy="6858000"/>
          </a:xfrm>
          <a:prstGeom prst="rect">
            <a:avLst/>
          </a:prstGeom>
          <a:ln w="0">
            <a:noFill/>
          </a:ln>
        </p:spPr>
      </p:pic>
      <p:pic>
        <p:nvPicPr>
          <p:cNvPr id="406" name="TextBox 3" descr=""/>
          <p:cNvPicPr/>
          <p:nvPr/>
        </p:nvPicPr>
        <p:blipFill>
          <a:blip r:embed="rId2"/>
          <a:stretch/>
        </p:blipFill>
        <p:spPr>
          <a:xfrm>
            <a:off x="817560" y="3975120"/>
            <a:ext cx="7680240" cy="26748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4"/>
          <p:cNvSpPr/>
          <p:nvPr/>
        </p:nvSpPr>
        <p:spPr>
          <a:xfrm>
            <a:off x="2627280" y="3338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500" spc="-1" strike="noStrike">
                <a:solidFill>
                  <a:srgbClr val="000000"/>
                </a:solidFill>
                <a:latin typeface="Calibri"/>
                <a:cs typeface="B Baran"/>
              </a:rPr>
              <a:t>تلفکس: </a:t>
            </a:r>
            <a:r>
              <a:rPr b="0" lang="fa-IR" sz="4500" spc="-1" strike="noStrike">
                <a:solidFill>
                  <a:srgbClr val="000000"/>
                </a:solidFill>
                <a:latin typeface="Calibri"/>
                <a:ea typeface="B Baran"/>
              </a:rPr>
              <a:t>88756019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ounded Rectangular Callout 9"/>
          <p:cNvSpPr/>
          <p:nvPr/>
        </p:nvSpPr>
        <p:spPr>
          <a:xfrm>
            <a:off x="5364000" y="404640"/>
            <a:ext cx="2592720" cy="792360"/>
          </a:xfrm>
          <a:prstGeom prst="wedgeRoundRectCallout">
            <a:avLst>
              <a:gd name="adj1" fmla="val -49935"/>
              <a:gd name="adj2" fmla="val 68171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Rectangle 8" descr=""/>
          <p:cNvPicPr/>
          <p:nvPr/>
        </p:nvPicPr>
        <p:blipFill>
          <a:blip r:embed="rId3"/>
          <a:stretch/>
        </p:blipFill>
        <p:spPr>
          <a:xfrm>
            <a:off x="4992840" y="152280"/>
            <a:ext cx="33591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0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3276720" y="152280"/>
            <a:ext cx="27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0000"/>
                </a:solidFill>
                <a:latin typeface="Times New Roman"/>
                <a:cs typeface="B Titr"/>
              </a:rPr>
              <a:t>معرفی مناب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684360" y="1066680"/>
            <a:ext cx="3498840" cy="51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scan0003"/>
          <p:cNvPicPr/>
          <p:nvPr/>
        </p:nvPicPr>
        <p:blipFill>
          <a:blip r:embed="rId2"/>
          <a:stretch/>
        </p:blipFill>
        <p:spPr>
          <a:xfrm>
            <a:off x="5076720" y="1066680"/>
            <a:ext cx="3527640" cy="51087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5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9E20-F60F-4C6C-85C4-4B30622E7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scan0017"/>
          <p:cNvPicPr/>
          <p:nvPr/>
        </p:nvPicPr>
        <p:blipFill>
          <a:blip r:embed="rId1"/>
          <a:stretch/>
        </p:blipFill>
        <p:spPr>
          <a:xfrm>
            <a:off x="835200" y="893880"/>
            <a:ext cx="3455640" cy="51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5092560" y="907920"/>
            <a:ext cx="3527640" cy="511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7" name="Text Box 4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9DD5-E650-47B7-8422-E637F43BF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3514680" cy="489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0" name="Picture 3" descr="Picture 004"/>
          <p:cNvPicPr/>
          <p:nvPr/>
        </p:nvPicPr>
        <p:blipFill>
          <a:blip r:embed="rId2"/>
          <a:stretch/>
        </p:blipFill>
        <p:spPr>
          <a:xfrm>
            <a:off x="5076720" y="1052640"/>
            <a:ext cx="3492720" cy="49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1" name="Text Box 4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15D9-159E-419E-A36C-F6F83E953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1128600" y="1066680"/>
            <a:ext cx="3384720" cy="49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4" name="Picture 3" descr="Picture 003"/>
          <p:cNvPicPr/>
          <p:nvPr/>
        </p:nvPicPr>
        <p:blipFill>
          <a:blip r:embed="rId2"/>
          <a:stretch/>
        </p:blipFill>
        <p:spPr>
          <a:xfrm>
            <a:off x="5160960" y="1050840"/>
            <a:ext cx="3191040" cy="489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5" name="Text Box 4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F854-DC6C-45F3-BB37-A56842D92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Picture"/>
          <p:cNvPicPr/>
          <p:nvPr/>
        </p:nvPicPr>
        <p:blipFill>
          <a:blip r:embed="rId1"/>
          <a:stretch/>
        </p:blipFill>
        <p:spPr>
          <a:xfrm>
            <a:off x="5257800" y="1341360"/>
            <a:ext cx="3129120" cy="4525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hamayesh-akhlaqhherfei"/>
          <p:cNvPicPr/>
          <p:nvPr/>
        </p:nvPicPr>
        <p:blipFill>
          <a:blip r:embed="rId2"/>
          <a:stretch/>
        </p:blipFill>
        <p:spPr>
          <a:xfrm>
            <a:off x="914400" y="1371600"/>
            <a:ext cx="3201840" cy="4525920"/>
          </a:xfrm>
          <a:prstGeom prst="rect">
            <a:avLst/>
          </a:prstGeom>
          <a:ln w="0">
            <a:noFill/>
          </a:ln>
        </p:spPr>
      </p:pic>
      <p:sp>
        <p:nvSpPr>
          <p:cNvPr id="4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974C-5772-460C-85CF-39D88F589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2286000" y="763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6600ff"/>
                </a:solidFill>
                <a:latin typeface="Times New Roman"/>
                <a:cs typeface="Times New Roman"/>
              </a:rPr>
              <a:t>مراحل اخلاقی ساز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-533520" y="1066680"/>
            <a:ext cx="96012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 کمیته یا شورای اخلاق حرفه ای سازمان زیرنظر مستقیم رئیس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تدوین سند جامع اخلاقی به روش مشارکت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تصویب سند جامع اخلاقی در بالاترین مرجع سازما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آموزش روشمند و فراگی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نظارت بر حسن اجرای سند اخلاق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ارزیابی 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360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درجه اخلاق حرفه ا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AE29-96F8-42D8-BF1E-58B9E6A16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عریف سند اخلاق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Lotus"/>
              </a:rPr>
              <a:t>فراگیرترین بیانیه رسمی سازمان در تدوین مسئولیت‌های اخلاقی آن در قبال حقوق محیط درونی و بیرو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Lotus"/>
              </a:rPr>
              <a:t>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Lotus"/>
              </a:rPr>
              <a:t>وظایف اخلاقی منابع انس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4BA1-3F69-47B4-B6B9-06137905E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52388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اختار سند جامع اخلاق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334120" y="1523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قدم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114800" y="217800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اصول اخلاق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-380880" y="28954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نشور اخلاقی سازمان: خط مشی های اخلاق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cs typeface="Times New Roman"/>
              </a:rPr>
              <a:t>در قبال حقوق محیط درونی و بیرو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-152280" y="4572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</a:t>
            </a: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عهدنامه های اخلاقی منابع انسانی (کارکنان و مدیران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1912-EA38-4FD0-9425-7F4C446DD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j0149481"/>
          <p:cNvPicPr/>
          <p:nvPr/>
        </p:nvPicPr>
        <p:blipFill>
          <a:blip r:embed="rId1"/>
          <a:stretch/>
        </p:blipFill>
        <p:spPr>
          <a:xfrm>
            <a:off x="5219640" y="1413000"/>
            <a:ext cx="3348000" cy="340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f-dptos-invest"/>
          <p:cNvPicPr/>
          <p:nvPr/>
        </p:nvPicPr>
        <p:blipFill>
          <a:blip r:embed="rId2"/>
          <a:stretch/>
        </p:blipFill>
        <p:spPr>
          <a:xfrm>
            <a:off x="2971800" y="3962520"/>
            <a:ext cx="233208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5"/>
          <p:cNvGrpSpPr/>
          <p:nvPr/>
        </p:nvGrpSpPr>
        <p:grpSpPr>
          <a:xfrm>
            <a:off x="4788000" y="404640"/>
            <a:ext cx="3959280" cy="1008360"/>
            <a:chOff x="4788000" y="404640"/>
            <a:chExt cx="3959280" cy="1008360"/>
          </a:xfrm>
        </p:grpSpPr>
        <p:sp>
          <p:nvSpPr>
            <p:cNvPr id="178" name="AutoShape 6"/>
            <p:cNvSpPr/>
            <p:nvPr/>
          </p:nvSpPr>
          <p:spPr>
            <a:xfrm>
              <a:off x="5076720" y="404640"/>
              <a:ext cx="3311640" cy="1008360"/>
            </a:xfrm>
            <a:prstGeom prst="downArrowCallout">
              <a:avLst>
                <a:gd name="adj1" fmla="val 82112"/>
                <a:gd name="adj2" fmla="val 82105"/>
                <a:gd name="adj3" fmla="val 16667"/>
                <a:gd name="adj4" fmla="val 6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788000" y="476280"/>
              <a:ext cx="395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عهد نامه اخلاقي فرد در حرف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"/>
          <p:cNvGrpSpPr/>
          <p:nvPr/>
        </p:nvGrpSpPr>
        <p:grpSpPr>
          <a:xfrm>
            <a:off x="108000" y="2708280"/>
            <a:ext cx="3959280" cy="936720"/>
            <a:chOff x="108000" y="2708280"/>
            <a:chExt cx="3959280" cy="936720"/>
          </a:xfrm>
        </p:grpSpPr>
        <p:sp>
          <p:nvSpPr>
            <p:cNvPr id="181" name="AutoShape 9"/>
            <p:cNvSpPr/>
            <p:nvPr/>
          </p:nvSpPr>
          <p:spPr>
            <a:xfrm>
              <a:off x="539640" y="2708280"/>
              <a:ext cx="2952720" cy="936720"/>
            </a:xfrm>
            <a:prstGeom prst="upArrowCallout">
              <a:avLst>
                <a:gd name="adj1" fmla="val 78812"/>
                <a:gd name="adj2" fmla="val 78805"/>
                <a:gd name="adj3" fmla="val 16667"/>
                <a:gd name="adj4" fmla="val 666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108000" y="3043080"/>
              <a:ext cx="39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نشور اخلاق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5221440" y="5013360"/>
            <a:ext cx="3958920" cy="1224000"/>
            <a:chOff x="5221440" y="5013360"/>
            <a:chExt cx="3958920" cy="1224000"/>
          </a:xfrm>
        </p:grpSpPr>
        <p:sp>
          <p:nvSpPr>
            <p:cNvPr id="184" name="AutoShape 12"/>
            <p:cNvSpPr/>
            <p:nvPr/>
          </p:nvSpPr>
          <p:spPr>
            <a:xfrm rot="10800000">
              <a:off x="5724000" y="5013360"/>
              <a:ext cx="2808360" cy="1224000"/>
            </a:xfrm>
            <a:prstGeom prst="rightArrow">
              <a:avLst>
                <a:gd name="adj1" fmla="val 50000"/>
                <a:gd name="adj2" fmla="val 573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3"/>
            <p:cNvSpPr/>
            <p:nvPr/>
          </p:nvSpPr>
          <p:spPr>
            <a:xfrm>
              <a:off x="5221440" y="5373720"/>
              <a:ext cx="39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صول اخلاق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4"/>
          <p:cNvGrpSpPr/>
          <p:nvPr/>
        </p:nvGrpSpPr>
        <p:grpSpPr>
          <a:xfrm>
            <a:off x="250920" y="260280"/>
            <a:ext cx="3168720" cy="2349720"/>
            <a:chOff x="250920" y="260280"/>
            <a:chExt cx="3168720" cy="2349720"/>
          </a:xfrm>
        </p:grpSpPr>
        <p:grpSp>
          <p:nvGrpSpPr>
            <p:cNvPr id="187" name="Group 15"/>
            <p:cNvGrpSpPr/>
            <p:nvPr/>
          </p:nvGrpSpPr>
          <p:grpSpPr>
            <a:xfrm>
              <a:off x="250920" y="260280"/>
              <a:ext cx="3168720" cy="2349720"/>
              <a:chOff x="250920" y="260280"/>
              <a:chExt cx="3168720" cy="2349720"/>
            </a:xfrm>
          </p:grpSpPr>
          <p:grpSp>
            <p:nvGrpSpPr>
              <p:cNvPr id="188" name="Group 16"/>
              <p:cNvGrpSpPr/>
              <p:nvPr/>
            </p:nvGrpSpPr>
            <p:grpSpPr>
              <a:xfrm>
                <a:off x="250920" y="260280"/>
                <a:ext cx="3168720" cy="2349720"/>
                <a:chOff x="250920" y="260280"/>
                <a:chExt cx="3168720" cy="2349720"/>
              </a:xfrm>
            </p:grpSpPr>
            <p:sp>
              <p:nvSpPr>
                <p:cNvPr id="189" name="Freeform 17"/>
                <p:cNvSpPr/>
                <p:nvPr/>
              </p:nvSpPr>
              <p:spPr>
                <a:xfrm flipV="1">
                  <a:off x="250920" y="853200"/>
                  <a:ext cx="1050480" cy="969120"/>
                </a:xfrm>
                <a:custGeom>
                  <a:avLst/>
                  <a:gdLst>
                    <a:gd name="textAreaLeft" fmla="*/ 0 w 1050480"/>
                    <a:gd name="textAreaRight" fmla="*/ 1050840 w 1050480"/>
                    <a:gd name="textAreaTop" fmla="*/ 360 h 969120"/>
                    <a:gd name="textAreaBottom" fmla="*/ 969840 h 969120"/>
                  </a:gdLst>
                  <a:ahLst/>
                  <a:rect l="textAreaLeft" t="textAreaTop" r="textAreaRight" b="textAreaBottom"/>
                  <a:pathLst>
                    <a:path w="1019" h="907">
                      <a:moveTo>
                        <a:pt x="0" y="566"/>
                      </a:moveTo>
                      <a:lnTo>
                        <a:pt x="0" y="906"/>
                      </a:lnTo>
                      <a:lnTo>
                        <a:pt x="1014" y="283"/>
                      </a:lnTo>
                      <a:lnTo>
                        <a:pt x="1018" y="307"/>
                      </a:lnTo>
                      <a:lnTo>
                        <a:pt x="869" y="0"/>
                      </a:lnTo>
                      <a:lnTo>
                        <a:pt x="0" y="566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18"/>
                <p:cNvSpPr/>
                <p:nvPr/>
              </p:nvSpPr>
              <p:spPr>
                <a:xfrm flipV="1">
                  <a:off x="2368800" y="853200"/>
                  <a:ext cx="1050840" cy="969120"/>
                </a:xfrm>
                <a:custGeom>
                  <a:avLst/>
                  <a:gdLst>
                    <a:gd name="textAreaLeft" fmla="*/ 0 w 1050840"/>
                    <a:gd name="textAreaRight" fmla="*/ 1051200 w 1050840"/>
                    <a:gd name="textAreaTop" fmla="*/ 360 h 969120"/>
                    <a:gd name="textAreaBottom" fmla="*/ 969840 h 969120"/>
                  </a:gdLst>
                  <a:ahLst/>
                  <a:rect l="textAreaLeft" t="textAreaTop" r="textAreaRight" b="textAreaBottom"/>
                  <a:pathLst>
                    <a:path w="1019" h="907">
                      <a:moveTo>
                        <a:pt x="1018" y="566"/>
                      </a:moveTo>
                      <a:lnTo>
                        <a:pt x="1018" y="906"/>
                      </a:lnTo>
                      <a:lnTo>
                        <a:pt x="3" y="283"/>
                      </a:lnTo>
                      <a:lnTo>
                        <a:pt x="0" y="307"/>
                      </a:lnTo>
                      <a:lnTo>
                        <a:pt x="148" y="0"/>
                      </a:lnTo>
                      <a:lnTo>
                        <a:pt x="1018" y="566"/>
                      </a:ln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1" name="Group 19"/>
                <p:cNvGrpSpPr/>
                <p:nvPr/>
              </p:nvGrpSpPr>
              <p:grpSpPr>
                <a:xfrm>
                  <a:off x="484200" y="260280"/>
                  <a:ext cx="2714400" cy="2349720"/>
                  <a:chOff x="484200" y="260280"/>
                  <a:chExt cx="2714400" cy="2349720"/>
                </a:xfrm>
              </p:grpSpPr>
              <p:sp>
                <p:nvSpPr>
                  <p:cNvPr id="192" name="AutoShape 20"/>
                  <p:cNvSpPr/>
                  <p:nvPr/>
                </p:nvSpPr>
                <p:spPr>
                  <a:xfrm flipH="1" flipV="1" rot="10800000">
                    <a:off x="483840" y="261360"/>
                    <a:ext cx="2712600" cy="2348280"/>
                  </a:xfrm>
                  <a:prstGeom prst="triangle">
                    <a:avLst>
                      <a:gd name="adj" fmla="val 49995"/>
                    </a:avLst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cap="sq" w="12600">
                    <a:solidFill>
                      <a:srgbClr val="00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21"/>
                  <p:cNvSpPr/>
                  <p:nvPr/>
                </p:nvSpPr>
                <p:spPr>
                  <a:xfrm flipV="1">
                    <a:off x="484920" y="259920"/>
                    <a:ext cx="1356840" cy="2349360"/>
                  </a:xfrm>
                  <a:custGeom>
                    <a:avLst/>
                    <a:gdLst>
                      <a:gd name="textAreaLeft" fmla="*/ 0 w 1356840"/>
                      <a:gd name="textAreaRight" fmla="*/ 1357200 w 1356840"/>
                      <a:gd name="textAreaTop" fmla="*/ 360 h 2349360"/>
                      <a:gd name="textAreaBottom" fmla="*/ 2350080 h 2349360"/>
                    </a:gdLst>
                    <a:ahLst/>
                    <a:rect l="textAreaLeft" t="textAreaTop" r="textAreaRight" b="textAreaBottom"/>
                    <a:pathLst>
                      <a:path w="1316" h="2199">
                        <a:moveTo>
                          <a:pt x="1315" y="2198"/>
                        </a:moveTo>
                        <a:lnTo>
                          <a:pt x="1315" y="1815"/>
                        </a:lnTo>
                        <a:lnTo>
                          <a:pt x="409" y="214"/>
                        </a:lnTo>
                        <a:lnTo>
                          <a:pt x="0" y="0"/>
                        </a:lnTo>
                        <a:lnTo>
                          <a:pt x="1315" y="2198"/>
                        </a:lnTo>
                      </a:path>
                    </a:pathLst>
                  </a:custGeom>
                  <a:solidFill>
                    <a:srgbClr val="002010">
                      <a:alpha val="50000"/>
                    </a:srgbClr>
                  </a:solidFill>
                  <a:ln cap="sq" w="12600">
                    <a:solidFill>
                      <a:srgbClr val="00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22"/>
                  <p:cNvSpPr/>
                  <p:nvPr/>
                </p:nvSpPr>
                <p:spPr>
                  <a:xfrm flipV="1">
                    <a:off x="484920" y="2377440"/>
                    <a:ext cx="2713680" cy="231840"/>
                  </a:xfrm>
                  <a:custGeom>
                    <a:avLst/>
                    <a:gdLst>
                      <a:gd name="textAreaLeft" fmla="*/ 0 w 2713680"/>
                      <a:gd name="textAreaRight" fmla="*/ 2714040 w 2713680"/>
                      <a:gd name="textAreaTop" fmla="*/ 360 h 231840"/>
                      <a:gd name="textAreaBottom" fmla="*/ 232560 h 231840"/>
                    </a:gdLst>
                    <a:ahLst/>
                    <a:rect l="textAreaLeft" t="textAreaTop" r="textAreaRight" b="textAreaBottom"/>
                    <a:pathLst>
                      <a:path w="2632" h="217">
                        <a:moveTo>
                          <a:pt x="0" y="0"/>
                        </a:moveTo>
                        <a:lnTo>
                          <a:pt x="409" y="216"/>
                        </a:lnTo>
                        <a:lnTo>
                          <a:pt x="2279" y="216"/>
                        </a:lnTo>
                        <a:lnTo>
                          <a:pt x="263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1bb96">
                      <a:alpha val="50000"/>
                    </a:srgbClr>
                  </a:solidFill>
                  <a:ln cap="sq" w="12600">
                    <a:solidFill>
                      <a:srgbClr val="00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23"/>
                  <p:cNvSpPr/>
                  <p:nvPr/>
                </p:nvSpPr>
                <p:spPr>
                  <a:xfrm flipV="1">
                    <a:off x="1840320" y="259920"/>
                    <a:ext cx="1357920" cy="2349360"/>
                  </a:xfrm>
                  <a:custGeom>
                    <a:avLst/>
                    <a:gdLst>
                      <a:gd name="textAreaLeft" fmla="*/ 0 w 1357920"/>
                      <a:gd name="textAreaRight" fmla="*/ 1358280 w 1357920"/>
                      <a:gd name="textAreaTop" fmla="*/ 360 h 2349360"/>
                      <a:gd name="textAreaBottom" fmla="*/ 2350080 h 2349360"/>
                    </a:gdLst>
                    <a:ahLst/>
                    <a:rect l="textAreaLeft" t="textAreaTop" r="textAreaRight" b="textAreaBottom"/>
                    <a:pathLst>
                      <a:path w="1317" h="2199">
                        <a:moveTo>
                          <a:pt x="0" y="2198"/>
                        </a:moveTo>
                        <a:lnTo>
                          <a:pt x="0" y="1815"/>
                        </a:lnTo>
                        <a:lnTo>
                          <a:pt x="906" y="214"/>
                        </a:lnTo>
                        <a:lnTo>
                          <a:pt x="1316" y="0"/>
                        </a:lnTo>
                        <a:lnTo>
                          <a:pt x="0" y="2198"/>
                        </a:lnTo>
                      </a:path>
                    </a:pathLst>
                  </a:custGeom>
                  <a:solidFill>
                    <a:srgbClr val="006633">
                      <a:alpha val="50000"/>
                    </a:srgbClr>
                  </a:solidFill>
                  <a:ln cap="sq" w="12600">
                    <a:solidFill>
                      <a:srgbClr val="00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Rectangle 24"/>
                <p:cNvSpPr/>
                <p:nvPr/>
              </p:nvSpPr>
              <p:spPr>
                <a:xfrm flipV="1">
                  <a:off x="250920" y="852480"/>
                  <a:ext cx="3163680" cy="33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99cc00"/>
                    </a:gs>
                    <a:gs pos="100000">
                      <a:srgbClr val="80808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Text Box 25"/>
              <p:cNvSpPr/>
              <p:nvPr/>
            </p:nvSpPr>
            <p:spPr>
              <a:xfrm>
                <a:off x="682920" y="765000"/>
                <a:ext cx="2519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66"/>
                    </a:solidFill>
                    <a:latin typeface="Times New Roman"/>
                    <a:cs typeface="Times New Roman"/>
                  </a:rPr>
                  <a:t>منشور اخلاقي سازما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8" name="Picture 26" descr="politd"/>
            <p:cNvPicPr/>
            <p:nvPr/>
          </p:nvPicPr>
          <p:blipFill>
            <a:blip r:embed="rId4"/>
            <a:stretch/>
          </p:blipFill>
          <p:spPr>
            <a:xfrm>
              <a:off x="1258920" y="1546200"/>
              <a:ext cx="1224000" cy="75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Slide Number Placeholder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31EC-5A4B-489D-B5DA-AE405A3E0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1"/>
          <p:cNvGrpSpPr/>
          <p:nvPr/>
        </p:nvGrpSpPr>
        <p:grpSpPr>
          <a:xfrm>
            <a:off x="228600" y="925560"/>
            <a:ext cx="8318520" cy="4332240"/>
            <a:chOff x="228600" y="925560"/>
            <a:chExt cx="8318520" cy="4332240"/>
          </a:xfrm>
        </p:grpSpPr>
        <p:sp>
          <p:nvSpPr>
            <p:cNvPr id="201" name="Oval 5"/>
            <p:cNvSpPr/>
            <p:nvPr/>
          </p:nvSpPr>
          <p:spPr>
            <a:xfrm>
              <a:off x="2784600" y="925560"/>
              <a:ext cx="3960720" cy="2016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نشور اخلاقی سازما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خط مشی های اخلاق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>
              <a:off x="6675480" y="1656000"/>
              <a:ext cx="1871640" cy="934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6554880" y="2351160"/>
              <a:ext cx="1346040" cy="18399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>
              <a:off x="5451480" y="2884680"/>
              <a:ext cx="644400" cy="22795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 flipH="1">
              <a:off x="4495680" y="2954520"/>
              <a:ext cx="152640" cy="23032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0"/>
            <p:cNvSpPr/>
            <p:nvPr/>
          </p:nvSpPr>
          <p:spPr>
            <a:xfrm flipH="1">
              <a:off x="3352680" y="2895840"/>
              <a:ext cx="704880" cy="21333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"/>
            <p:cNvSpPr/>
            <p:nvPr/>
          </p:nvSpPr>
          <p:spPr>
            <a:xfrm flipH="1">
              <a:off x="1447560" y="2438640"/>
              <a:ext cx="1641240" cy="21333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2"/>
            <p:cNvSpPr/>
            <p:nvPr/>
          </p:nvSpPr>
          <p:spPr>
            <a:xfrm>
              <a:off x="6745320" y="1219320"/>
              <a:ext cx="180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006600"/>
                  </a:solidFill>
                  <a:latin typeface="Times New Roman"/>
                  <a:cs typeface="Times New Roman"/>
                </a:rPr>
                <a:t>مصرف کنندگان و مشتر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6512040" y="2033640"/>
              <a:ext cx="1295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ff00ff"/>
                  </a:solidFill>
                  <a:latin typeface="Times New Roman"/>
                  <a:cs typeface="Times New Roman"/>
                </a:rPr>
                <a:t>کارکنان و مدیران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4"/>
            <p:cNvSpPr/>
            <p:nvPr/>
          </p:nvSpPr>
          <p:spPr>
            <a:xfrm>
              <a:off x="5468760" y="2679840"/>
              <a:ext cx="15242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3399"/>
                  </a:solidFill>
                  <a:latin typeface="Times New Roman"/>
                  <a:cs typeface="Times New Roman"/>
                </a:rPr>
                <a:t>تأمین کنندگان کالا، مواد اولیه و منابع انسان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5"/>
            <p:cNvSpPr/>
            <p:nvPr/>
          </p:nvSpPr>
          <p:spPr>
            <a:xfrm>
              <a:off x="4500720" y="2971800"/>
              <a:ext cx="1131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006600"/>
                  </a:solidFill>
                  <a:latin typeface="Times New Roman"/>
                  <a:cs typeface="Times New Roman"/>
                </a:rPr>
                <a:t>واحدهای تابعه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6"/>
            <p:cNvSpPr/>
            <p:nvPr/>
          </p:nvSpPr>
          <p:spPr>
            <a:xfrm>
              <a:off x="3832200" y="3078360"/>
              <a:ext cx="968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رقبا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7"/>
            <p:cNvSpPr/>
            <p:nvPr/>
          </p:nvSpPr>
          <p:spPr>
            <a:xfrm>
              <a:off x="2514600" y="2713320"/>
              <a:ext cx="160020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990099"/>
                  </a:solidFill>
                  <a:latin typeface="Times New Roman"/>
                  <a:cs typeface="Times New Roman"/>
                </a:rPr>
                <a:t>همسایه ها، شهروندان، منافع مل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1219320" y="2027520"/>
              <a:ext cx="1944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996633"/>
                  </a:solidFill>
                  <a:latin typeface="Times New Roman"/>
                  <a:cs typeface="Times New Roman"/>
                </a:rPr>
                <a:t>محیط زیست طبیعی، حیوانی و انسان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 flipV="1">
              <a:off x="228600" y="1371600"/>
              <a:ext cx="2862360" cy="13716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0"/>
            <p:cNvSpPr/>
            <p:nvPr/>
          </p:nvSpPr>
          <p:spPr>
            <a:xfrm>
              <a:off x="1295280" y="1067040"/>
              <a:ext cx="142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سهامداران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394C-725F-496C-A069-AB73A1276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7:20:35Z</dcterms:created>
  <dc:creator>4R</dc:creator>
  <dc:description/>
  <dc:language>en-US</dc:language>
  <cp:lastModifiedBy>parsin</cp:lastModifiedBy>
  <dcterms:modified xsi:type="dcterms:W3CDTF">2019-02-03T11:14:54Z</dcterms:modified>
  <cp:revision>210</cp:revision>
  <dc:subject/>
  <dc:title>عهد نامه اخلاقي انجمن كامپيوتر استراليا     ACS    1988 </dc:title>
</cp:coreProperties>
</file>