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9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F9E5-7CC8-40A1-A212-5C8C6E794D0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D505-3E35-4345-A2D1-2A54769DB7E8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48DC-77B2-4B20-AF4C-531C589B7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A3F-F3E6-48C3-BD75-5B55B8A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D70-EE99-4611-884F-8E33610A0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F587-13D9-4AB8-91DE-11DBA9576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2614-8F71-4F14-96D3-45B66406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7FA8-8B19-4A01-8659-1A57EEA2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DA2F-FB4F-4D91-8236-EFD1A748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605E-AF4D-4F31-84E4-E48CFBF05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9F58-A9F2-44F1-8186-CA4113C2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C069-55AE-4E72-B423-C42CCEE4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6DBF-0FAA-4BB3-966C-59ECB7F1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CD5E-8EC3-47FB-A946-F90A3359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338-D3FA-4EBE-8D2D-73367AB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81EB-358B-408B-9F10-2A70CCF7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754E-7D8F-4737-8829-123B3CE0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4F005-7D75-4A36-9D53-A1C61204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6B13-35C7-4E39-9537-248F7002C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EFB51-E12E-4196-9629-83B81D94C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73BEE-74B3-4F5D-B26F-E459EE89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EEB3-37C4-48E2-8379-F27F32C4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40359-7A47-4743-AA9B-88421D4D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D2FC7-4E51-4A17-9885-F11DD8E2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E0F3-A230-4BAE-8FE1-595E5469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8DBF-3ACB-41FA-8E18-8CA433BE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AECCF-96DB-41AD-9C5D-2B3B771E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F799-4773-4E68-9FA9-297274B3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904A-53CC-4FD9-A874-CC703A40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004D4-FDC6-438A-9DFB-D20ADD16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CFBE-AE20-4624-988D-501458CD1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8D50-089E-4A23-A13E-57AE38840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D2F5-0BC2-439C-A643-30762971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669-8FF9-4342-9B56-FCA0F74D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AD9A-7DBC-42FD-A226-20932D33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C33F-2838-4508-B465-CAD46D01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5791-A4FD-4D62-B2E6-87D287AD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356-69BF-47D8-85A8-41A0F5E1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5A3D-4D59-46B1-B307-98E80C71F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F980-4A1B-412B-8A0D-75E06DFF26C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48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cc3300"/>
                </a:solidFill>
                <a:latin typeface="Arial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03840" y="6400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11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447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6CCC-7707-45FC-88DA-32A91DD5D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CK074"/>
          <p:cNvPicPr/>
          <p:nvPr/>
        </p:nvPicPr>
        <p:blipFill>
          <a:blip r:embed="rId1"/>
          <a:stretch/>
        </p:blipFill>
        <p:spPr>
          <a:xfrm>
            <a:off x="304920" y="26676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God3"/>
          <p:cNvPicPr/>
          <p:nvPr/>
        </p:nvPicPr>
        <p:blipFill>
          <a:blip r:embed="rId2"/>
          <a:stretch/>
        </p:blipFill>
        <p:spPr>
          <a:xfrm>
            <a:off x="5867280" y="7632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797C-21EC-437D-800D-D8F2971E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4" descr="Picture 092.jpg"/>
          <p:cNvPicPr/>
          <p:nvPr/>
        </p:nvPicPr>
        <p:blipFill>
          <a:blip r:embed="rId1"/>
          <a:stretch/>
        </p:blipFill>
        <p:spPr>
          <a:xfrm>
            <a:off x="2057400" y="228600"/>
            <a:ext cx="4343400" cy="59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TextBox 4" descr=""/>
          <p:cNvPicPr/>
          <p:nvPr/>
        </p:nvPicPr>
        <p:blipFill>
          <a:blip r:embed="rId2"/>
          <a:stretch/>
        </p:blipFill>
        <p:spPr>
          <a:xfrm>
            <a:off x="6486480" y="176040"/>
            <a:ext cx="2633760" cy="84168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3880" y="6094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3399"/>
                </a:solidFill>
                <a:latin typeface="Times New Roman"/>
                <a:cs typeface="B Titr"/>
              </a:rPr>
              <a:t>نقش سند اخلاقی در سازما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1828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عنصر زیرساختی جهان بینی سازما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8120" y="25146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- آرمان فرهنگ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895480" y="3962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میزی اخلاقی تصمیم سازی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6000" y="4648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زیابی عملکرد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3623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- اخلاقی سازی اهداف و بر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B87F-A2AA-4993-A27D-40C1E4D91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6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92360" y="191628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3276720" y="423720"/>
            <a:ext cx="2742840" cy="1191240"/>
            <a:chOff x="3276720" y="423720"/>
            <a:chExt cx="2742840" cy="1191240"/>
          </a:xfrm>
        </p:grpSpPr>
        <p:sp>
          <p:nvSpPr>
            <p:cNvPr id="230" name="AutoShape 5"/>
            <p:cNvSpPr/>
            <p:nvPr/>
          </p:nvSpPr>
          <p:spPr>
            <a:xfrm>
              <a:off x="3276720" y="477720"/>
              <a:ext cx="2742840" cy="1008360"/>
            </a:xfrm>
            <a:prstGeom prst="downArrowCallout">
              <a:avLst>
                <a:gd name="adj1" fmla="val 68009"/>
                <a:gd name="adj2" fmla="val 68002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3580560" y="423720"/>
              <a:ext cx="213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دوين سند اخلاقي 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"/>
          <p:cNvGrpSpPr/>
          <p:nvPr/>
        </p:nvGrpSpPr>
        <p:grpSpPr>
          <a:xfrm>
            <a:off x="3419640" y="1484280"/>
            <a:ext cx="2675880" cy="1008000"/>
            <a:chOff x="3419640" y="1484280"/>
            <a:chExt cx="2675880" cy="1008000"/>
          </a:xfrm>
        </p:grpSpPr>
        <p:sp>
          <p:nvSpPr>
            <p:cNvPr id="233" name="AutoShape 8"/>
            <p:cNvSpPr/>
            <p:nvPr/>
          </p:nvSpPr>
          <p:spPr>
            <a:xfrm>
              <a:off x="3419640" y="1484280"/>
              <a:ext cx="2675880" cy="1008000"/>
            </a:xfrm>
            <a:prstGeom prst="downArrowCallout">
              <a:avLst>
                <a:gd name="adj1" fmla="val 66372"/>
                <a:gd name="adj2" fmla="val 66366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3716280" y="1503360"/>
              <a:ext cx="237924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اعلام سند به محيط دروني و بيرون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0"/>
          <p:cNvGrpSpPr/>
          <p:nvPr/>
        </p:nvGrpSpPr>
        <p:grpSpPr>
          <a:xfrm>
            <a:off x="3490920" y="2514600"/>
            <a:ext cx="2680920" cy="840960"/>
            <a:chOff x="3490920" y="2514600"/>
            <a:chExt cx="2680920" cy="840960"/>
          </a:xfrm>
        </p:grpSpPr>
        <p:sp>
          <p:nvSpPr>
            <p:cNvPr id="236" name="AutoShape 11"/>
            <p:cNvSpPr/>
            <p:nvPr/>
          </p:nvSpPr>
          <p:spPr>
            <a:xfrm>
              <a:off x="3490920" y="2514600"/>
              <a:ext cx="2680920" cy="840960"/>
            </a:xfrm>
            <a:prstGeom prst="downArrowCallout">
              <a:avLst>
                <a:gd name="adj1" fmla="val 79705"/>
                <a:gd name="adj2" fmla="val 79698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3787920" y="2532600"/>
              <a:ext cx="2084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پاي بندي به سن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3564000" y="3502080"/>
            <a:ext cx="2379240" cy="863640"/>
            <a:chOff x="3564000" y="3502080"/>
            <a:chExt cx="2379240" cy="863640"/>
          </a:xfrm>
        </p:grpSpPr>
        <p:sp>
          <p:nvSpPr>
            <p:cNvPr id="239" name="AutoShape 14"/>
            <p:cNvSpPr/>
            <p:nvPr/>
          </p:nvSpPr>
          <p:spPr>
            <a:xfrm>
              <a:off x="3564000" y="3502080"/>
              <a:ext cx="2379240" cy="863640"/>
            </a:xfrm>
            <a:prstGeom prst="downArrowCallout">
              <a:avLst>
                <a:gd name="adj1" fmla="val 68879"/>
                <a:gd name="adj2" fmla="val 68872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828240" y="3537000"/>
              <a:ext cx="184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بليغ پاي بند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6"/>
          <p:cNvSpPr/>
          <p:nvPr/>
        </p:nvSpPr>
        <p:spPr>
          <a:xfrm>
            <a:off x="914400" y="4800600"/>
            <a:ext cx="316872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موفقيت در شرايط بحر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80880" y="5653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نقش پاي بندي تخلف ناپذير به منشور اخلاقي در موفقيت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8" descr="30704-09"/>
          <p:cNvPicPr/>
          <p:nvPr/>
        </p:nvPicPr>
        <p:blipFill>
          <a:blip r:embed="rId1"/>
          <a:stretch/>
        </p:blipFill>
        <p:spPr>
          <a:xfrm>
            <a:off x="6423120" y="2441520"/>
            <a:ext cx="1695240" cy="25052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AB70-1B48-4FBF-8D0C-CD0E9C677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2209680" y="533520"/>
            <a:ext cx="4680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ویژگی‌های سند اخلاقی  شرکت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33920" y="18288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76320" y="17524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1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.</a:t>
            </a:r>
            <a:r>
              <a:rPr b="1" lang="fa-IR" sz="2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cs typeface="Times New Roman"/>
              </a:rPr>
              <a:t>فراگير نسبت به همه عناصر محيط وابعاد بنگ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2895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419720" y="2438280"/>
            <a:ext cx="43434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قابل تحقق واج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0880" y="3701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عاری از ابهام در سه سطح زبان، مفاهیم،  ساخت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90920" y="4253040"/>
            <a:ext cx="61722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اولويت بندي در مسؤ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4960" y="5181480"/>
            <a:ext cx="4770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متلائم و ساز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5968-8621-4372-BA19-1B9EDDC11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600200" y="13644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000" spc="-1" strike="noStrike">
                <a:solidFill>
                  <a:srgbClr val="ff6600"/>
                </a:solidFill>
                <a:latin typeface="Times New Roman"/>
                <a:cs typeface="B Hamid"/>
              </a:rPr>
              <a:t>منابع تدوین سند اخلاق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0" y="139212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متون دینی (قرآن و احادیث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 تجارب ایرانی در تمدن‌های ایران باستان و ایران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سنت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تجارب سازمانهای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بیانیه های اخلاق جه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استانداردهای بین الملل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4D62-2A10-4A56-895C-CA85FE814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3"/>
          <p:cNvSpPr txBox="1"/>
          <p:nvPr/>
        </p:nvSpPr>
        <p:spPr>
          <a:xfrm>
            <a:off x="3132000" y="380880"/>
            <a:ext cx="44881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مسئولیت‌های اخلاقی سازمان  </a:t>
            </a:r>
            <a:endParaRPr b="0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437440" y="2209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يك تجزيه مسال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nvest3"/>
          <p:cNvPicPr/>
          <p:nvPr/>
        </p:nvPicPr>
        <p:blipFill>
          <a:blip r:embed="rId3"/>
          <a:stretch/>
        </p:blipFill>
        <p:spPr>
          <a:xfrm>
            <a:off x="152280" y="152280"/>
            <a:ext cx="2171880" cy="2808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9051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 در قبال چه کسانی ونهادهایی مسئولیت دار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905120" y="38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اولویتی دارن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895480" y="45813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حقوقی دار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C4A7-E6EA-4FB4-9899-75E246E2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752480" y="51814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V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یت سازمان در قبال حقوق این افراد چیس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Isosceles Triangle 3"/>
          <p:cNvSpPr/>
          <p:nvPr/>
        </p:nvSpPr>
        <p:spPr>
          <a:xfrm>
            <a:off x="1042920" y="476280"/>
            <a:ext cx="6697800" cy="576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132000" y="1844640"/>
            <a:ext cx="259236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2556000" y="2781360"/>
            <a:ext cx="3744720" cy="79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219320" y="1828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363528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ardrop 9"/>
          <p:cNvSpPr/>
          <p:nvPr/>
        </p:nvSpPr>
        <p:spPr>
          <a:xfrm rot="18952800">
            <a:off x="5437080" y="3859200"/>
            <a:ext cx="935280" cy="792000"/>
          </a:xfrm>
          <a:custGeom>
            <a:avLst/>
            <a:gdLst/>
            <a:ahLst/>
            <a:rect l="l" t="t" r="r" b="b"/>
            <a:pathLst>
              <a:path w="935037" h="792162">
                <a:moveTo>
                  <a:pt x="0" y="396081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1"/>
                </a:cubicBezTo>
                <a:cubicBezTo>
                  <a:pt x="961541" y="87120"/>
                  <a:pt x="935037" y="241600"/>
                  <a:pt x="935037" y="396081"/>
                </a:cubicBezTo>
                <a:cubicBezTo>
                  <a:pt x="935037" y="614830"/>
                  <a:pt x="725722" y="792162"/>
                  <a:pt x="467518" y="792162"/>
                </a:cubicBezTo>
                <a:cubicBezTo>
                  <a:pt x="209314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ardrop 10"/>
          <p:cNvSpPr/>
          <p:nvPr/>
        </p:nvSpPr>
        <p:spPr>
          <a:xfrm rot="18952800">
            <a:off x="4498920" y="3930120"/>
            <a:ext cx="936720" cy="792360"/>
          </a:xfrm>
          <a:custGeom>
            <a:avLst/>
            <a:gdLst/>
            <a:ahLst/>
            <a:rect l="l" t="t" r="r" b="b"/>
            <a:pathLst>
              <a:path w="936625" h="792163">
                <a:moveTo>
                  <a:pt x="0" y="396082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2"/>
                </a:cubicBezTo>
                <a:cubicBezTo>
                  <a:pt x="963174" y="87119"/>
                  <a:pt x="936625" y="241601"/>
                  <a:pt x="936625" y="396082"/>
                </a:cubicBezTo>
                <a:cubicBezTo>
                  <a:pt x="936625" y="614832"/>
                  <a:pt x="726954" y="792164"/>
                  <a:pt x="468312" y="792164"/>
                </a:cubicBezTo>
                <a:cubicBezTo>
                  <a:pt x="209670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ardrop 11"/>
          <p:cNvSpPr/>
          <p:nvPr/>
        </p:nvSpPr>
        <p:spPr>
          <a:xfrm rot="18952800">
            <a:off x="3347640" y="3930120"/>
            <a:ext cx="934920" cy="792360"/>
          </a:xfrm>
          <a:custGeom>
            <a:avLst/>
            <a:gdLst/>
            <a:ahLst/>
            <a:rect l="l" t="t" r="r" b="b"/>
            <a:pathLst>
              <a:path w="935037" h="792163">
                <a:moveTo>
                  <a:pt x="0" y="396082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2"/>
                </a:cubicBezTo>
                <a:cubicBezTo>
                  <a:pt x="961541" y="87119"/>
                  <a:pt x="935037" y="241601"/>
                  <a:pt x="935037" y="396082"/>
                </a:cubicBezTo>
                <a:cubicBezTo>
                  <a:pt x="935037" y="614832"/>
                  <a:pt x="725722" y="792164"/>
                  <a:pt x="467518" y="792164"/>
                </a:cubicBezTo>
                <a:cubicBezTo>
                  <a:pt x="209314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ardrop 12"/>
          <p:cNvSpPr/>
          <p:nvPr/>
        </p:nvSpPr>
        <p:spPr>
          <a:xfrm rot="18952800">
            <a:off x="2410920" y="386208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396081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1"/>
                </a:cubicBezTo>
                <a:cubicBezTo>
                  <a:pt x="963174" y="87120"/>
                  <a:pt x="936625" y="241600"/>
                  <a:pt x="936625" y="396081"/>
                </a:cubicBezTo>
                <a:cubicBezTo>
                  <a:pt x="936625" y="614830"/>
                  <a:pt x="726954" y="792162"/>
                  <a:pt x="468312" y="792162"/>
                </a:cubicBezTo>
                <a:cubicBezTo>
                  <a:pt x="209670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Terminator 15"/>
          <p:cNvSpPr/>
          <p:nvPr/>
        </p:nvSpPr>
        <p:spPr>
          <a:xfrm rot="17611800">
            <a:off x="2038320" y="52084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Terminator 16"/>
          <p:cNvSpPr/>
          <p:nvPr/>
        </p:nvSpPr>
        <p:spPr>
          <a:xfrm rot="17171400">
            <a:off x="2752560" y="52750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17"/>
          <p:cNvSpPr/>
          <p:nvPr/>
        </p:nvSpPr>
        <p:spPr>
          <a:xfrm rot="16728600">
            <a:off x="35042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8"/>
          <p:cNvSpPr/>
          <p:nvPr/>
        </p:nvSpPr>
        <p:spPr>
          <a:xfrm rot="16200000">
            <a:off x="42836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owchart: Terminator 19"/>
          <p:cNvSpPr/>
          <p:nvPr/>
        </p:nvSpPr>
        <p:spPr>
          <a:xfrm rot="15400200">
            <a:off x="5034600" y="5255280"/>
            <a:ext cx="1224000" cy="35892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owchart: Terminator 20"/>
          <p:cNvSpPr/>
          <p:nvPr/>
        </p:nvSpPr>
        <p:spPr>
          <a:xfrm rot="15204000">
            <a:off x="5844960" y="518292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Terminator 21"/>
          <p:cNvSpPr/>
          <p:nvPr/>
        </p:nvSpPr>
        <p:spPr>
          <a:xfrm rot="18085800">
            <a:off x="1422360" y="5103720"/>
            <a:ext cx="1224000" cy="37008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3419640" y="5300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2195640" y="4076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-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2411280" y="26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-76320" y="1778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cs typeface="B Morvarid"/>
              </a:rPr>
              <a:t>وظایف اخلاقی سازمان در قبال حقوق مصرف کننده و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1120" y="762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اصیل و نامشرو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648320" y="1173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صداقت و ص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2200" y="1554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خدمات قبل از فروش، حین فروش و پس از فرو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2670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نوع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419720" y="2286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تبعی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828800" y="26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د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29000" y="3048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قیمت پایین همراه با کیفیت بر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352680" y="3429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سرعت در تحویل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743200" y="3809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ای بندی به قرادادهای وفای به عه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4038480" y="4191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پاسخگو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495680" y="46022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عتماد به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267080" y="5029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زیان ز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4114800" y="5410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جبران خسارت محت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657600" y="5821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یش بینی پذیری برای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65B7E-CF90-4EB0-AC28-CF424AA0AC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-228600" y="-7632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8000"/>
                </a:solidFill>
                <a:latin typeface="Times New Roman"/>
                <a:cs typeface="B Morvarid"/>
              </a:rPr>
              <a:t>وظایف اخلاقی سازمان در قبال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066680" y="4064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رتقاء سطح دانش، مهارت، توانایی و نگرش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752480" y="8380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امنیت شغلی و ایجاد فرصت ارتقاء شغ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0988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أمین حقوق عادلانه و مک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514600" y="1600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صحیح انگیزش و تقویت درون انگیخت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9880" y="19810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مشارکت طل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886200" y="23623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ناسب اختیارات و مسئولی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886200" y="2743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سهیل ارتباطات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581280" y="3200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معنوی و مادی از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6708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و اعتماد به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352680" y="40384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مواجهه صادقانه و صریح با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98108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نگ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962520" y="4800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مدیران لایق و منص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3962520" y="518148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مایت از آزادی های فر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38480" y="55926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از تشکل‌های ص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9509-5E20-4FD6-BCAB-F2619FFF8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Box 4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5565960" cy="1073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228600" y="685800"/>
            <a:ext cx="9144000" cy="63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نتفاع طرفی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حترام اصیل به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جتناب از ضرر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تلاش در رقابتی کردن محی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سوق رقابت به رفا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جتناب از روابط غیر اخلاقی با کارکنان بنگاه رق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رعایت حقوق رقبا در بازاریا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حفظ حریم رقبا و صیانت از اسرار آ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حمایت معنوی از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مواجهه صادقانه و صریح با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جتناب از اقدامهای تلافی جویانه غیر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ترویج اخلاق حرفه ای نزد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0455-8414-4DDC-A573-28903F458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62320" y="5181480"/>
            <a:ext cx="35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 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Text Box 6" descr=""/>
          <p:cNvPicPr/>
          <p:nvPr/>
        </p:nvPicPr>
        <p:blipFill>
          <a:blip r:embed="rId1"/>
          <a:stretch/>
        </p:blipFill>
        <p:spPr>
          <a:xfrm>
            <a:off x="0" y="1292400"/>
            <a:ext cx="8766000" cy="22366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4991E-0694-4A3F-BC42-219FB9547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228600" y="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بعاد مسئولیت سازمان در قبال محیط زی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-304920" y="533520"/>
            <a:ext cx="9144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همکاری با سازمانهای مرتبط با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قانون پذیری نسبت به قوانین و مقررات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رویج تفکر سبز و حمایت از گروه های سب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رعایت اصول و استانداردهای زیست محی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لاش در کاهش آلایندگی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دانش و فن آوری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برنامه های بازیاف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رتقاء کیفیت محصو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صرفه جویی در استفاده از مناب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13C4-199B-41E3-AD3F-A0C81608B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304920" y="84240"/>
            <a:ext cx="8839080" cy="9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منافع مل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تقاء کیفیت محصول به منظور افزایش دوام محصو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صرفه جویی در استفاده از منابع و پرهیز از اتلاف مناب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توسعه صنعتی و تولید علم د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 اطلاع رسانی صحیح و آگاهی دادن به شهروند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پای بندی به اصول و قوانین حاکم ب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نقدپذیری، پاسخگویی و مواجهه صادقانه و صریح با مردم و جا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طرحهای اقتصاد، اجتماعی، عمرانی و امور خیری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عریف، توسعه و ارتقاء استاندارد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همکاری در تدوین قوانین، مقررات و آیین نامه 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عرفی و حمایت از خبرگان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A30-754D-4C0F-873E-A7DA612D2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0" y="38088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0" y="0"/>
            <a:ext cx="9144000" cy="78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یفاء به موقع حقوق ادارات، سازمانها و نهادهای کش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وسعه اشتغال و توزیع عادلانه فرص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سطح رفاه عمو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رعایت بهای عادلانه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5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رویج تفکر سبز و حمایت از گروه های سبز و سازمانهای مرتبط با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6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اصول و استانداردهای زیست محیطی و تلاش در کاهش آلایندگ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7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دانش و فنآوری حفاظت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8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عتلای صنعت قیر و صنایع جانب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9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بهبود و احیا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0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برنامه های بازیاف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فرهنگ عمومی و حفظ میراث فرهنگی و تاریخ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حترام به هنجارهای اجتماعی و ارزشهای دی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حقوق همسای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رویج ورزش، هنر، و فرهنگ نشاط، شادی و امیدو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75E3-4A6B-49C5-BB54-D9C3D212A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7"/>
          <p:cNvSpPr/>
          <p:nvPr/>
        </p:nvSpPr>
        <p:spPr>
          <a:xfrm>
            <a:off x="2743200" y="3808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سازمان‌های تأمین کنن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4"/>
          <p:cNvGrpSpPr/>
          <p:nvPr/>
        </p:nvGrpSpPr>
        <p:grpSpPr>
          <a:xfrm>
            <a:off x="1752480" y="1276200"/>
            <a:ext cx="5334120" cy="4952880"/>
            <a:chOff x="1752480" y="1276200"/>
            <a:chExt cx="5334120" cy="4952880"/>
          </a:xfrm>
        </p:grpSpPr>
        <p:sp>
          <p:nvSpPr>
            <p:cNvPr id="329" name="Oval 4"/>
            <p:cNvSpPr/>
            <p:nvPr/>
          </p:nvSpPr>
          <p:spPr>
            <a:xfrm>
              <a:off x="1828800" y="1276200"/>
              <a:ext cx="5257800" cy="4952880"/>
            </a:xfrm>
            <a:prstGeom prst="ellipse">
              <a:avLst/>
            </a:prstGeom>
            <a:solidFill>
              <a:srgbClr val="ffccff"/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1981080" y="2952720"/>
              <a:ext cx="5105520" cy="10033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216" h="632">
                  <a:moveTo>
                    <a:pt x="3216" y="528"/>
                  </a:moveTo>
                  <a:cubicBezTo>
                    <a:pt x="3048" y="328"/>
                    <a:pt x="2880" y="128"/>
                    <a:pt x="2640" y="96"/>
                  </a:cubicBezTo>
                  <a:cubicBezTo>
                    <a:pt x="2400" y="64"/>
                    <a:pt x="2056" y="256"/>
                    <a:pt x="1776" y="336"/>
                  </a:cubicBezTo>
                  <a:cubicBezTo>
                    <a:pt x="1496" y="416"/>
                    <a:pt x="1256" y="632"/>
                    <a:pt x="960" y="576"/>
                  </a:cubicBezTo>
                  <a:cubicBezTo>
                    <a:pt x="664" y="520"/>
                    <a:pt x="160" y="96"/>
                    <a:pt x="0" y="0"/>
                  </a:cubicBezTo>
                </a:path>
              </a:pathLst>
            </a:custGeom>
            <a:noFill/>
            <a:ln w="442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895480" y="24192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کال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2438280" y="1809720"/>
              <a:ext cx="152424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امور معنو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(دانش و گواه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4419720" y="3714480"/>
              <a:ext cx="23619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خد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1752480" y="4248000"/>
              <a:ext cx="3505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مالی و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سهیلات اعتبار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3886200" y="1352520"/>
              <a:ext cx="1181160" cy="487656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4876560"/>
                <a:gd name="textAreaBottom" fmla="*/ 4876920 h 4876560"/>
              </a:gdLst>
              <a:ahLst/>
              <a:rect l="textAreaLeft" t="textAreaTop" r="textAreaRight" b="textAreaBottom"/>
              <a:pathLst>
                <a:path w="744" h="3072">
                  <a:moveTo>
                    <a:pt x="592" y="0"/>
                  </a:moveTo>
                  <a:cubicBezTo>
                    <a:pt x="312" y="156"/>
                    <a:pt x="32" y="312"/>
                    <a:pt x="16" y="528"/>
                  </a:cubicBezTo>
                  <a:cubicBezTo>
                    <a:pt x="0" y="744"/>
                    <a:pt x="384" y="1048"/>
                    <a:pt x="496" y="1296"/>
                  </a:cubicBezTo>
                  <a:cubicBezTo>
                    <a:pt x="608" y="1544"/>
                    <a:pt x="744" y="1720"/>
                    <a:pt x="688" y="2016"/>
                  </a:cubicBezTo>
                  <a:cubicBezTo>
                    <a:pt x="632" y="2312"/>
                    <a:pt x="396" y="2692"/>
                    <a:pt x="160" y="3072"/>
                  </a:cubicBezTo>
                </a:path>
              </a:pathLst>
            </a:custGeom>
            <a:noFill/>
            <a:ln w="41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A707-CA5C-4226-98E6-96F3660B3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-304920" y="60480"/>
            <a:ext cx="9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تأمین کنندگ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-990720" y="1127160"/>
            <a:ext cx="975384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نگرش مثبت و خیرخواهان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مواجهه صادقانه، صریح و توأم با احترام اصی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پای بندی به تعهدات و پرداخت به موقع مطال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حفظ حریم شخصی و حقوق مالکیت معنوی و فک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رازداری و امانت دا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اجتناب از ضرر رساند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جبران خسارت ناشی از عملکرد سازما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F47A-C486-4C29-A1DC-5B778EF42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152280" y="479520"/>
            <a:ext cx="8839440" cy="78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پیش بینی پذی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نقدپذیری و پاسخگوی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سرعت و سهولت در تعامل همراه با دقت و صحت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طلاع رسانی به موقع، دقیق و شفا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حمایت معنوی و وفادا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رائه عادلانه فرصتها و پرهیز از هرگونه تبعیض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ترویج اخلاق حرفه ای در تأمین کنندگان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524BB-2143-408C-AE80-9AC73FEF35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762120" y="52560"/>
          <a:ext cx="7696080" cy="6730920"/>
        </p:xfrm>
        <a:graphic>
          <a:graphicData uri="http://schemas.openxmlformats.org/drawingml/2006/table">
            <a:tbl>
              <a:tblPr/>
              <a:tblGrid>
                <a:gridCol w="6962760"/>
                <a:gridCol w="733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وظايف اخلاقي هيات مدير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13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زندگي شخص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شغ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سازي آرمان واهداف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م مند كردن همه امور حرفه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ي در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هت گيري اخلاقي نظامهاي حرفه اي در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رزيابي مستمر عملكرد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اجهه روشمند با معضلات اخلاقي (تشخيص مساله و حل آنها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ويج ارزشهاي اخلاقي وآموزش اخلاق ورزي در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قوف بر تبعات اخلاقي تصميم هاي هيات مدير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دوين،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ويب و اعلام منشور اخلاق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رت بر پاي بندي استثنا ناپذير به منشور اخلاق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بليغ اقدامهاي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5D80-F5B6-4107-9C52-86AB5218F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762120" y="762120"/>
          <a:ext cx="7848360" cy="4636800"/>
        </p:xfrm>
        <a:graphic>
          <a:graphicData uri="http://schemas.openxmlformats.org/drawingml/2006/table">
            <a:tbl>
              <a:tblPr/>
              <a:tblGrid>
                <a:gridCol w="7259400"/>
                <a:gridCol w="588960"/>
              </a:tblGrid>
              <a:tr h="165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آثار نظام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‌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ندسازي شو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ؤ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نات حرفه در بنگاه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منع تصميم هاي سليقه اي و تبعيض آميز و كاهش ظلم سازماني افزايش نرخ پيش بيني  پذير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يجاد و ترويج اعتماد راسخ ، پايدار و فراگير  محيط  به بنگا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حقق شايسته سالار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ستقلال و مسئوليت  پذيري بخشها و مجموعه 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زمينه سازي براي تحول در عين ثب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سهيل و تصحيح رابطه صف و ستا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3"/>
          <p:cNvSpPr/>
          <p:nvPr/>
        </p:nvSpPr>
        <p:spPr>
          <a:xfrm>
            <a:off x="737568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7162920" y="56386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1799280" y="5562720"/>
            <a:ext cx="63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لايل اخلاقي بودن نظام مندسازي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871E-57CC-482D-8CB7-F67E41D95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  <a:cs typeface="B Zar"/>
              </a:rPr>
              <a:t>احترام</a:t>
            </a:r>
            <a:r>
              <a:rPr b="0" lang="fa-IR" sz="6000" spc="-1" strike="noStrike">
                <a:solidFill>
                  <a:srgbClr val="000000"/>
                </a:solidFill>
                <a:latin typeface="Arial"/>
                <a:ea typeface="B Zar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رفتاری که احساس ارزشمندی را به طرف مقابل منتقل می ک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666880" y="1522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219320" y="32767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خود داری از هر گونه تحقیر و خوار داشتن طرف 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9A193-5B63-4E97-962E-8C4D1A68A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0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1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چه اموری در دست ما امانت محسوب می شو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8153280" y="228600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095880" y="24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خود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638680" y="2971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مکان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410080" y="3429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طلاع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9436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رند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95880" y="4267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سرمایه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6324480" y="4648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شتر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6324480" y="510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همکار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95C9-DAC8-49C7-BA95-C850EED2B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5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4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943600" y="19051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اخلاق حرفه ا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019920" y="1219320"/>
            <a:ext cx="533160" cy="2286000"/>
          </a:xfrm>
          <a:custGeom>
            <a:avLst/>
            <a:gdLst>
              <a:gd name="textAreaLeft" fmla="*/ 0 w 533160"/>
              <a:gd name="textAreaRight" fmla="*/ 374040 w 53316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88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533520" y="762120"/>
            <a:ext cx="5562360" cy="938880"/>
            <a:chOff x="-533520" y="762120"/>
            <a:chExt cx="5562360" cy="938880"/>
          </a:xfrm>
        </p:grpSpPr>
        <p:sp>
          <p:nvSpPr>
            <p:cNvPr id="141" name="Text Box 6"/>
            <p:cNvSpPr/>
            <p:nvPr/>
          </p:nvSpPr>
          <p:spPr>
            <a:xfrm>
              <a:off x="1981080" y="762120"/>
              <a:ext cx="30477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981080" y="914400"/>
              <a:ext cx="685800" cy="609480"/>
            </a:xfrm>
            <a:prstGeom prst="leftArrow">
              <a:avLst>
                <a:gd name="adj1" fmla="val 50000"/>
                <a:gd name="adj2" fmla="val 281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-533520" y="930240"/>
              <a:ext cx="304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کارکن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-457200" y="3048120"/>
            <a:ext cx="5486400" cy="1128240"/>
            <a:chOff x="-457200" y="3048120"/>
            <a:chExt cx="5486400" cy="1128240"/>
          </a:xfrm>
        </p:grpSpPr>
        <p:sp>
          <p:nvSpPr>
            <p:cNvPr id="145" name="Text Box 9"/>
            <p:cNvSpPr/>
            <p:nvPr/>
          </p:nvSpPr>
          <p:spPr>
            <a:xfrm>
              <a:off x="1981080" y="3048120"/>
              <a:ext cx="30481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اهبرد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2057400" y="3200400"/>
              <a:ext cx="533160" cy="6098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-457200" y="3168720"/>
              <a:ext cx="3047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ازم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E1BD-2F27-412B-8FD0-F35B4EBA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 Box 20" descr=""/>
          <p:cNvPicPr/>
          <p:nvPr/>
        </p:nvPicPr>
        <p:blipFill>
          <a:blip r:embed="rId1"/>
          <a:stretch/>
        </p:blipFill>
        <p:spPr>
          <a:xfrm>
            <a:off x="0" y="4973760"/>
            <a:ext cx="9144000" cy="1280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4876920" y="91440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سن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876920" y="32004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جدی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267080" y="914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267080" y="3200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‌داری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حفظ و نگهداری بدون تصر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733920" y="2590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چارچوب مقرر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800600" y="35812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 چارچوب تواف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362320" y="51055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تصرف بهینه = بهره و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F5425-77D5-4F63-99B3-EE28D0193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9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1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Morvarid"/>
              </a:rPr>
              <a:t>عهدنامه اخلاقي انجمن كامپيوتر استراليا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 Morvarid"/>
              </a:rPr>
              <a:t>ACS 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  1988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با مسئوليت پذيري شغلي وبدون هرگونه كوتاهي درمعامله با مشتريها،كارفرمايان، كارگران، دانشجويان وهيأت هاي عمومي مربوطه عمل 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(الويتها) من به مصالح و منافع مشتريان، كارفرماها و كارمندانم و دانشجويان و هيات عمومي، خدمت خواهم كرد، چنين موضوعاتي از نظر الويت كمتر از اميال خودم يا همكارانم نيس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324E-2C7D-4297-8582-7D5F94DD6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0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6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76176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لاحيت) من با شايستگي و پشتكار براي مشتريانم و كارفرما كار خواهم كر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داقت ) من در نمايش مهارتها ، دانش ، خدمات و توليدات خودم صادق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امدهاي اجتماعي ) من براي پيش بردن كيفيت زندگي آنهايي كه تحت تاثير كار من هستند كوش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شرفت شغلي ) من توسعه خودم و همكارانم ، كارمندان، كارآموزان و دانشجويان را ترقي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تخصص حسابرسي ) من امور مربوط به مسائل حسابرسي را با تماميت و بدون عيب و نقص به متخصصين حسابرسي ارائه نموده و به اعضايشان احترام بيشتري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64F2-A72B-4B1C-AE60-56F7526DA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0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الويتها : من به منافع مشتريان و كار فرماها، كارمندان و شاگردان و جماعت و هيات هاي عمومي، خدمت خواهم كرد، چنين موضوعاتي از نظر الويت كمتر از اميال خودم يا همكارانم نيس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كردن پيوستگي خدمات حسابرسي و جريان اطلاعات سپرده شده به من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درستي و ايمني اطلاعات ديگران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اصل مالكيت اطلاعات ديگران احترام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مشتريان و كارفرماهايم درباره ي هر تضاد بالقوه منافع، بين مفهوم واگذاري و مشروعيت كار من يا ديگر نيازهاي پذيرفته شدۀ اجتماع سفار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DF7F-168A-4061-96A1-537B12963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7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مشتريان و كارفرماها را سريعا از هر تضاد منافع يا اعتراضات جدي كه با آن روبرو مي شوم و در ارتباط  با كارم مي باشد،آگاه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صلاحي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ا شايستگي و سخت كوشي براي ارباب رجوع ها و كار فرماهايم ‘ كار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ايجاد محصولات و خدماتي كه با نيازهاي مالي و اجرايي مشتريان و كارفرماهايم رقابت كنند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ول در خدمات و توليداتي كه تهيه كرده ام، ارزش قائل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خودم را از استانداردهاي مناسب و عمل مطابق آن آگاه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ز منافع اختصاصي كارفرماها و مشتريانم حمايت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6C27-0E36-4237-AD1C-5D198A0A5D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0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0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4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8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0124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مسئوليت كار خودم را خواهم پذيرف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- هروقت گمان كنم كه يك پروژه پيشنهاد شده به مصلحت آنها نيست، مشتريان و كارفرماهايم را مطلع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7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در صورت لزوم به منظور عملكرد حرفه اي، مافوق دستورالعمل خودم عمل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صداقت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من در نمايش مهارتها، دانش، خدمات و محصولات صادق خواهم بو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يك ارباب رجوع يا مشتري مستعد را در خصوص يك محصول يا خدمت ، عمداً گمراه نخواهم كرد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هارتها يا دانشم را بصورت بد و نامناسبي جلوه ن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نظراتي خواهم داد كه تا حد ممكن بي غرض و عيني هستن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رورژه تحت كنترلم، واقع بينانه تخمين خواهم ز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عقايد حرفه اي را كه مي دانم بر تجربيات علمي محدود بنا شده است، توصيف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AC75A-D8A1-4AA7-AAA6-C5918C140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0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9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در جايي كه اعتبار لازم باشد، براي كار انجام شده توسط ديگران، اعتبار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پيامدهاي 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راي پيشرفت كيفيت زندگي آنهايي كه تحت تاثير كار من هستند، كوشش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سلامت و امنيت كساني را كه تحت تاثير كار من هستند،ترقي خواهم داد و محافظت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آسايش مردمي كه ممكن تحت تاثير كار من باشند توجه مي كنم و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كارمندانم احترام خواهم گذاشت و از رفتار غير منصفانه با آنها خودداري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تلاش خواهم كرد كه احساسات آنهايي را كه تحت تاثير كار من هستند درك كنم و احترام لازم به آنها بگذارم، چه با احساسات موافق باشم چه نبا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F531-9481-4B7A-9F90-6CE09EF21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كوشش خواهم كرد كه احساس رضايت شخصي، صلاحيت وكنترل آنهايي را كه تحت تاثير كار من هستند، افزايش 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تحت نفوذ قرار دادن كسي براي انجام عملي كه مستلزم نقص اين مرامنامه است، نياز نخواهم داشت يا سعي ن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توسعه ي شغ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توسعه شغلي خودم و همكارانم و كارمندانم و شاگردانم را ارتقاء خواهم د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-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- من به بالا بردن سطح دانش و مهارتهايم ادامه خواهم 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E804-4F84-42AF-AD0C-F61CA3525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2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6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0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4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8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آگاهي‌هاي خود را ازموضوعات موثر بر حرفه حسابرسي و ارتباط آن با انجمن افزايش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همكارانم كارمندان و شاگردان به ادامه توسعه شغلي خودشان، تشويق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تخصص حسابرسي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وجدان حرفه اي، حرفه حسابرسي واحترام گذاشتن به اعضايش را ارتقاء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در موقع لزوم، عقايد حرفه اي همكاران در زمينه كارايي، جستجو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عمداً دست به كارهاي نادرست و نامشروع نخواهم زد يا با آنها در ارتباط نخواهم ب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براي ارتقاء شهرت خودم با خرج آبروي ديگران  تلاش ن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3452-9419-4DA5-B907-0CDEDEBF88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nodeType="clickEffect" fill="hold">
                      <p:stCondLst>
                        <p:cond delay="0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7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3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درجلو بردن پردازش اطلاعات توسط ارتباط با ديگر حرفه اي ها، شاگردان و عموم، و با شركت كردن در كوشش هاي حرفه اي و جوامع علمي و مدارس، همكاري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از كسي كه عضويت د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ه دليل رفتار غير اخلاقي يا كردار ناخوشايند منقضي شده باشد، اطلاعات كارتخصصي خودم را پنهان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اگر دريابم كه يك عضو يا شخصي توانسته است با دست زدن به رفتار غيراخلاقي يك عضو بالقو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اشد، من عمل مناسب را انجام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7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هر وقت با يك مسئله دشوار اخلاقي روبرو شدم كه قادر نباشم خودم حل كنم، نكته وپند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ا جستجو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براي مطمئن شدن به اينكه اعمال هماهن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طابق با اين مرامنامه هستند،آنچه مي توانم انجام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ذعان دارم به تعهد خودم نسبت به حرفه ي حسابرسي، تخصص گرايي را در محاسبات حمايت كرده و آن را ارتقاء خواهم داد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3C97-36C5-462D-83FD-EA2098F24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9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9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9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9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9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9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295280" y="15382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3399"/>
                </a:solidFill>
                <a:latin typeface="Times New Roman"/>
                <a:cs typeface="B Nikoo"/>
              </a:rPr>
              <a:t>اخلاقی بودن سازمان در گر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57600" y="4648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4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مهارتهای رفتار ارتبا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352680" y="396252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3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انگیزش درونی (خود انگیختگ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95280" y="325584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2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دانش اخلاق سازمانی (سند جامع اخلاق سازما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2401-7BBD-4527-B504-00F7B2CEC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 Box 15" descr=""/>
          <p:cNvPicPr/>
          <p:nvPr/>
        </p:nvPicPr>
        <p:blipFill>
          <a:blip r:embed="rId1"/>
          <a:stretch/>
        </p:blipFill>
        <p:spPr>
          <a:xfrm>
            <a:off x="-79200" y="195120"/>
            <a:ext cx="9381960" cy="1316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4267080" y="264636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1) 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cs typeface="B Bardiya"/>
              </a:rPr>
              <a:t>تلقی اخلاقی از محیط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81280" y="523728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5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بهینه سازی زیرساخت‌ها و فراینده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581280" y="577044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6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حمایت الزام قانونی از اخلا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000000"/>
                </a:solidFill>
                <a:latin typeface="Arial"/>
                <a:cs typeface="B Morvarid"/>
              </a:rPr>
              <a:t>آيين نامه ي اخلاقي انستيتوي مهندسان برق و الكترونيك 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1" lang="fa-IR" sz="3500" spc="-1" strike="noStrike">
                <a:solidFill>
                  <a:srgbClr val="000000"/>
                </a:solidFill>
                <a:latin typeface="Arial"/>
                <a:ea typeface="B Morvarid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828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ا اعضا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IE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Lotus"/>
              </a:rPr>
              <a:t>‘ با دانستن اهميت تكنولوژي خود در تاثير گذاري بر كيفيت زندگي در سراسر جهان ‘ و با قبول تعهد شخصي نسبت به حرفه خود، اعضاي آن و جوامعي كه به آنها خدمت مي كنيم، بدين وسيله خود را عاليترين رفتار اخلاقي و حرفه اي ملزم مي دانيم و مي پذيريم ك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در اتخاذ تصميم‌هاي مهندسي مطابق با ايمني، سلامت و رفاه عموم مسئوليت قبول كنيم و عواملي را كه ممكن است جامعه يا محيط را به خطر بيفكند فوراً مرتفع كن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هر جا كه ممكن باشد از تعارض واقعي يا فرضي مناقع اجتناب كنيم و در صورت وجود چنين تعارضي مانع تاثير آن بر طرفهاي ذي ربط شوي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707B-F406-46E1-B735-23284A920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0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9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353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ر بيان ادعاها يا برآوردها، بر اساس داده هاي موجود، صادق و واقع بين با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رتشاء را در تمام شكلهايش نف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انش فني، كاربرد ضروري آن و پيامدهاي بالقوه اش را بهبود ببخ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صلاحيت فني خود را پاس داريم و ارتقاء دهيم و صرفا در صورت احراز تعليمات با تجارب، يا پس از رفع محدوديتهاي مقتضي، و ظايف تكنولوژيكي را بر عهده بگير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جو يا پذيرا و ارائه كننده نقد صادقانه از كار فني باشيم، خطاها را بپذيريم و اصلاح كنيم، و براي نقش ديگران اعتبار شايسته قايل شو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 همه ، صرف نظر از عواملي چون نژاد، مذهب، جنسيت، معلوليت، سن و سال، يا مليت با عدالت رفتار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ز لطمه زدن به ديگران، اموال، شهرت و آبرو يا اشتغال آنها با اقدام‌هاي كاذب يا بدخواهانه خوددار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ه همتايان و همكاران در رشد حرفه اي آنها ياري برسانيم و از آنها در پيروي از اين آيين نامه اخلاقي حمايت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13C61-047D-405F-8DCD-96B84BBE2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nodeType="clickEffect" fill="hold">
                      <p:stCondLst>
                        <p:cond delay="0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2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7640" y="609120"/>
            <a:ext cx="8893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معتقديم كه در وهله اول در برابر پزشكان، پرستاران، بيمارستانها، مادران و همه كساني كه فراورده هاي ما را مصرف مي كنند مسئول هست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فراورده هاي ما همواره بايد مرغوبترين كيفيت را داشته باشد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همواره بكوشيم كه قيمت اين فراورد ه ها را پايين بياور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فارشات بايد به فوريت و با دقت آماده شو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دوم، خود را در برابر كساني كه با ما كار مي كنند،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ردان و زناني كه در كارخانه ها و دفاتر با ما همكاري مي‌كنند بايد از نظر شغلي احساس امنيت كن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ستمزدها بايد عادلانه و كافي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آنها بايد منصف باشند. ساعات كار ‌آنها معقول، و محيط كار آنها تميز و منظم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ه شكايات و پيشنهادهاي كاركنان بايد به طور سازمان يافته رسيدگي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رپرستان و روساي دواير بايد ورزيده و بي غرض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راي هر كس كه لياقت داشته باشد بايد فرصت پيشرفت فراهم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و با اشخاص بايد به صورت فردي عمل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سوم خود را در برابر مديرانمان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258920" y="115920"/>
            <a:ext cx="6697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B Morvarid"/>
              </a:rPr>
              <a:t>مرامنامه شرکت جانسن اند جانس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F40E-F049-4AFE-84E5-CC4B113FD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0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7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1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5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3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3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7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1" dur="500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9" dur="500"/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304920"/>
            <a:ext cx="835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ما بايد افرادي شايسته، مجرب و توانا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آنها بايد از شعور متعارف و درك كامل بهره مند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مرحله بعد خود را در برابر جوامعي كه در آنها زندگي مي كنيم مسئول مي دا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حمايت از نيكوكاري و نوعدوستي، شهروندان خوب جامعه باشيم و سهم خود را از ماليات عادلانه بپرداز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به شكرانه در اختيار داشتن اموال و ابزار، از آنها به خوبي مواظبت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در ارتقاء و بهبود جامعه مدني، بهداشت، آموزش و دولت خوب، سهيم و شريك باش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 جامعه را از فعاليتهاي خود آگاه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نجمين و آخرين مسئوليت ما، نسبت به سهامداران شركت اس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ود شركت بايد چشمگير باش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اندوخته داشته باشيم و بايد كار پژوهش دنبال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نامه هاي تكاپو جويانه تنظيم شود و تاوان خطاها پرداخت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فكر زمان مبادا باشيم، مالياتها را بپردازيم، دستگاههاي جديد براي فروش تدارك كني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افكار نو را به محك تجربه بيازمائ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قتي اين كار ها انجام شود، سهماداران نيز از حق عادلانه خود برخوردار خواهند شد، ما متكي به خداوند بزرگ هستيم تا به ياري او اين وظايف و تعهدات را به بهترين صورت انجام ده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F6C8-4BF6-4517-9E6E-D5035937B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70" dur="indefinite" restart="never" nodeType="tmRoot">
          <p:childTnLst>
            <p:seq>
              <p:cTn id="1171" dur="indefinite" nodeType="mainSeq">
                <p:childTnLst>
                  <p:par>
                    <p:cTn id="1172" nodeType="clickEffect" fill="hold">
                      <p:stCondLst>
                        <p:cond delay="0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6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0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4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8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2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6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0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2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6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4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2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MC900439257.JPG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" descr=""/>
          <p:cNvPicPr/>
          <p:nvPr/>
        </p:nvPicPr>
        <p:blipFill>
          <a:blip r:embed="rId2"/>
          <a:stretch/>
        </p:blipFill>
        <p:spPr>
          <a:xfrm>
            <a:off x="817560" y="3975120"/>
            <a:ext cx="7680240" cy="267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627280" y="3338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000000"/>
                </a:solidFill>
                <a:latin typeface="Calibri"/>
                <a:cs typeface="B Baran"/>
              </a:rPr>
              <a:t>تلفکس: </a:t>
            </a:r>
            <a:r>
              <a:rPr b="0" lang="fa-IR" sz="4500" spc="-1" strike="noStrike">
                <a:solidFill>
                  <a:srgbClr val="000000"/>
                </a:solidFill>
                <a:latin typeface="Calibri"/>
                <a:ea typeface="B Baran"/>
              </a:rPr>
              <a:t>8875601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ounded Rectangular Callout 9"/>
          <p:cNvSpPr/>
          <p:nvPr/>
        </p:nvSpPr>
        <p:spPr>
          <a:xfrm>
            <a:off x="5364000" y="404640"/>
            <a:ext cx="2592720" cy="792360"/>
          </a:xfrm>
          <a:prstGeom prst="wedgeRoundRectCallout">
            <a:avLst>
              <a:gd name="adj1" fmla="val -49935"/>
              <a:gd name="adj2" fmla="val 6817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8" descr=""/>
          <p:cNvPicPr/>
          <p:nvPr/>
        </p:nvPicPr>
        <p:blipFill>
          <a:blip r:embed="rId3"/>
          <a:stretch/>
        </p:blipFill>
        <p:spPr>
          <a:xfrm>
            <a:off x="4992840" y="152280"/>
            <a:ext cx="33591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nodeType="clickEffect" fill="hold">
                      <p:stCondLst>
                        <p:cond delay="0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276720" y="15228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Times New Roman"/>
                <a:cs typeface="B Titr"/>
              </a:rPr>
              <a:t>معرفی من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4360" y="1066680"/>
            <a:ext cx="3498840" cy="51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scan0003"/>
          <p:cNvPicPr/>
          <p:nvPr/>
        </p:nvPicPr>
        <p:blipFill>
          <a:blip r:embed="rId2"/>
          <a:stretch/>
        </p:blipFill>
        <p:spPr>
          <a:xfrm>
            <a:off x="5076720" y="1066680"/>
            <a:ext cx="3527640" cy="5108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17C1-689B-4C8A-8DC1-1F09560D4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scan0017"/>
          <p:cNvPicPr/>
          <p:nvPr/>
        </p:nvPicPr>
        <p:blipFill>
          <a:blip r:embed="rId1"/>
          <a:stretch/>
        </p:blipFill>
        <p:spPr>
          <a:xfrm>
            <a:off x="835200" y="893880"/>
            <a:ext cx="34556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092560" y="907920"/>
            <a:ext cx="352764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6EDD0-EEEC-41A0-AA9A-E6C459987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51468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Picture 004"/>
          <p:cNvPicPr/>
          <p:nvPr/>
        </p:nvPicPr>
        <p:blipFill>
          <a:blip r:embed="rId2"/>
          <a:stretch/>
        </p:blipFill>
        <p:spPr>
          <a:xfrm>
            <a:off x="5076720" y="1052640"/>
            <a:ext cx="34927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BD26-232E-4EF5-BE0A-745076AD5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128600" y="1066680"/>
            <a:ext cx="338472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3" descr="Picture 003"/>
          <p:cNvPicPr/>
          <p:nvPr/>
        </p:nvPicPr>
        <p:blipFill>
          <a:blip r:embed="rId2"/>
          <a:stretch/>
        </p:blipFill>
        <p:spPr>
          <a:xfrm>
            <a:off x="5160960" y="1050840"/>
            <a:ext cx="319104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0F65-3493-4EFC-B6B3-77DF923B20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Picture"/>
          <p:cNvPicPr/>
          <p:nvPr/>
        </p:nvPicPr>
        <p:blipFill>
          <a:blip r:embed="rId1"/>
          <a:stretch/>
        </p:blipFill>
        <p:spPr>
          <a:xfrm>
            <a:off x="5257800" y="1341360"/>
            <a:ext cx="312912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amayesh-akhlaqhherfei"/>
          <p:cNvPicPr/>
          <p:nvPr/>
        </p:nvPicPr>
        <p:blipFill>
          <a:blip r:embed="rId2"/>
          <a:stretch/>
        </p:blipFill>
        <p:spPr>
          <a:xfrm>
            <a:off x="914400" y="1371600"/>
            <a:ext cx="320184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2E4F-D204-4B08-BD4B-1AF1CAF6A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286000" y="763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مراحل اخلاقی ساز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533520" y="1066680"/>
            <a:ext cx="96012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کمیته یا شورای اخلاق حرفه ای سازمان زیرنظر مستقیم رئیس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تدوین سند جامع اخلاقی به روش مشارکت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تصویب سند جامع اخلاقی در بالاترین مرجع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آموزش روشمند و فراگ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نظارت بر حسن اجرای سند اخلاق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ارزیابی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60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درجه اخلاق حرفه ا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F725-088E-411E-8F18-4A2B009DB1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عریف سند اخلاق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فراگیرترین بیانیه رسمی سازمان در تدوین مسئولیت‌های اخلاقی آن در قبال حقوق محیط درونی و بیرو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ظایف اخلاقی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1700-DC9D-433E-9D18-7B7555D7B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388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اختار سند جامع اخلاق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4120" y="1523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قد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114800" y="2178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اصول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-380880" y="2895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نشور اخلاقی سازمان: خط مشی های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در قبال حقوق محیط درونی و بیرو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152280" y="4572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عهدنامه های اخلاقی منابع انسانی (کارکنان و مدیرا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006E-4AF9-415A-A591-D5675E846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0149481"/>
          <p:cNvPicPr/>
          <p:nvPr/>
        </p:nvPicPr>
        <p:blipFill>
          <a:blip r:embed="rId1"/>
          <a:stretch/>
        </p:blipFill>
        <p:spPr>
          <a:xfrm>
            <a:off x="5219640" y="1413000"/>
            <a:ext cx="33480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-dptos-invest"/>
          <p:cNvPicPr/>
          <p:nvPr/>
        </p:nvPicPr>
        <p:blipFill>
          <a:blip r:embed="rId2"/>
          <a:stretch/>
        </p:blipFill>
        <p:spPr>
          <a:xfrm>
            <a:off x="2971800" y="3962520"/>
            <a:ext cx="23320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"/>
          <p:cNvGrpSpPr/>
          <p:nvPr/>
        </p:nvGrpSpPr>
        <p:grpSpPr>
          <a:xfrm>
            <a:off x="4788000" y="404640"/>
            <a:ext cx="3959280" cy="1008360"/>
            <a:chOff x="4788000" y="404640"/>
            <a:chExt cx="3959280" cy="1008360"/>
          </a:xfrm>
        </p:grpSpPr>
        <p:sp>
          <p:nvSpPr>
            <p:cNvPr id="178" name="AutoShape 6"/>
            <p:cNvSpPr/>
            <p:nvPr/>
          </p:nvSpPr>
          <p:spPr>
            <a:xfrm>
              <a:off x="5076720" y="404640"/>
              <a:ext cx="3311640" cy="1008360"/>
            </a:xfrm>
            <a:prstGeom prst="downArrowCallout">
              <a:avLst>
                <a:gd name="adj1" fmla="val 82112"/>
                <a:gd name="adj2" fmla="val 8210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88000" y="476280"/>
              <a:ext cx="395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هد نامه اخلاقي فرد در حرف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108000" y="2708280"/>
            <a:ext cx="3959280" cy="936720"/>
            <a:chOff x="108000" y="2708280"/>
            <a:chExt cx="3959280" cy="936720"/>
          </a:xfrm>
        </p:grpSpPr>
        <p:sp>
          <p:nvSpPr>
            <p:cNvPr id="181" name="AutoShape 9"/>
            <p:cNvSpPr/>
            <p:nvPr/>
          </p:nvSpPr>
          <p:spPr>
            <a:xfrm>
              <a:off x="539640" y="2708280"/>
              <a:ext cx="2952720" cy="936720"/>
            </a:xfrm>
            <a:prstGeom prst="upArrowCallout">
              <a:avLst>
                <a:gd name="adj1" fmla="val 78812"/>
                <a:gd name="adj2" fmla="val 78805"/>
                <a:gd name="adj3" fmla="val 16667"/>
                <a:gd name="adj4" fmla="val 666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08000" y="304308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شور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5221440" y="5013360"/>
            <a:ext cx="3958920" cy="1224000"/>
            <a:chOff x="5221440" y="5013360"/>
            <a:chExt cx="3958920" cy="1224000"/>
          </a:xfrm>
        </p:grpSpPr>
        <p:sp>
          <p:nvSpPr>
            <p:cNvPr id="184" name="AutoShape 12"/>
            <p:cNvSpPr/>
            <p:nvPr/>
          </p:nvSpPr>
          <p:spPr>
            <a:xfrm rot="10800000">
              <a:off x="5724000" y="5013360"/>
              <a:ext cx="2808360" cy="1224000"/>
            </a:xfrm>
            <a:prstGeom prst="rightArrow">
              <a:avLst>
                <a:gd name="adj1" fmla="val 50000"/>
                <a:gd name="adj2" fmla="val 573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5221440" y="5373720"/>
              <a:ext cx="39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صول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250920" y="260280"/>
            <a:ext cx="3168720" cy="2349720"/>
            <a:chOff x="250920" y="260280"/>
            <a:chExt cx="3168720" cy="2349720"/>
          </a:xfrm>
        </p:grpSpPr>
        <p:grpSp>
          <p:nvGrpSpPr>
            <p:cNvPr id="187" name="Group 15"/>
            <p:cNvGrpSpPr/>
            <p:nvPr/>
          </p:nvGrpSpPr>
          <p:grpSpPr>
            <a:xfrm>
              <a:off x="250920" y="260280"/>
              <a:ext cx="3168720" cy="2349720"/>
              <a:chOff x="250920" y="260280"/>
              <a:chExt cx="3168720" cy="2349720"/>
            </a:xfrm>
          </p:grpSpPr>
          <p:grpSp>
            <p:nvGrpSpPr>
              <p:cNvPr id="188" name="Group 16"/>
              <p:cNvGrpSpPr/>
              <p:nvPr/>
            </p:nvGrpSpPr>
            <p:grpSpPr>
              <a:xfrm>
                <a:off x="250920" y="260280"/>
                <a:ext cx="3168720" cy="2349720"/>
                <a:chOff x="250920" y="260280"/>
                <a:chExt cx="3168720" cy="2349720"/>
              </a:xfrm>
            </p:grpSpPr>
            <p:sp>
              <p:nvSpPr>
                <p:cNvPr id="189" name="Freeform 17"/>
                <p:cNvSpPr/>
                <p:nvPr/>
              </p:nvSpPr>
              <p:spPr>
                <a:xfrm flipV="1">
                  <a:off x="250920" y="853200"/>
                  <a:ext cx="1050480" cy="96912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0" y="566"/>
                      </a:moveTo>
                      <a:lnTo>
                        <a:pt x="0" y="906"/>
                      </a:lnTo>
                      <a:lnTo>
                        <a:pt x="1014" y="283"/>
                      </a:lnTo>
                      <a:lnTo>
                        <a:pt x="1018" y="307"/>
                      </a:lnTo>
                      <a:lnTo>
                        <a:pt x="869" y="0"/>
                      </a:lnTo>
                      <a:lnTo>
                        <a:pt x="0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V="1">
                  <a:off x="2368800" y="853200"/>
                  <a:ext cx="1050840" cy="969120"/>
                </a:xfrm>
                <a:custGeom>
                  <a:avLst/>
                  <a:gdLst>
                    <a:gd name="textAreaLeft" fmla="*/ 0 w 1050840"/>
                    <a:gd name="textAreaRight" fmla="*/ 1051200 w 105084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1018" y="566"/>
                      </a:moveTo>
                      <a:lnTo>
                        <a:pt x="1018" y="906"/>
                      </a:lnTo>
                      <a:lnTo>
                        <a:pt x="3" y="283"/>
                      </a:lnTo>
                      <a:lnTo>
                        <a:pt x="0" y="307"/>
                      </a:lnTo>
                      <a:lnTo>
                        <a:pt x="148" y="0"/>
                      </a:lnTo>
                      <a:lnTo>
                        <a:pt x="1018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19"/>
                <p:cNvGrpSpPr/>
                <p:nvPr/>
              </p:nvGrpSpPr>
              <p:grpSpPr>
                <a:xfrm>
                  <a:off x="484200" y="260280"/>
                  <a:ext cx="2714400" cy="2349720"/>
                  <a:chOff x="484200" y="260280"/>
                  <a:chExt cx="2714400" cy="2349720"/>
                </a:xfrm>
              </p:grpSpPr>
              <p:sp>
                <p:nvSpPr>
                  <p:cNvPr id="192" name="AutoShape 20"/>
                  <p:cNvSpPr/>
                  <p:nvPr/>
                </p:nvSpPr>
                <p:spPr>
                  <a:xfrm flipH="1" flipV="1" rot="10800000">
                    <a:off x="483840" y="261360"/>
                    <a:ext cx="2712600" cy="2348280"/>
                  </a:xfrm>
                  <a:prstGeom prst="triangle">
                    <a:avLst>
                      <a:gd name="adj" fmla="val 49995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cap="sq" w="12600">
                    <a:solidFill>
                      <a:srgbClr val="00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21"/>
                  <p:cNvSpPr/>
                  <p:nvPr/>
                </p:nvSpPr>
                <p:spPr>
                  <a:xfrm flipV="1">
                    <a:off x="484920" y="259920"/>
                    <a:ext cx="1356840" cy="2349360"/>
                  </a:xfrm>
                  <a:custGeom>
                    <a:avLst/>
                    <a:gdLst>
                      <a:gd name="textAreaLeft" fmla="*/ 0 w 1356840"/>
                      <a:gd name="textAreaRight" fmla="*/ 1357200 w 135684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6" h="2199">
                        <a:moveTo>
                          <a:pt x="1315" y="2198"/>
                        </a:moveTo>
                        <a:lnTo>
                          <a:pt x="1315" y="1815"/>
                        </a:lnTo>
                        <a:lnTo>
                          <a:pt x="409" y="214"/>
                        </a:lnTo>
                        <a:lnTo>
                          <a:pt x="0" y="0"/>
                        </a:lnTo>
                        <a:lnTo>
                          <a:pt x="1315" y="2198"/>
                        </a:lnTo>
                      </a:path>
                    </a:pathLst>
                  </a:custGeom>
                  <a:solidFill>
                    <a:srgbClr val="002010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flipV="1">
                    <a:off x="484920" y="2377440"/>
                    <a:ext cx="2713680" cy="231840"/>
                  </a:xfrm>
                  <a:custGeom>
                    <a:avLst/>
                    <a:gdLst>
                      <a:gd name="textAreaLeft" fmla="*/ 0 w 2713680"/>
                      <a:gd name="textAreaRight" fmla="*/ 2714040 w 2713680"/>
                      <a:gd name="textAreaTop" fmla="*/ 360 h 231840"/>
                      <a:gd name="textAreaBottom" fmla="*/ 232560 h 231840"/>
                    </a:gdLst>
                    <a:ahLst/>
                    <a:rect l="textAreaLeft" t="textAreaTop" r="textAreaRight" b="textAreaBottom"/>
                    <a:pathLst>
                      <a:path w="2632" h="217">
                        <a:moveTo>
                          <a:pt x="0" y="0"/>
                        </a:moveTo>
                        <a:lnTo>
                          <a:pt x="409" y="216"/>
                        </a:lnTo>
                        <a:lnTo>
                          <a:pt x="2279" y="216"/>
                        </a:lnTo>
                        <a:lnTo>
                          <a:pt x="263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bb96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23"/>
                  <p:cNvSpPr/>
                  <p:nvPr/>
                </p:nvSpPr>
                <p:spPr>
                  <a:xfrm flipV="1">
                    <a:off x="1840320" y="259920"/>
                    <a:ext cx="1357920" cy="2349360"/>
                  </a:xfrm>
                  <a:custGeom>
                    <a:avLst/>
                    <a:gdLst>
                      <a:gd name="textAreaLeft" fmla="*/ 0 w 1357920"/>
                      <a:gd name="textAreaRight" fmla="*/ 1358280 w 135792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7" h="2199">
                        <a:moveTo>
                          <a:pt x="0" y="2198"/>
                        </a:moveTo>
                        <a:lnTo>
                          <a:pt x="0" y="1815"/>
                        </a:lnTo>
                        <a:lnTo>
                          <a:pt x="906" y="214"/>
                        </a:lnTo>
                        <a:lnTo>
                          <a:pt x="1316" y="0"/>
                        </a:lnTo>
                        <a:lnTo>
                          <a:pt x="0" y="2198"/>
                        </a:lnTo>
                      </a:path>
                    </a:pathLst>
                  </a:custGeom>
                  <a:solidFill>
                    <a:srgbClr val="006633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Rectangle 24"/>
                <p:cNvSpPr/>
                <p:nvPr/>
              </p:nvSpPr>
              <p:spPr>
                <a:xfrm flipV="1">
                  <a:off x="250920" y="852480"/>
                  <a:ext cx="3163680" cy="33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99cc00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682920" y="765000"/>
                <a:ext cx="251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66"/>
                    </a:solidFill>
                    <a:latin typeface="Times New Roman"/>
                    <a:cs typeface="Times New Roman"/>
                  </a:rPr>
                  <a:t>منشور اخلاقي سازما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6" descr="politd"/>
            <p:cNvPicPr/>
            <p:nvPr/>
          </p:nvPicPr>
          <p:blipFill>
            <a:blip r:embed="rId4"/>
            <a:stretch/>
          </p:blipFill>
          <p:spPr>
            <a:xfrm>
              <a:off x="1258920" y="1546200"/>
              <a:ext cx="1224000" cy="7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91CF-3489-4DD3-AEA7-6E0E19275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228600" y="925560"/>
            <a:ext cx="8318520" cy="4332240"/>
            <a:chOff x="228600" y="925560"/>
            <a:chExt cx="8318520" cy="4332240"/>
          </a:xfrm>
        </p:grpSpPr>
        <p:sp>
          <p:nvSpPr>
            <p:cNvPr id="201" name="Oval 5"/>
            <p:cNvSpPr/>
            <p:nvPr/>
          </p:nvSpPr>
          <p:spPr>
            <a:xfrm>
              <a:off x="2784600" y="925560"/>
              <a:ext cx="3960720" cy="201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نشور اخلاقی سازم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خط مشی های اخلاق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6675480" y="1656000"/>
              <a:ext cx="1871640" cy="93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6554880" y="2351160"/>
              <a:ext cx="1346040" cy="1839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5451480" y="2884680"/>
              <a:ext cx="644400" cy="2279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H="1">
              <a:off x="4495680" y="2954520"/>
              <a:ext cx="152640" cy="2303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 flipH="1">
              <a:off x="3352680" y="2895840"/>
              <a:ext cx="70488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 flipH="1">
              <a:off x="1447560" y="2438640"/>
              <a:ext cx="164124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6745320" y="1219320"/>
              <a:ext cx="180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مصرف کنندگان و مشتر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6512040" y="203364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ff"/>
                  </a:solidFill>
                  <a:latin typeface="Times New Roman"/>
                  <a:cs typeface="Times New Roman"/>
                </a:rPr>
                <a:t>کارکنان و مدی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5468760" y="2679840"/>
              <a:ext cx="15242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3399"/>
                  </a:solidFill>
                  <a:latin typeface="Times New Roman"/>
                  <a:cs typeface="Times New Roman"/>
                </a:rPr>
                <a:t>تأمین کنندگان کالا، مواد اولیه و 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4500720" y="2971800"/>
              <a:ext cx="1131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واحدهای تابع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832200" y="3078360"/>
              <a:ext cx="96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رقب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2514600" y="2713320"/>
              <a:ext cx="1600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0099"/>
                  </a:solidFill>
                  <a:latin typeface="Times New Roman"/>
                  <a:cs typeface="Times New Roman"/>
                </a:rPr>
                <a:t>همسایه ها، شهروندان، منافع مل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219320" y="2027520"/>
              <a:ext cx="194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6633"/>
                  </a:solidFill>
                  <a:latin typeface="Times New Roman"/>
                  <a:cs typeface="Times New Roman"/>
                </a:rPr>
                <a:t>محیط زیست طبیعی، حیوانی و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228600" y="1371600"/>
              <a:ext cx="2862360" cy="13716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1295280" y="1067040"/>
              <a:ext cx="142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هامدا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1BEF-3B0C-43DE-9790-511A0886E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20:35Z</dcterms:created>
  <dc:creator>4R</dc:creator>
  <dc:description/>
  <dc:language>en-US</dc:language>
  <cp:lastModifiedBy>parsin</cp:lastModifiedBy>
  <dcterms:modified xsi:type="dcterms:W3CDTF">2019-02-03T11:14:54Z</dcterms:modified>
  <cp:revision>210</cp:revision>
  <dc:subject/>
  <dc:title>عهد نامه اخلاقي انجمن كامپيوتر استراليا     ACS    1988 </dc:title>
</cp:coreProperties>
</file>